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B453-4742-49BC-8327-5F5FF2BCA4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3F40-A528-40B9-A3D8-8F1F262DEC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3F78-CE77-4C20-8D13-56FACC3370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B420-8A34-4901-8F0A-E95E94CCBD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E608-57D9-45D7-8835-46783F9B20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79D5-B5FC-4564-8A01-C307DC9495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A4FF-1B3A-42E9-92F8-7A448C75E1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3EFD-DDB8-4512-9DE6-EA7787D07E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BE20-2DAC-4E07-8DFD-9634F6F459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4E6D-E1CE-48E0-BDCA-E5C2098E52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E3D9-15C6-4D3A-9DD6-B848126DEB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5E40-F069-42AD-9956-CA182D2598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6388-FAD0-4026-92DB-3E3AC0CE0D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C899-1F59-4A68-85C8-D33F419B2D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0AEE-597A-4254-B404-A1D2D713D9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958E-0E68-4F71-AEAB-4F33C04A6C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23B3-9BF7-43DF-AF1E-336FE9B3BA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D79A-E2E1-405D-9695-EE0BDA440F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DDC5-20A6-40C4-B8D8-F5D235EBB7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A6D6-8A87-4345-9D92-3E226A73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D9EC-1790-43BB-B600-F5FD062F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0AA-E45F-4C32-A30C-C4311733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8D4E-1BCB-4C2B-AE99-3C7EC0C5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320B-CEAF-443C-B01D-9AB4B374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37B9-EB20-4BAD-B74F-3FB2B0B9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D4D4-AF59-4B24-804F-1C644810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B59-495A-4AC8-944A-8C77F2B1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7B4F-458D-43EE-996D-B741F61C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FC3B-FE1B-414E-9CC6-75AEB56F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935-9D85-4531-B2D8-E86246C4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020B-4C68-4128-8985-6F9144E9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6736-0D9B-4121-B9EE-64571F055A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../Book%20CD/C4EWIN95.EX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2F6C-8A94-4A47-8EE8-B4B8C9788F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00ffcc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560" y="42840"/>
            <a:ext cx="1752480" cy="136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2286000" y="762120"/>
            <a:ext cx="472428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)- The Synthesis of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295280" y="228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PTER 17 FROM GENE TO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3"/>
          <a:srcRect l="0" t="0" r="0" b="4466"/>
          <a:stretch/>
        </p:blipFill>
        <p:spPr>
          <a:xfrm>
            <a:off x="4267080" y="1536840"/>
            <a:ext cx="4713480" cy="5105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4"/>
          <a:srcRect l="4444" t="5184" r="4444" b="4101"/>
          <a:stretch/>
        </p:blipFill>
        <p:spPr>
          <a:xfrm>
            <a:off x="0" y="2209680"/>
            <a:ext cx="4267080" cy="36435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76320" y="1549440"/>
            <a:ext cx="8915400" cy="5181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96F1-8962-4D72-8444-36AA2726B5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990720" y="596880"/>
            <a:ext cx="7391160" cy="6211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560" y="75960"/>
            <a:ext cx="838188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hree steps of elongation continue codon by codon to add amino acids until the polypeptide chain is comple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240" y="656100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BB31-6256-4E78-B5A4-47B6C5BB29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2556" r="19" b="6837"/>
          <a:stretch/>
        </p:blipFill>
        <p:spPr>
          <a:xfrm>
            <a:off x="0" y="2287440"/>
            <a:ext cx="9144000" cy="31989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4727520" y="4724280"/>
            <a:ext cx="861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>
            <a:hlinkClick r:id="rId2"/>
          </p:cNvPr>
          <p:cNvSpPr/>
          <p:nvPr/>
        </p:nvSpPr>
        <p:spPr>
          <a:xfrm>
            <a:off x="6858000" y="60958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591" h="21600">
                <a:moveTo>
                  <a:pt x="15789" y="3794"/>
                </a:moveTo>
                <a:lnTo>
                  <a:pt x="29802" y="10800"/>
                </a:lnTo>
                <a:lnTo>
                  <a:pt x="15789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CD Un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3 Chap.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RNA transl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57200" y="5562720"/>
            <a:ext cx="5562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ree and bound ribosomes are both active participants in protein 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76320"/>
            <a:ext cx="8686800" cy="24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3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Termin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Occurs when one of the thre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top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ache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lease f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عامل مُحر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ds to the stop codon and hydrolyzes the bond between the polypeptide and its tRNA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frees the polypeptide and the translation complex disassembl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تفك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42F0-FFB5-413E-A149-A798BC0446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21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olyribosom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ريبوزومات متعدد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bosome requires less than a minute to translate an average-sized mRNA into a polypept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ribosome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riboso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trail along the same m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a single mRNA is used to make many copies of a polypeptide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0" t="0" r="0" b="5964"/>
          <a:stretch/>
        </p:blipFill>
        <p:spPr>
          <a:xfrm>
            <a:off x="76320" y="2590920"/>
            <a:ext cx="8991360" cy="3581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6555960" y="6567480"/>
            <a:ext cx="852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ig. 17.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871A-B4AD-403B-AF4E-EE18C07133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omparing protein synthesis in prokaryotes and eukary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228600" y="6858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4267080" y="733320"/>
            <a:ext cx="4876920" cy="5515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4419720" cy="57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cription and translation in prokaryotes and eukaryotes is very similar except some difference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karyotic RNA polymerases differ from those of prokaryotes and require transcription fa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differ in how transcription is termin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ir ribosomes are also diffe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ne big differences, prokaryotes can transcribe and translate the same gene simultaneously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تزامنيا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w protein quickly diffuses to its operating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eukaryotes, the nuclear envelope segregates transcription from trans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ddition, RNA processing is occurred in eukary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79DD-41D9-42AC-AF30-53D978311F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rcRect l="0" t="3822" r="0" b="8819"/>
          <a:stretch/>
        </p:blipFill>
        <p:spPr>
          <a:xfrm>
            <a:off x="3048120" y="3301920"/>
            <a:ext cx="6095880" cy="35560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8762760" cy="251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changes in the genetic material of a cell (or vir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include large-scale mutations in which long segments of DNA are affected (e.g.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ranslocations, duplications, and inver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romanU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oint mutation </a:t>
            </a:r>
            <a:r>
              <a:rPr b="0" lang="ar-EG" sz="2800" spc="-1" strike="noStrike" u="sng">
                <a:solidFill>
                  <a:srgbClr val="000000"/>
                </a:solidFill>
                <a:uFillTx/>
                <a:latin typeface="Arial"/>
              </a:rPr>
              <a:t>طفرة موضع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                          is a chemical change in just one base pair of a g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se occur in cells producing gametes, they may be transmitted to future generations (offspring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utations: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طفرات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ffect protein structure an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152280" y="9907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3451320"/>
            <a:ext cx="2666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.g.,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sickle-cell disease is caused by a mutation of a single base pair in the gene that codes for one of the polypeptides of hemoglob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A change in a single nucleotide from T to A in the DNA template leads to an abnormal prote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52280" y="65833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g. 17.23, Page 3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7772400" y="1981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3794"/>
                </a:moveTo>
                <a:lnTo>
                  <a:pt x="25511" y="10800"/>
                </a:lnTo>
                <a:lnTo>
                  <a:pt x="11498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DEB0-0ACC-4EFB-9208-4BCADFE638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868320"/>
            <a:ext cx="45720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a point mutation that results in replacement of a pair of complimentary nucleotides with another nucleotide p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lent mutat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ome base-pair substitutions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oint mut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have little or no impact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أثير واض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tein function which lead to switches from one amino acid to another with similar proper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base-pair substitutions cause a detectable chang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ملحو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 protein which impact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يؤثر على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is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 point mutation that still code for an amino acid but change the resulting amino aci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0000"/>
              </a:buClr>
              <a:buFont typeface="Arial"/>
              <a:buAutoNum type="alphaLcParenR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sense mutations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hange an amino acid codon in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a stop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early always leading to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nfunctional prote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بروتين غير وظيف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5228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A)- Base-pair substitution </a:t>
            </a:r>
            <a:r>
              <a:rPr b="0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إستبدال زوج من ال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rcRect l="0" t="0" r="0" b="3332"/>
          <a:stretch/>
        </p:blipFill>
        <p:spPr>
          <a:xfrm>
            <a:off x="4594320" y="838080"/>
            <a:ext cx="4549680" cy="59436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6"/>
          <p:cNvSpPr/>
          <p:nvPr/>
        </p:nvSpPr>
        <p:spPr>
          <a:xfrm>
            <a:off x="4572000" y="41911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3809880" y="64008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FF36-1CC5-4B8B-99E4-862FB7FF04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6320" y="1146240"/>
            <a:ext cx="4572000" cy="48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mutation in which additions or losses of nucleotide pairs occurs and cause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ameshift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إزاح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u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se have a disastrou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كارثى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ffect on the resulting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frameshift occurs, all the nucleotides downstream of the deletion or insertion will be improperly grouped into ne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d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sult will be extensive missense, ending sooner or later in nonsense -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mature termina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وقف مبكر للترجمة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6320" y="763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B)- Insertions and deletions </a:t>
            </a:r>
            <a:r>
              <a:rPr b="0" lang="ar-EG" sz="2000" spc="-1" strike="noStrike" u="sng">
                <a:solidFill>
                  <a:srgbClr val="000000"/>
                </a:solidFill>
                <a:uFillTx/>
                <a:latin typeface="Arial"/>
              </a:rPr>
              <a:t>إضافة أو حزف قواع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0" r="0" b="4441"/>
          <a:stretch/>
        </p:blipFill>
        <p:spPr>
          <a:xfrm>
            <a:off x="4572000" y="533520"/>
            <a:ext cx="4572000" cy="62481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4320" y="656100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24, Page 32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76F2-A707-43D7-86B4-43B751CB6B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177480"/>
            <a:ext cx="8839440" cy="65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tations can occur in a number of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s can occur during DNA replication, DNA repair, or DNA recomb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can lead to base-pair substitutions, insertions, or deletions, as well as mutations affecting longer stretches of D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ontaneous mu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utage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ـببات الطفرا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are chemical or physical agents that interact with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تفاعل م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NA to cause mu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hys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 high-energy radiation lik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-ray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ltraviolet l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أشعة فوق البنفسج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emical ag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ay operate in several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chemicals are base analogues that may be substituted into DNA, but that pair incorrectly during DNA repl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utagens interfere with DNA replication by inserting into DNA and distorting the double hel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 others cause chemical changes in bases that change their pairing properti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82EB-58D8-4CDD-910F-F16D788022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28600" y="1168200"/>
            <a:ext cx="8686800" cy="45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endelian concept of a gene views it as a discret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t of inheritance that affects pheno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gan and his colleagues assigned genes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ecific loci </a:t>
            </a:r>
            <a:r>
              <a:rPr b="0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مواضع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 chromoso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also view a gene 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ecific nucleotide sequ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ong a region of a DNA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define a gene functionally as a DNA sequence that codes for a specific polypeptide ch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 is a gen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3A03-83FA-4430-99E8-6846818A80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NA 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2362320" y="2819520"/>
            <a:ext cx="4343400" cy="1752480"/>
          </a:xfrm>
          <a:custGeom>
            <a:avLst/>
            <a:gdLst>
              <a:gd name="textAreaLeft" fmla="*/ 113400 w 4343400"/>
              <a:gd name="textAreaRight" fmla="*/ 4230000 w 43434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53528" h="21600">
                <a:moveTo>
                  <a:pt x="0" y="0"/>
                </a:moveTo>
                <a:lnTo>
                  <a:pt x="53528" y="0"/>
                </a:lnTo>
                <a:lnTo>
                  <a:pt x="53528" y="21600"/>
                </a:lnTo>
                <a:lnTo>
                  <a:pt x="0" y="21600"/>
                </a:lnTo>
                <a:close/>
              </a:path>
              <a:path fill="lightenLess" w="53528" h="21600">
                <a:moveTo>
                  <a:pt x="0" y="0"/>
                </a:moveTo>
                <a:lnTo>
                  <a:pt x="53528" y="0"/>
                </a:lnTo>
                <a:lnTo>
                  <a:pt x="52128" y="1400"/>
                </a:lnTo>
                <a:lnTo>
                  <a:pt x="1400" y="1400"/>
                </a:lnTo>
                <a:close/>
              </a:path>
              <a:path fill="darken" w="53528" h="21600">
                <a:moveTo>
                  <a:pt x="53528" y="0"/>
                </a:moveTo>
                <a:lnTo>
                  <a:pt x="53528" y="21600"/>
                </a:lnTo>
                <a:lnTo>
                  <a:pt x="52128" y="20200"/>
                </a:lnTo>
                <a:lnTo>
                  <a:pt x="52128" y="1400"/>
                </a:lnTo>
                <a:close/>
              </a:path>
              <a:path fill="darkenLess" w="53528" h="21600">
                <a:moveTo>
                  <a:pt x="535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128" y="20200"/>
                </a:lnTo>
                <a:close/>
              </a:path>
              <a:path fill="lighten" w="535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528" h="21600">
                <a:moveTo>
                  <a:pt x="19757" y="3794"/>
                </a:moveTo>
                <a:lnTo>
                  <a:pt x="33770" y="10800"/>
                </a:lnTo>
                <a:lnTo>
                  <a:pt x="19757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D Unit 3 Chap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NA transcri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B390-EAC7-40D1-AE46-AAE6F60015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886200" y="1143000"/>
            <a:ext cx="507672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3657600" cy="446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rocess of translation, a cell sends a series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ong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R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 RNA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ناق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fers amino acids from the cytoplasm to a rib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s eac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ino acid carried by tRNA to the growing end of the polypeptide ch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152280" y="11430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28600" y="152280"/>
            <a:ext cx="8686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nslations is the RNA-directed synthesis of a polypept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0" y="6583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B003-E774-4268-AA1E-92AC06E18F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translation, each type of tRNA links a mRNA codon with the appropriate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RNA arriving at the ribosome carries a specific amino acid at one end and has a specific nucleotide triplet, a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the other 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icod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-pairs with a complementary codon on m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f the codon on mRNA is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UU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, a tRNA with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AA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anticodon and carrying phenyalanine will bind to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on by codon, tRNAs deposit amino acids in the prescribed order and the ribosome joins them into a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rcRect l="0" t="0" r="0" b="5002"/>
          <a:stretch/>
        </p:blipFill>
        <p:spPr>
          <a:xfrm>
            <a:off x="3932280" y="76320"/>
            <a:ext cx="5211720" cy="6476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7238880" y="65070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2, Page 3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65D1-48F0-4472-83D0-155926A3141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1066680" y="380880"/>
            <a:ext cx="7848720" cy="5867280"/>
            <a:chOff x="1066680" y="380880"/>
            <a:chExt cx="7848720" cy="5867280"/>
          </a:xfrm>
        </p:grpSpPr>
        <p:pic>
          <p:nvPicPr>
            <p:cNvPr id="72" name="Picture 5" descr=""/>
            <p:cNvPicPr/>
            <p:nvPr/>
          </p:nvPicPr>
          <p:blipFill>
            <a:blip r:embed="rId1"/>
            <a:srcRect l="1815" t="7773" r="5256" b="7798"/>
            <a:stretch/>
          </p:blipFill>
          <p:spPr>
            <a:xfrm>
              <a:off x="1066680" y="426960"/>
              <a:ext cx="7848720" cy="58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Rectangle 6"/>
            <p:cNvSpPr/>
            <p:nvPr/>
          </p:nvSpPr>
          <p:spPr>
            <a:xfrm>
              <a:off x="1066680" y="380880"/>
              <a:ext cx="5029200" cy="586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7"/>
            <p:cNvSpPr/>
            <p:nvPr/>
          </p:nvSpPr>
          <p:spPr>
            <a:xfrm>
              <a:off x="6095880" y="1066680"/>
              <a:ext cx="762120" cy="1676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5562360" cy="62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NA molecule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transcribed from DNA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ce it reaches the cytoplasm, each tRNA is used repeatedly for the following functions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 pick up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حمل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ts relevant amino acid in the cytoso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 depos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يضع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amino acid at the ribos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ff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 return to the cytosol to pick up another copy of that amino ac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ticod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فرة المُعاكس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ome tRNAs recognize more than one cod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6324480" y="650700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. 17.13b, Page 3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11F0-FDCB-49EE-88BE-330FB7E327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ibosome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ilitate the coupling of 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tRNA anticodons with mRNA cod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ribosome has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ar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mall subuni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ed in the nucleol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bosome is composed of proteins and ribosomal RNA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, the most abundant RNA in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rcRect l="0" t="0" r="0" b="65569"/>
          <a:stretch/>
        </p:blipFill>
        <p:spPr>
          <a:xfrm>
            <a:off x="152280" y="1703520"/>
            <a:ext cx="8458200" cy="4925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7486560" y="6567480"/>
            <a:ext cx="16527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5a, Page 3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7C07-B649-48C7-AB58-60F2C2424F7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28600" y="260280"/>
            <a:ext cx="8763120" cy="36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R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ranscribed in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cleu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bind to speci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ins to form th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bosom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units in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nucleol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bunits exit the nucleu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clear p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m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ubunits join to form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unctional riboso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when they attach to an mRNA mole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ribosome has a binding site for mRNA and three binding sites for tRNA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 si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olds the tRNA carrying the growing polypeptid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si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arries the tRNA with the next amino ac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ff0000"/>
              </a:buClr>
              <a:buFont typeface="Arial"/>
              <a:buAutoNum type="arabi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 si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which the discharged tRNA leave the ribos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3901" t="64435" r="4509" b="3357"/>
          <a:stretch/>
        </p:blipFill>
        <p:spPr>
          <a:xfrm>
            <a:off x="4876920" y="3938760"/>
            <a:ext cx="4114800" cy="253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rcRect l="5172" t="35546" r="5172" b="34463"/>
          <a:stretch/>
        </p:blipFill>
        <p:spPr>
          <a:xfrm>
            <a:off x="152280" y="3976560"/>
            <a:ext cx="4648320" cy="27291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7"/>
          <p:cNvSpPr/>
          <p:nvPr/>
        </p:nvSpPr>
        <p:spPr>
          <a:xfrm>
            <a:off x="5400" y="6561000"/>
            <a:ext cx="1913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17.15b &amp;c, Page 3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A3FC-8CA7-4B7E-BC60-ED0F306748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rcRect l="1668" t="3983" r="0" b="10797"/>
          <a:stretch/>
        </p:blipFill>
        <p:spPr>
          <a:xfrm>
            <a:off x="152280" y="3733920"/>
            <a:ext cx="8077320" cy="2889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600" y="76320"/>
            <a:ext cx="8763120" cy="35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1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occurs in three stag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- initi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بد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- elong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استطالة البنائ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polypeptide chai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- termin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يق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iti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brings together mRNA, a tRNA (with the first amino acid) and the two ribosomal subunits (large &amp; sm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, a small ribosomal subunit binds with mRNA and a special initiator tRNA, which carrie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thion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attaches to the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tart cod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itiation facto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bring in the large subunit such that the initiator tRNA occupies th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8077320" y="5562720"/>
            <a:ext cx="86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g. 17.17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, Page 3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276720" y="428292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Guanosine triphosph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33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Methion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4AA4-4EAB-4AA7-9109-01EB563FF4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rcRect l="3901" t="64435" r="4509" b="3357"/>
          <a:stretch/>
        </p:blipFill>
        <p:spPr>
          <a:xfrm>
            <a:off x="4572000" y="3808440"/>
            <a:ext cx="4572000" cy="28209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longa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s of a series of three step cycles as each amino acid is added to the proceeding one in 3 steps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don recogni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تعرف على الشفرات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longation fa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sists hydrogen bonding between the mRNA codon unde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 with the corresponding anticodon of tRNA carrying the appropriate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المناس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ino acid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tep requires the hydrolysis of two guanosine triphosphate (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T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eptide bond form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lecul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talyz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formation of a peptide bond between the polypeptide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with the new amino acid in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. This step separates                                                               the tRNA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from the                                                                             growing polypeptide chain and                                                                     transfers the chain, now one                                                                              amino acid longer, to the tRNA                                                                             at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ff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ranslocatio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تغيير المكا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N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                                                                      the ribosome moves the tRNA with                                                                           the attached polypeptide from                                                                           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 to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6:19:58Z</dcterms:created>
  <dc:creator>User</dc:creator>
  <dc:description/>
  <dc:language>en-US</dc:language>
  <cp:lastModifiedBy>Ahmed</cp:lastModifiedBy>
  <dcterms:modified xsi:type="dcterms:W3CDTF">2009-05-15T17:08:01Z</dcterms:modified>
  <cp:revision>153</cp:revision>
  <dc:subject/>
  <dc:title>Slide 1</dc:title>
</cp:coreProperties>
</file>