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5E10-FED0-4422-AE7A-BF2581E607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7805-33AC-48D4-A994-16B55809BF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3A32-DAD6-41C2-91D0-DC7568F589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ACFD-1704-4F48-8FA8-4A097B7AEF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118F-7BBD-4405-9DAB-8530C1AD87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8FFB-4C85-49ED-AC5B-3E38ED29B3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EE46-1237-4838-A4D3-B57222AB66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0038-1FB6-4387-9A4E-6CEBFE637B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A68F-CE56-4946-B791-74C66CE359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D4E6-4ABF-40DF-95F6-0824A0A160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540B-1F1A-4B18-87CD-B3F216A22D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3DDF-6E6D-4AE3-A2B5-9A84686D5E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AC29-B83E-48E0-A17E-E9004ADB68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CCBC-BA6A-4CE9-A66A-8980D5E445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96DB-EC27-4D75-879D-0BF05DCF71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E93E-8795-4CA1-A595-BBCAFBF073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A3D8-D67E-4986-828A-D1B8B221B4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DCB3-55DD-40DA-BF00-7EEDB58ECE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814E-5732-4997-B4B9-A8BFE9F8E0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BF68-1A71-47FC-A82F-6474507F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041F-D73F-48B5-B173-B5279700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48CE-8A02-4C94-B495-9B1D2A30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B6C-D229-416B-8EC7-4FCFA29F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57A-AC85-4AF9-B824-F34D1735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42B-28C9-43EE-A993-FED374CA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014-95DB-41B2-A764-F18CD94B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0C2-16FC-4E4A-854B-BFB40B68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D5D-B6DF-48FB-A070-AB9B1C3B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12D2-3F39-40A5-A7A0-7E1F3D87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43F5-F606-4644-ACD1-B5ADAB49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3FB3-5EF6-4CFE-A0E9-A08E2485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817D-4499-4F1B-8BB9-F499BB9F68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../Book%20CD/C4EWIN95.EX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B32E-AB89-4468-922C-085CF232AF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560" y="42840"/>
            <a:ext cx="1752480" cy="136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2286000" y="762120"/>
            <a:ext cx="472428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)- The Synthesis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295280" y="228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17 FROM GENE TO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3"/>
          <a:srcRect l="0" t="0" r="0" b="4466"/>
          <a:stretch/>
        </p:blipFill>
        <p:spPr>
          <a:xfrm>
            <a:off x="4267080" y="1536840"/>
            <a:ext cx="4713480" cy="5105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4"/>
          <a:srcRect l="4444" t="5184" r="4444" b="4101"/>
          <a:stretch/>
        </p:blipFill>
        <p:spPr>
          <a:xfrm>
            <a:off x="0" y="2209680"/>
            <a:ext cx="4267080" cy="36435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76320" y="1549440"/>
            <a:ext cx="8915400" cy="5181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FBF8-F024-4FA9-986F-4FD4ABA3B3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990720" y="596880"/>
            <a:ext cx="7391160" cy="6211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838188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e steps of elongation continue codon by codon to add amino acids until the polypeptide chain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240" y="656100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5B6C-9355-4315-A31B-CB9D51201F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2556" r="19" b="6837"/>
          <a:stretch/>
        </p:blipFill>
        <p:spPr>
          <a:xfrm>
            <a:off x="0" y="228744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4727520" y="47242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>
            <a:hlinkClick r:id="rId2"/>
          </p:cNvPr>
          <p:cNvSpPr/>
          <p:nvPr/>
        </p:nvSpPr>
        <p:spPr>
          <a:xfrm>
            <a:off x="6858000" y="60958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CD Un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3 Chap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RNA transl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57200" y="5562720"/>
            <a:ext cx="5562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ree and bound ribosomes are both active participants in prote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76320"/>
            <a:ext cx="86868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rmin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Occurs when one of the thre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p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ease f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ُحر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he stop codon and hydrolyzes the bond between the polypeptide and its tRNA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ees the polypeptide and the translation complex disassem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95BA-32FB-44BC-9CA3-B0FFBFD521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21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oly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ريبوزومات متعدد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bosome requires less than a minute to translate an average-sized mRNA into a polypept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ibosome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trail along the sam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 single mRNA is used to make many copies of a polypeptide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0" t="0" r="0" b="5964"/>
          <a:stretch/>
        </p:blipFill>
        <p:spPr>
          <a:xfrm>
            <a:off x="76320" y="2590920"/>
            <a:ext cx="8991360" cy="3581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6555960" y="656748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ig. 17.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7465-11F1-4368-B34B-A7F227BD05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omparing protein synthesis in prokaryotes and eukary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228600" y="685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4267080" y="733320"/>
            <a:ext cx="4876920" cy="5515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419720" cy="57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cription and translation in prokaryotes and eukaryotes is very similar except some difference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karyotic RNA polymerases differ from those of prokaryotes and require transcription fa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differ in how transcription is termin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ir ribosomes are also diffe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big differences, prokaryotes can transcribe and translate the same gene simultaneously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زامن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 protein quickly diffuses to its operating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ukaryotes, the nuclear envelope segregates transcription from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ddition, RNA processing is occurred in eukary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B495-37E2-4BA3-B6FB-635D8D0D35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rcRect l="0" t="3822" r="0" b="8819"/>
          <a:stretch/>
        </p:blipFill>
        <p:spPr>
          <a:xfrm>
            <a:off x="3048120" y="3301920"/>
            <a:ext cx="6095880" cy="35560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762760" cy="25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hanges in the genetic material of a cell (or vir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clude large-scale mutations in which long segments of DNA are affected (e.g.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locations, duplications, and inver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int mutation </a:t>
            </a:r>
            <a:r>
              <a:rPr b="0" lang="ar-EG" sz="2800" spc="-1" strike="noStrike" u="sng">
                <a:solidFill>
                  <a:srgbClr val="000000"/>
                </a:solidFill>
                <a:uFillTx/>
                <a:latin typeface="Arial"/>
              </a:rPr>
              <a:t>طفرة موضع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is a chemical change in just one base pair of a g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occur in cells producing gametes, they may be transmitted to future generations (offspr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tations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طفرات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ffect protein structure an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3451320"/>
            <a:ext cx="266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.g.,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sickle-cell disease is caused by a mutation of a single base pair in the gene that codes for one of the polypeptides of hemoglob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change in a single nucleotide from T to A in the DNA template leads to an abnormal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52280" y="65833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g. 17.23, Page 3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7772400" y="1981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0B9D-F383-402D-9D2F-1D2CAA3B5B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868320"/>
            <a:ext cx="45720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 point mutation that results in replacement of a pair of complimentary nucleotides with another nucleotide p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ent mu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me base-pair substitutions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int mu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have little or no impac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أثير واض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tein function which lead to switches from one amino acid to another with similar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base-pair substitutions cause a detectable chang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ملحو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protein which impact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ؤثر على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is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point mutation that still code for an amino acid but change the resulting amino aci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ge an amino acid codon in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top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early always leading to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functional prote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بروتين غير وظيف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5228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)- Base-pair substitution </a:t>
            </a:r>
            <a:r>
              <a:rPr b="0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إستبدال زوج من ال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4594320" y="838080"/>
            <a:ext cx="4549680" cy="59436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6"/>
          <p:cNvSpPr/>
          <p:nvPr/>
        </p:nvSpPr>
        <p:spPr>
          <a:xfrm>
            <a:off x="4572000" y="41911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3809880" y="64008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5167-7E81-45A9-A267-2CFC4795D3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320" y="1146240"/>
            <a:ext cx="4572000" cy="48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utation in which additions or losses of nucleotide pairs occurs and caus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meshif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زا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have a disastr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ثى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 on the resulting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frameshift occurs, all the nucleotides downstream of the deletion or insertion will be improperly grouped into 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 will be extensive missense, ending sooner or later in nonsense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mature term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قف مبكر للترجم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632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B)- Insertions and deletions </a:t>
            </a:r>
            <a:r>
              <a:rPr b="0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إضافة أو حزف 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441"/>
          <a:stretch/>
        </p:blipFill>
        <p:spPr>
          <a:xfrm>
            <a:off x="4572000" y="533520"/>
            <a:ext cx="4572000" cy="62481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4320" y="656100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24, Page 32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36B8-7E7F-4C1E-BC23-90978E93B4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177480"/>
            <a:ext cx="8839440" cy="65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can occur in a number of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 can occur during DNA replication, DNA repair, or DNA re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an lead to base-pair substitutions, insertions, or deletions, as well as mutations affecting longer stretches of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ntaneous mu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utage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ـببات الطف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are chemical or physical agents that interact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فاعل 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to cause m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 high-energy radiation lik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-r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traviolet l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شعة فوق البنفس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m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operate in several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s are base analogues that may be substituted into DNA, but that pair incorrectly during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utagens interfere with DNA replication by inserting into DNA and distorting the double hel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others cause chemical changes in bases that change their pairing proper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26B3-863E-4E61-913F-5BD95BCBAF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28600" y="1168200"/>
            <a:ext cx="8686800" cy="45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endelian concept of a gene views it as a discret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t of inheritance that affects pheno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gan and his colleagues assigned genes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ecific loci </a:t>
            </a:r>
            <a:r>
              <a:rPr b="0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مواضع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 chromoso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also view a gene 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ecific nucleotide sequ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ong a region of a DNA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define a gene functionally as a DNA sequence that codes for a specific polypeptide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 is a gen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CBD1-8879-4339-B729-3E2F5A1BC2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NA 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2362320" y="2819520"/>
            <a:ext cx="4343400" cy="1752480"/>
          </a:xfrm>
          <a:custGeom>
            <a:avLst/>
            <a:gdLst>
              <a:gd name="textAreaLeft" fmla="*/ 113400 w 4343400"/>
              <a:gd name="textAreaRight" fmla="*/ 4230000 w 43434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53528" h="21600">
                <a:moveTo>
                  <a:pt x="0" y="0"/>
                </a:moveTo>
                <a:lnTo>
                  <a:pt x="53528" y="0"/>
                </a:lnTo>
                <a:lnTo>
                  <a:pt x="53528" y="21600"/>
                </a:lnTo>
                <a:lnTo>
                  <a:pt x="0" y="21600"/>
                </a:lnTo>
                <a:close/>
              </a:path>
              <a:path fill="lightenLess" w="53528" h="21600">
                <a:moveTo>
                  <a:pt x="0" y="0"/>
                </a:moveTo>
                <a:lnTo>
                  <a:pt x="53528" y="0"/>
                </a:lnTo>
                <a:lnTo>
                  <a:pt x="52128" y="1400"/>
                </a:lnTo>
                <a:lnTo>
                  <a:pt x="1400" y="1400"/>
                </a:lnTo>
                <a:close/>
              </a:path>
              <a:path fill="darken" w="53528" h="21600">
                <a:moveTo>
                  <a:pt x="53528" y="0"/>
                </a:moveTo>
                <a:lnTo>
                  <a:pt x="53528" y="21600"/>
                </a:lnTo>
                <a:lnTo>
                  <a:pt x="52128" y="20200"/>
                </a:lnTo>
                <a:lnTo>
                  <a:pt x="52128" y="1400"/>
                </a:lnTo>
                <a:close/>
              </a:path>
              <a:path fill="darkenLess" w="53528" h="21600">
                <a:moveTo>
                  <a:pt x="53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28" y="20200"/>
                </a:lnTo>
                <a:close/>
              </a:path>
              <a:path fill="lighten" w="53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528" h="21600">
                <a:moveTo>
                  <a:pt x="19757" y="3794"/>
                </a:moveTo>
                <a:lnTo>
                  <a:pt x="33770" y="10800"/>
                </a:lnTo>
                <a:lnTo>
                  <a:pt x="19757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D Unit 3 Chap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NA transcri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094F-9113-4389-8668-23D934DDE4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886200" y="1143000"/>
            <a:ext cx="50767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3657600" cy="44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ocess of translation, a cell sends a serie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ong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ق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s amino acids from the cytoplasm to a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s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no acid carried by tRNA to the growing end of the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28600" y="152280"/>
            <a:ext cx="8686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nslations is the RNA-directed synthesis of a polypept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0" y="6583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E281-7D53-4BB1-87AE-D372D44FBA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each type of tRNA links a mRNA codon with the appropriat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RNA arriving at the ribosome carries a specific amino acid at one end and has a specific nucleotide triplet, 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othe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-pairs with a complementary codon on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the codon on mRNA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a tRNA with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A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nticodon and carrying phenyalanine will bin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on by codon, tRNAs deposit amino acids in the prescribed order and the ribosome joins them into a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32280" y="76320"/>
            <a:ext cx="5211720" cy="6476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23888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7AF0-A797-4EDF-931B-1BA4E38169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1066680" y="380880"/>
            <a:ext cx="7848720" cy="5867280"/>
            <a:chOff x="1066680" y="380880"/>
            <a:chExt cx="7848720" cy="5867280"/>
          </a:xfrm>
        </p:grpSpPr>
        <p:pic>
          <p:nvPicPr>
            <p:cNvPr id="72" name="Picture 5" descr=""/>
            <p:cNvPicPr/>
            <p:nvPr/>
          </p:nvPicPr>
          <p:blipFill>
            <a:blip r:embed="rId1"/>
            <a:srcRect l="1815" t="7773" r="5256" b="7798"/>
            <a:stretch/>
          </p:blipFill>
          <p:spPr>
            <a:xfrm>
              <a:off x="1066680" y="426960"/>
              <a:ext cx="7848720" cy="58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Rectangle 6"/>
            <p:cNvSpPr/>
            <p:nvPr/>
          </p:nvSpPr>
          <p:spPr>
            <a:xfrm>
              <a:off x="1066680" y="380880"/>
              <a:ext cx="502920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7"/>
            <p:cNvSpPr/>
            <p:nvPr/>
          </p:nvSpPr>
          <p:spPr>
            <a:xfrm>
              <a:off x="6095880" y="1066680"/>
              <a:ext cx="762120" cy="167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56236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NA molecu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ranscribed from DNA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t reaches the cytoplasm, each tRNA is used repeatedly for the following functions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 pick up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حمل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ts relevant amino acid in the cytoso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 depos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ضع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amino acid at the ribos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 return to the cytosol to pick up another copy of tha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i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مُعاكس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ome tRNAs recognize more than one co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6324480" y="650700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3b, Page 3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DE57-61C5-4CCA-B0AA-E2842DEF4E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litate the coupling of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tRNA anticodons with mRNA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ribosome ha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r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mall subuni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ed in the nucleol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bosome is composed of proteins and ribosomal RNA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most abundant RNA 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0" t="0" r="0" b="65569"/>
          <a:stretch/>
        </p:blipFill>
        <p:spPr>
          <a:xfrm>
            <a:off x="152280" y="1703520"/>
            <a:ext cx="8458200" cy="4925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7486560" y="6567480"/>
            <a:ext cx="165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5a, Page 3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34C8-0C8B-47BC-978A-214DBBB83F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28600" y="260280"/>
            <a:ext cx="8763120" cy="36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R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cribed in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bind to speci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 to form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units in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exit the nucle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clear p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units join to for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unctional 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when they attach to an mR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ibosome has a binding site for mRNA and three binding sites for t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 si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olds the tRNA carrying the growing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si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rries the tRNA with the next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 si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which the discharged tRNA leave the ribo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3901" t="64435" r="4509" b="3357"/>
          <a:stretch/>
        </p:blipFill>
        <p:spPr>
          <a:xfrm>
            <a:off x="4876920" y="3938760"/>
            <a:ext cx="4114800" cy="253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rcRect l="5172" t="35546" r="5172" b="34463"/>
          <a:stretch/>
        </p:blipFill>
        <p:spPr>
          <a:xfrm>
            <a:off x="152280" y="3976560"/>
            <a:ext cx="4648320" cy="27291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5400" y="6561000"/>
            <a:ext cx="1913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5b &amp;c, Page 3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D8B3-696C-4CCF-BBBC-5635F44C28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1668" t="3983" r="0" b="10797"/>
          <a:stretch/>
        </p:blipFill>
        <p:spPr>
          <a:xfrm>
            <a:off x="152280" y="3733920"/>
            <a:ext cx="8077320" cy="2889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876312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occurs in three stag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- initi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- elong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استطالة البنائ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lypeptide chai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- termin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يق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iti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brings together mRNA, a tRNA (with the first amino acid) and the two ribosomal subunits (large &amp; sm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a small ribosomal subunit binds with mRNA and a special initiator tRNA, which carrie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thion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attaches to th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tart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itiation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ring in the large subunit such that the initiator tRNA occupies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8077320" y="55627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7.17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Page 3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276720" y="4282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uanosine tri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33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ethio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5DAB-0BEC-45CB-BEC8-110BE8E74C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3901" t="64435" r="4509" b="3357"/>
          <a:stretch/>
        </p:blipFill>
        <p:spPr>
          <a:xfrm>
            <a:off x="4572000" y="3808440"/>
            <a:ext cx="4572000" cy="28209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ong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series of three step cycles as each amino acid is added to the proceeding one in 3 step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 recogni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عرف على الشفر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ongation 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ists hydrogen bonding between the mRNA codon unde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with the corresponding anticodon of tRNA carrying the appropri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ناس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tep requires the hydrolysis of two guanosine triphosphate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T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ptide bond form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lecul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lyz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formation of a peptide bond between the polypeptide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with the new amino aci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. This step separates                                                               the tRNA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from the                                                                             growing polypeptide chain and                                                                     transfers the chain, now one                                                                              amino acid longer, to the tRNA                                                                            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lo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المكا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the ribosome moves the tRNA with                                                                           the attached polypeptide from                                                                           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to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6:19:58Z</dcterms:created>
  <dc:creator>User</dc:creator>
  <dc:description/>
  <dc:language>en-US</dc:language>
  <cp:lastModifiedBy>Ahmed</cp:lastModifiedBy>
  <dcterms:modified xsi:type="dcterms:W3CDTF">2009-05-15T17:08:01Z</dcterms:modified>
  <cp:revision>153</cp:revision>
  <dc:subject/>
  <dc:title>Slide 1</dc:title>
</cp:coreProperties>
</file>