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8B96-2BC1-4F38-B495-14CB5BFD87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64B7EC02-3B7B-4A79-82FC-E082DE566D3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274-DC9A-405A-B061-F5D379CA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0CB-FD6F-4F73-B1B2-6D836CDB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E67-C3A3-448D-9CD1-8E404DAC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974-413B-4CCB-9646-2DA6C4E2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C79-0473-4F5F-94AF-EA4EB026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C14-4378-494C-A203-62DFA728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63F-D7B0-4459-B123-E3F705B3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2AC-C79F-4438-9F51-3A72849D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958-7816-4D57-91C7-5ADD366C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BEA-C03E-49CD-9E8E-F6EEBDE0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E88-079E-49C0-BFA0-881A16E4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4BE-EC05-48D9-9A44-7B9C8FB2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A51E-E0C5-4318-ADA1-9FC07359AB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65CB-7186-44E3-A613-869E19C5F4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4B5B-58A8-4183-A85B-F99CF9D06E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61E7-FE16-4B66-91C7-1359ECCAD8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0C26-1E37-4ED4-AFFF-CAC81F85F4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20F9-1D4A-4BDD-BE6A-70FABC72E4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D310-6D44-4A11-8BF3-BC9613E3B8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A25A-6521-436E-98B4-C30CC5A8C6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يحم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يضع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E054-8DF9-40BC-8465-C15ADDF07F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13AC-D4D3-4634-9D61-6D5470BE6F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0C2C-EAB6-4B05-B80B-05DB1D8ECD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ash</cp:lastModifiedBy>
  <dcterms:modified xsi:type="dcterms:W3CDTF">2013-01-09T21:37:51Z</dcterms:modified>
  <cp:revision>170</cp:revision>
  <dc:subject/>
  <dc:title>Slide 1</dc:title>
</cp:coreProperties>
</file>