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7.png" ContentType="image/png"/>
  <Override PartName="/ppt/media/image16.png" ContentType="image/png"/>
  <Override PartName="/ppt/media/image18.png" ContentType="image/png"/>
  <Override PartName="/ppt/media/image15.gif" ContentType="image/gif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A458-8FA4-4FD8-B4A9-DBB373A174D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31"/>
          <p:cNvSpPr/>
          <p:nvPr/>
        </p:nvSpPr>
        <p:spPr>
          <a:xfrm>
            <a:off x="3876840" y="8694720"/>
            <a:ext cx="2981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A7506ED3-CB1C-4D2C-90AA-089E9640BF9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30400" y="6746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93880" y="4346640"/>
            <a:ext cx="5070240" cy="41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0079-FD8C-4D73-A9A8-218FD3F08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1047-DD87-447A-A1D6-9BC0A98D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C5B7-80D2-45BF-B286-14F0EC66E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AF38-F847-4573-90F2-E749F6ECE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FD3D-5979-4531-9B75-BDB68496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B027-14E6-4DEA-B479-92DC79D7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6ADC-6293-4D89-B4EF-E687F337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AEEE-A4E6-4BA4-A6DE-1526FEB3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7BCE-8D60-442B-87CB-AF7754F8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61A4-C666-4F79-B4E9-E1D8798F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013D-41DB-46C1-B2D4-1DE6CC03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5F25-E07C-4BB1-A028-8742B48B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704D-CDBB-41D6-B49B-50C531404F2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095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0280-2D21-4CA5-ABE8-872B044E4FA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00ffcc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729560" y="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2286000" y="895320"/>
            <a:ext cx="4724280" cy="45972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B)- The Synthesis of 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1295280" y="2286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GENE TO 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2"/>
          <a:srcRect l="0" t="0" r="0" b="4466"/>
          <a:stretch/>
        </p:blipFill>
        <p:spPr>
          <a:xfrm>
            <a:off x="4267080" y="1536840"/>
            <a:ext cx="4713480" cy="5105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3"/>
          <a:srcRect l="4444" t="5184" r="4444" b="4101"/>
          <a:stretch/>
        </p:blipFill>
        <p:spPr>
          <a:xfrm>
            <a:off x="0" y="2209680"/>
            <a:ext cx="4267080" cy="36435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76320" y="1549440"/>
            <a:ext cx="8915400" cy="51814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5680" y="6129360"/>
            <a:ext cx="757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ttp://www.sumanasinc.com/webcontent/animations/content/translatio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2560" y="6434280"/>
            <a:ext cx="834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http://highered.mcgraw-hill.com/sites/9834092339/student_view0/chapter15/mutation_by_base_substitu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rcRect l="18590" t="8065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rcRect l="0" t="2556" r="19" b="6837"/>
          <a:stretch/>
        </p:blipFill>
        <p:spPr>
          <a:xfrm>
            <a:off x="0" y="2287440"/>
            <a:ext cx="9144000" cy="31989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4727520" y="4724280"/>
            <a:ext cx="861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7.1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457200" y="5562720"/>
            <a:ext cx="7924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free and bound ribosomes are both active participants in protein synthe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920" y="76320"/>
            <a:ext cx="8686800" cy="247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ermina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Occurs when one of the thre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op cod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aches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lease fac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عامل مُحر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nds to the stop codon and hydrolyzes the bond between the polypeptide and its tRNA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frees the polypeptide and the translation complex disassemb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تفك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28600" y="1447920"/>
            <a:ext cx="8610480" cy="17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ibosome requires less than a minute to translate an average-sized mRNA into a polypept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ribosomes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olyribos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may trail along the same m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a single mRNA is used to mak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many cop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 polypeptide simultaneous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rcRect l="0" t="0" r="0" b="5964"/>
          <a:stretch/>
        </p:blipFill>
        <p:spPr>
          <a:xfrm>
            <a:off x="76320" y="3200400"/>
            <a:ext cx="8991360" cy="3581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676520" y="37296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olyribosom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ريبوزومات متعدد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51920" y="1447560"/>
            <a:ext cx="57913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mRNA attaches to a ribosome at the AUG, which is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art cod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is begin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rans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The transfer RNA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R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bonds with the correct amino acid and becomes “charged.” (in the cytoplas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The tRNA carries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mino ac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he ribosome. Each tRNA has a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ticod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ose bases are complementary to a codon on the mRNA strand. The tRNA brings the correct amino acid to the ribos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The ribosome moves along the mRNA and adds more amino acids to the growing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olypepti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52280" y="4724280"/>
            <a:ext cx="54104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The process continues until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iboso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aches one of the thre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op cod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the mRNA, and then the  ribosome falls off the m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) The result is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olypepti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ain or protein that is ready for use in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1522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mmary of mRNA Transla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6172200" y="838080"/>
            <a:ext cx="2666880" cy="5943600"/>
            <a:chOff x="6172200" y="838080"/>
            <a:chExt cx="2666880" cy="5943600"/>
          </a:xfrm>
        </p:grpSpPr>
        <p:pic>
          <p:nvPicPr>
            <p:cNvPr id="103" name="Picture 5" descr=""/>
            <p:cNvPicPr/>
            <p:nvPr/>
          </p:nvPicPr>
          <p:blipFill>
            <a:blip r:embed="rId1"/>
            <a:srcRect l="3780" t="0" r="0" b="8356"/>
            <a:stretch/>
          </p:blipFill>
          <p:spPr>
            <a:xfrm>
              <a:off x="6172200" y="2819520"/>
              <a:ext cx="2666880" cy="199044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pic>
          <p:nvPicPr>
            <p:cNvPr id="104" name="Picture 5" descr=""/>
            <p:cNvPicPr/>
            <p:nvPr/>
          </p:nvPicPr>
          <p:blipFill>
            <a:blip r:embed="rId2"/>
            <a:srcRect l="0" t="5263" r="2945" b="0"/>
            <a:stretch/>
          </p:blipFill>
          <p:spPr>
            <a:xfrm>
              <a:off x="6172200" y="4876920"/>
              <a:ext cx="2666880" cy="190476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6172200" y="838080"/>
              <a:ext cx="2666880" cy="189576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106" name=""/>
            <p:cNvSpPr/>
            <p:nvPr/>
          </p:nvSpPr>
          <p:spPr>
            <a:xfrm>
              <a:off x="6172200" y="83808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172200" y="281952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172200" y="594360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Line 6"/>
          <p:cNvSpPr/>
          <p:nvPr/>
        </p:nvSpPr>
        <p:spPr>
          <a:xfrm flipV="1">
            <a:off x="393840" y="1066320"/>
            <a:ext cx="5778360" cy="3348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imation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NA-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5181840" cy="2733480"/>
          </a:xfrm>
          <a:prstGeom prst="rect">
            <a:avLst/>
          </a:prstGeom>
          <a:ln w="0">
            <a:noFill/>
          </a:ln>
        </p:spPr>
      </p:pic>
      <p:sp>
        <p:nvSpPr>
          <p:cNvPr id="11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C7D5-5C77-49C9-8018-8A905AFAFD6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rcRect l="0" t="3822" r="0" b="8819"/>
          <a:stretch/>
        </p:blipFill>
        <p:spPr>
          <a:xfrm>
            <a:off x="3048120" y="3301920"/>
            <a:ext cx="6095880" cy="3556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5960" y="1066320"/>
            <a:ext cx="8762760" cy="251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ut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changes in the genetic material of a cell (or viru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include large-scale mutations in which long segments of DNA are affected (e.g.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anslocations, duplications, and invers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Point mutation </a:t>
            </a:r>
            <a:r>
              <a:rPr b="0" lang="ar-EG" sz="2800" spc="-1" strike="noStrike" u="sng">
                <a:solidFill>
                  <a:srgbClr val="000000"/>
                </a:solidFill>
                <a:uFillTx/>
                <a:latin typeface="Arial"/>
              </a:rPr>
              <a:t>طفرة موضع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                                                                                               is a chemical change in just one base pair of a ge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hese occur in cells producing gametes, they may be transmitted to future generations (offspring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295280" y="151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utations: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طفرات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affect protein structure and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28600" y="3451320"/>
            <a:ext cx="26668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e.g.,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sickle-cell disease is caused by a mutation of a single base pair in the gene that codes for one of the polypeptides of hemoglobi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A change in a single nucleotide from T to A in the DNA template leads to an abnormal prot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443E-8FB2-4CFB-AFFA-86C6EF71BE8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320" y="1417320"/>
            <a:ext cx="45720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a point mutation that results in replacement of a pair of complimentary nucleotides with another nucleotide pai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ilent mutatio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ome base-pair substitutions (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oint mut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have little or no impact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أثير واضح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protein function which lead to switches from one amino acid to another with similar proper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base-pair substitutions cause a detectable chang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غيير ملحو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a protein which impact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ؤثر على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Missense mutation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 point mutation that still code for an amino acid but change the resulting prot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Nonsense mutation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ange an amino acid codon into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 stop cod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nearly always leading to a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nfunctional prote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بروتين غير وظيف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371600" y="2286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)- Base-pair substitu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ستبدال زوج من القواع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rcRect l="0" t="0" r="0" b="3332"/>
          <a:stretch/>
        </p:blipFill>
        <p:spPr>
          <a:xfrm>
            <a:off x="4594320" y="1066680"/>
            <a:ext cx="4549680" cy="5791320"/>
          </a:xfrm>
          <a:prstGeom prst="rect">
            <a:avLst/>
          </a:prstGeom>
          <a:ln w="0">
            <a:noFill/>
          </a:ln>
        </p:spPr>
      </p:pic>
      <p:sp>
        <p:nvSpPr>
          <p:cNvPr id="12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6A5D-FC0E-474F-B1C8-1CE97F416C1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6320" y="1527120"/>
            <a:ext cx="4572000" cy="48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a mutation in which additions or losses of nucleotide pairs occurs and causes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rameshif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إزاحة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u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se have a disastrou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كارث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ffect on the resulting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frameshift occurs, all the nucleotides downstream of the deletion or insertion will be improperly grouped into ne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d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sult will be extensive missense, ending sooner or later in nonsense -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emature termin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قف مبكر للترجمة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143000" y="763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)- Insertions and dele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ضافة أو حزف قواع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0" t="0" r="0" b="4441"/>
          <a:stretch/>
        </p:blipFill>
        <p:spPr>
          <a:xfrm>
            <a:off x="4718160" y="1143000"/>
            <a:ext cx="4349520" cy="5638680"/>
          </a:xfrm>
          <a:prstGeom prst="rect">
            <a:avLst/>
          </a:prstGeom>
          <a:ln w="0">
            <a:noFill/>
          </a:ln>
        </p:spPr>
      </p:pic>
      <p:sp>
        <p:nvSpPr>
          <p:cNvPr id="13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A232-3E7E-471B-891D-CEF7AC78B96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52280" y="177480"/>
            <a:ext cx="8839440" cy="65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tations can occur in a number of w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s can occur during DNA replication, DNA repair, or DNA recombin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can lead to base-pair substitutions, insertions, or deletions, as well as mutations affecting longer stretches of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are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ontaneous mut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utagen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سـببات الطفر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are chemical or physical agents that interact with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تفاعل م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to cause mut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hysical ag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clude high-energy radiation lik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X-ray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ltraviolet ligh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أشعة فوق البنفسج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hemical ag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ay operate in several w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chemicals are base analogues that may be substituted into DNA, but that pair incorrectly during DNA repl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utagens interfere with DNA replication by inserting into DNA and distorting the double helix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ill others cause chemical changes in bases that change their pairing properti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2F39-D70D-45E7-9EEA-E77124EB91D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rcRect l="0" t="0" r="0" b="5002"/>
          <a:stretch/>
        </p:blipFill>
        <p:spPr>
          <a:xfrm>
            <a:off x="3886200" y="1143000"/>
            <a:ext cx="5076720" cy="5715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52280" y="1600200"/>
            <a:ext cx="3657600" cy="446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process of translation, a cell sends a series of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d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long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 RNA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اق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s amino acids from the cytoplasm to a rib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ibo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dds each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ino acid carried by tRNA to the growing end of the polypeptid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600200" y="152280"/>
            <a:ext cx="57913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ranslations is the RNA-directed synthesis of a polypept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6645-F7ED-4EC8-A231-1FA2FDF11DF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51920" y="228240"/>
            <a:ext cx="3886200" cy="635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lation, each type of tRNA links a mRNA codon with the appropriate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tRNA arriving at the ribosome carries a specific amino acid at one end and has a specific nucleotide triplet, a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ticod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t the other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ticod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ase-pairs with a complementary codon on m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f the codon on mRNA i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UU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a tRNA with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A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anticodon and carrying phenyalanine will bind to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on by codon, tRNAs deposit amino acids in the prescribed order and the ribosome joins them into a polypeptid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rcRect l="0" t="0" r="0" b="5002"/>
          <a:stretch/>
        </p:blipFill>
        <p:spPr>
          <a:xfrm>
            <a:off x="3932280" y="76320"/>
            <a:ext cx="5211720" cy="64767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7238880" y="65070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17.12, Page 3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8"/>
          <p:cNvGrpSpPr/>
          <p:nvPr/>
        </p:nvGrpSpPr>
        <p:grpSpPr>
          <a:xfrm>
            <a:off x="1066680" y="380880"/>
            <a:ext cx="7848720" cy="5867280"/>
            <a:chOff x="1066680" y="380880"/>
            <a:chExt cx="7848720" cy="5867280"/>
          </a:xfrm>
        </p:grpSpPr>
        <p:pic>
          <p:nvPicPr>
            <p:cNvPr id="70" name="Picture 5" descr=""/>
            <p:cNvPicPr/>
            <p:nvPr/>
          </p:nvPicPr>
          <p:blipFill>
            <a:blip r:embed="rId1"/>
            <a:srcRect l="1815" t="7773" r="5256" b="7798"/>
            <a:stretch/>
          </p:blipFill>
          <p:spPr>
            <a:xfrm>
              <a:off x="1066680" y="426960"/>
              <a:ext cx="7848720" cy="581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Rectangle 6"/>
            <p:cNvSpPr/>
            <p:nvPr/>
          </p:nvSpPr>
          <p:spPr>
            <a:xfrm>
              <a:off x="1066680" y="380880"/>
              <a:ext cx="5029200" cy="586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"/>
            <p:cNvSpPr/>
            <p:nvPr/>
          </p:nvSpPr>
          <p:spPr>
            <a:xfrm>
              <a:off x="6095880" y="1066680"/>
              <a:ext cx="762120" cy="1676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5562360" cy="62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NA molecule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transcribed from DNA in the nucle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 it reaches the cytoplasm, each tRNA is used repeatedly for the following functions: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pick up 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يحم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ts relevant amino acid in the cytoso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deposit 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يضع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amino acid at the riboso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return to the cytosol to pick up another copy of that amino ac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ticod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شفرة المُعاكس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some tRNAs recognize more than one cod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80880" y="725040"/>
            <a:ext cx="838224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ibosome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otein making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ilitate the coupling of th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tRNA anticodons with mRNA cod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ribosome ha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mall subun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ed in the 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 is composed of proteins and ribosomal RNA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the most abundant RNA in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R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transcribed in th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ucleu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bind to special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ins to form th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ibosomal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units in 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units exit the nucleu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uclear p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m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ubunits join to form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unctional ribo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ly when they attach to an mRNA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CB4B-3963-45E7-9151-522F081EE9B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33160" y="380880"/>
            <a:ext cx="7848360" cy="29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ribosome has a binding site for mRNA and three binding sites for tRNA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olds the tRNA carrying the growing polypeptid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rries the tRNA with the next amino ac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t which the discharged tRNA leave the rib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rcRect l="7294" t="65398" r="6200" b="3357"/>
          <a:stretch/>
        </p:blipFill>
        <p:spPr>
          <a:xfrm>
            <a:off x="4952880" y="3581280"/>
            <a:ext cx="3886200" cy="2462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2"/>
          <a:srcRect l="8111" t="36384" r="5172" b="35981"/>
          <a:stretch/>
        </p:blipFill>
        <p:spPr>
          <a:xfrm>
            <a:off x="304920" y="3581280"/>
            <a:ext cx="449568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15D5-A82E-442C-AE77-38AA3794808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rcRect l="1668" t="3983" r="0" b="10797"/>
          <a:stretch/>
        </p:blipFill>
        <p:spPr>
          <a:xfrm>
            <a:off x="152280" y="3733920"/>
            <a:ext cx="8077320" cy="2889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28600" y="76320"/>
            <a:ext cx="8763120" cy="35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lation occurs in three stages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- initi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بد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ransl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- elong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استطالة البنائ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polypeptide chai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- termin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يقا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nitia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brings together mRNA, a tRNA (with the first amino acid) and the two ribosomal subunits (large &amp; smal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st, a small ribosomal subunit binds with mRNA and a special initiator tRNA, which carries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ethioni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attaches to the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tart cod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itiation facto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bring in the large subunit such that the initiator tRNA occupies th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i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8077320" y="5562720"/>
            <a:ext cx="86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Fig. 17.17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, Page 31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276720" y="428292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Guanosine triphosph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33520" y="419112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ethion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839440" cy="64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longa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sts of a series of three step cycles as each amino acid is added to the proceeding one in 3 steps: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don recogni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تعرف على الشفرات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longation fa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sists hydrogen bonding between the mRNA codon unde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 with the corresponding anticodon of tRNA carrying the appropriat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مناس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ino acid 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step requires the hydrolysis of two guanosine triphosphate (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GT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eptide bond form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R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olecul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talyz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formation of a peptide bond between the polypeptide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 with the new amino acid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. This step separates                                                               the tRNA at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 from the                                                                             growing polypeptide chain and                                                                     transfers the chain, now one                                                                              amino acid longer, to the tRNA                                                                             at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ansloca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غيير المكا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                                                                     the ribosome moves the tRNA with                                                                           the attached polypeptide from                                                                           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 to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047C-4340-4F2D-8293-C3AA978875C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rcRect l="8476" t="65304" r="4509" b="6854"/>
          <a:stretch/>
        </p:blipFill>
        <p:spPr>
          <a:xfrm>
            <a:off x="4724280" y="3886200"/>
            <a:ext cx="434340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04920" y="914400"/>
            <a:ext cx="8381880" cy="58910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560" y="75960"/>
            <a:ext cx="8381880" cy="64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hree steps of elongation continue codon by codon to add amino acids until the polypeptide chain is comple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06:19:58Z</dcterms:created>
  <dc:creator>User</dc:creator>
  <dc:description/>
  <dc:language>en-US</dc:language>
  <cp:lastModifiedBy>ash</cp:lastModifiedBy>
  <dcterms:modified xsi:type="dcterms:W3CDTF">2013-01-09T21:37:51Z</dcterms:modified>
  <cp:revision>170</cp:revision>
  <dc:subject/>
  <dc:title>Slide 1</dc:title>
</cp:coreProperties>
</file>