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3.png" ContentType="image/png"/>
  <Override PartName="/ppt/media/image12.jpeg" ContentType="image/jpeg"/>
  <Override PartName="/ppt/media/image7.png" ContentType="image/png"/>
  <Override PartName="/ppt/media/image11.wmf" ContentType="image/x-wmf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5C1A1-3CA5-4DDC-9764-CBA20DB70AF5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CF8C5-CB47-42CA-ADA1-F63A38ED4BE3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D71E0-6345-481E-8890-D2C6A6FE3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49E44-9D8F-45BE-A4DC-33A186B6A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D0FB0-6308-467E-87EF-21E44D5AE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4D6D9-F45F-45DB-BD8B-B03769C4F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050F7-3B58-4FD2-8203-75E344E1F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88ECD-AC8D-4680-8091-CD061E098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D7473-0075-4943-A92E-1AEB7C947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825A8-2173-45E3-AA3A-6DE6ED055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45449-5F50-4F94-9246-0CB707C5C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C92C8-D687-4F21-966C-9090E6B9C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C760A-60D0-4805-8E3F-25849F559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CA814-4709-4A5C-8F54-BE9AE22C3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2D306-1BD1-4334-8DE1-C017C30F464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wmf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9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2568600" y="2077920"/>
            <a:ext cx="21463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50000">
                <a:srgbClr val="bbe0e3"/>
              </a:gs>
              <a:gs pos="100000">
                <a:srgbClr val="00ff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6" descr=""/>
          <p:cNvPicPr/>
          <p:nvPr/>
        </p:nvPicPr>
        <p:blipFill>
          <a:blip r:embed="rId1"/>
          <a:stretch/>
        </p:blipFill>
        <p:spPr>
          <a:xfrm>
            <a:off x="7729560" y="-12600"/>
            <a:ext cx="1262160" cy="16002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7"/>
          <p:cNvSpPr/>
          <p:nvPr/>
        </p:nvSpPr>
        <p:spPr>
          <a:xfrm>
            <a:off x="1219320" y="1676520"/>
            <a:ext cx="6858000" cy="520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cc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tion B: Sex Chromoso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1828800" y="349200"/>
            <a:ext cx="5638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CHROMOSOMAL BASIS OF INHERI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19"/>
          <p:cNvGrpSpPr/>
          <p:nvPr/>
        </p:nvGrpSpPr>
        <p:grpSpPr>
          <a:xfrm>
            <a:off x="812880" y="2457360"/>
            <a:ext cx="7569000" cy="2876760"/>
            <a:chOff x="812880" y="2457360"/>
            <a:chExt cx="7569000" cy="2876760"/>
          </a:xfrm>
        </p:grpSpPr>
        <p:grpSp>
          <p:nvGrpSpPr>
            <p:cNvPr id="54" name="Group 15"/>
            <p:cNvGrpSpPr/>
            <p:nvPr/>
          </p:nvGrpSpPr>
          <p:grpSpPr>
            <a:xfrm>
              <a:off x="812880" y="2457360"/>
              <a:ext cx="7569000" cy="2876760"/>
              <a:chOff x="812880" y="2457360"/>
              <a:chExt cx="7569000" cy="2876760"/>
            </a:xfrm>
          </p:grpSpPr>
          <p:sp>
            <p:nvSpPr>
              <p:cNvPr id="55" name="Rectangle 8"/>
              <p:cNvSpPr/>
              <p:nvPr/>
            </p:nvSpPr>
            <p:spPr>
              <a:xfrm>
                <a:off x="812880" y="2457360"/>
                <a:ext cx="7569000" cy="2876760"/>
              </a:xfrm>
              <a:prstGeom prst="rect">
                <a:avLst/>
              </a:prstGeom>
              <a:solidFill>
                <a:srgbClr val="bbe0e3"/>
              </a:solidFill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6" name="Group 14"/>
              <p:cNvGrpSpPr/>
              <p:nvPr/>
            </p:nvGrpSpPr>
            <p:grpSpPr>
              <a:xfrm>
                <a:off x="982440" y="2541600"/>
                <a:ext cx="7277400" cy="2674440"/>
                <a:chOff x="982440" y="2541600"/>
                <a:chExt cx="7277400" cy="2674440"/>
              </a:xfrm>
            </p:grpSpPr>
            <p:pic>
              <p:nvPicPr>
                <p:cNvPr id="57" name="Picture 13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2510640" y="2541600"/>
                  <a:ext cx="5749200" cy="2656440"/>
                </a:xfrm>
                <a:prstGeom prst="rect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pic>
            <p:pic>
              <p:nvPicPr>
                <p:cNvPr id="58" name="Picture 12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82440" y="2563920"/>
                  <a:ext cx="5021280" cy="26521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59" name="Rectangle 16"/>
            <p:cNvSpPr/>
            <p:nvPr/>
          </p:nvSpPr>
          <p:spPr>
            <a:xfrm>
              <a:off x="6004080" y="2507760"/>
              <a:ext cx="145440" cy="27586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17"/>
            <p:cNvSpPr/>
            <p:nvPr/>
          </p:nvSpPr>
          <p:spPr>
            <a:xfrm>
              <a:off x="3457080" y="2507760"/>
              <a:ext cx="72720" cy="27586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8"/>
            <p:cNvSpPr/>
            <p:nvPr/>
          </p:nvSpPr>
          <p:spPr>
            <a:xfrm>
              <a:off x="910080" y="2496600"/>
              <a:ext cx="5094000" cy="669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Text Box 20"/>
          <p:cNvSpPr/>
          <p:nvPr/>
        </p:nvSpPr>
        <p:spPr>
          <a:xfrm>
            <a:off x="228600" y="5470560"/>
            <a:ext cx="8763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5000"/>
              </a:lnSpc>
              <a:buClr>
                <a:srgbClr val="000000"/>
              </a:buClr>
              <a:buFont typeface="Arial"/>
              <a:buAutoNum type="arabicPeriod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chromosomal basis of sex varies with the org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buClr>
                <a:srgbClr val="000000"/>
              </a:buClr>
              <a:buFont typeface="Arial"/>
              <a:buAutoNum type="arabicPeriod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x-linked genes have unique patterns of inheri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2" descr=""/>
          <p:cNvPicPr/>
          <p:nvPr/>
        </p:nvPicPr>
        <p:blipFill>
          <a:blip r:embed="rId4"/>
          <a:srcRect l="18585" t="8074" r="4048" b="0"/>
          <a:stretch/>
        </p:blipFill>
        <p:spPr>
          <a:xfrm>
            <a:off x="22320" y="42840"/>
            <a:ext cx="1279440" cy="140508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152280" y="141120"/>
            <a:ext cx="8839440" cy="328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                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A)-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Aneuploid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romosomal  duplication)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تعدد الكروموسوم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 غير التام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1- Down syndrome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[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lyploidy (2n + 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risomy in autosom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s due to three copies of chromosome 21 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isomi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مجموعات كروموسومية ثلاثي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though chromosome 21 is the smallest human chromosome, it severely alters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يُغير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 individual’s phenotype in specific ways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Group 8"/>
          <p:cNvGrpSpPr/>
          <p:nvPr/>
        </p:nvGrpSpPr>
        <p:grpSpPr>
          <a:xfrm>
            <a:off x="838080" y="3278160"/>
            <a:ext cx="7772400" cy="3503520"/>
            <a:chOff x="838080" y="3278160"/>
            <a:chExt cx="7772400" cy="3503520"/>
          </a:xfrm>
        </p:grpSpPr>
        <p:pic>
          <p:nvPicPr>
            <p:cNvPr id="110" name="Picture 3" descr=""/>
            <p:cNvPicPr/>
            <p:nvPr/>
          </p:nvPicPr>
          <p:blipFill>
            <a:blip r:embed="rId1"/>
            <a:srcRect l="0" t="0" r="42396" b="0"/>
            <a:stretch/>
          </p:blipFill>
          <p:spPr>
            <a:xfrm>
              <a:off x="838080" y="3278160"/>
              <a:ext cx="4038840" cy="350352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111" name="Oval 5"/>
            <p:cNvSpPr/>
            <p:nvPr/>
          </p:nvSpPr>
          <p:spPr>
            <a:xfrm>
              <a:off x="3098880" y="6224400"/>
              <a:ext cx="457200" cy="30492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2" name="Picture 7" descr=""/>
            <p:cNvPicPr/>
            <p:nvPr/>
          </p:nvPicPr>
          <p:blipFill>
            <a:blip r:embed="rId2"/>
            <a:stretch/>
          </p:blipFill>
          <p:spPr>
            <a:xfrm>
              <a:off x="4952880" y="3278160"/>
              <a:ext cx="3657600" cy="34941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</p:grpSp>
      <p:sp>
        <p:nvSpPr>
          <p:cNvPr id="113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10" descr=""/>
          <p:cNvPicPr/>
          <p:nvPr/>
        </p:nvPicPr>
        <p:blipFill>
          <a:blip r:embed="rId3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0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ymptoms of Down Syndr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ward slant to ey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 ears that fold over at the to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, flattened no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 mouth, making tongue appear lar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rt ne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 hands with short fin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addition, down syndrome always involves some degree of mental retardation, from mild to severe. In most cases, the mental retardation is mild to moder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8" descr=""/>
          <p:cNvPicPr/>
          <p:nvPr/>
        </p:nvPicPr>
        <p:blipFill>
          <a:blip r:embed="rId1"/>
          <a:srcRect l="8333" t="0" r="33333" b="17130"/>
          <a:stretch/>
        </p:blipFill>
        <p:spPr>
          <a:xfrm flipH="1">
            <a:off x="6652800" y="1523880"/>
            <a:ext cx="2414520" cy="3276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 spd="med">
    <p:comb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4"/>
          <p:cNvSpPr/>
          <p:nvPr/>
        </p:nvSpPr>
        <p:spPr>
          <a:xfrm>
            <a:off x="152280" y="152280"/>
            <a:ext cx="8915400" cy="276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2- Klinefelter’s syndrom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lyploidy (2n + 1),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trisom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n sex chromosom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]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isorder occurring due to nondisjunction of the X chromosom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Sperm containing both X and Y combines with an egg containing the X, results in a male child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egg may contribute the extra X chromosom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224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(a)- An 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</a:rPr>
              <a:t>XXY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 mal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occurs once in every 2000 live birth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se individuals have male sex organs, but are steri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may be feminine characteristics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له صفات أنثوية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, but their intelligence is norma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0"/>
          <p:cNvSpPr/>
          <p:nvPr/>
        </p:nvSpPr>
        <p:spPr>
          <a:xfrm>
            <a:off x="152280" y="5638680"/>
            <a:ext cx="86108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(b)- An XYY male,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end to somewhat taller than ave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(c)- A trisomy female (XXX),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which occurs once in every 2000 live births, produces healthy fema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3"/>
          <p:cNvSpPr/>
          <p:nvPr/>
        </p:nvSpPr>
        <p:spPr>
          <a:xfrm>
            <a:off x="228600" y="3124080"/>
            <a:ext cx="4419720" cy="23623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les with some development of breast tissue normally seen in femal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ittle body hair is present, and such person are typically tall, have small test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fertility results from absent sper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idence of mental retard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ay or may not be presen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Group 17"/>
          <p:cNvGrpSpPr/>
          <p:nvPr/>
        </p:nvGrpSpPr>
        <p:grpSpPr>
          <a:xfrm>
            <a:off x="4800600" y="3124080"/>
            <a:ext cx="4267080" cy="2438280"/>
            <a:chOff x="4800600" y="3124080"/>
            <a:chExt cx="4267080" cy="2438280"/>
          </a:xfrm>
        </p:grpSpPr>
        <p:pic>
          <p:nvPicPr>
            <p:cNvPr id="122" name="Picture 3" descr="kleinfelters"/>
            <p:cNvPicPr/>
            <p:nvPr/>
          </p:nvPicPr>
          <p:blipFill>
            <a:blip r:embed="rId1"/>
            <a:stretch/>
          </p:blipFill>
          <p:spPr>
            <a:xfrm>
              <a:off x="4800600" y="3124080"/>
              <a:ext cx="4267080" cy="2342520"/>
            </a:xfrm>
            <a:prstGeom prst="rect">
              <a:avLst/>
            </a:prstGeom>
            <a:ln w="9360">
              <a:solidFill>
                <a:srgbClr val="0000ff"/>
              </a:solidFill>
              <a:miter/>
            </a:ln>
          </p:spPr>
        </p:pic>
        <p:sp>
          <p:nvSpPr>
            <p:cNvPr id="123" name="Oval 15"/>
            <p:cNvSpPr/>
            <p:nvPr/>
          </p:nvSpPr>
          <p:spPr>
            <a:xfrm>
              <a:off x="8000640" y="4891320"/>
              <a:ext cx="838080" cy="67104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comb dir="horz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152280" y="2514600"/>
            <a:ext cx="4572000" cy="32004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urner syndrome is associated with underdeveloped ovaries, short sta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ll neck, and broad chest. Individuals are sterile, and lack expected secondary sexual characteristic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ntal retardation typically not evid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romosomal or monogenic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7" descr="turners"/>
          <p:cNvPicPr/>
          <p:nvPr/>
        </p:nvPicPr>
        <p:blipFill>
          <a:blip r:embed="rId1"/>
          <a:srcRect l="1787" t="4077" r="0" b="0"/>
          <a:stretch/>
        </p:blipFill>
        <p:spPr>
          <a:xfrm>
            <a:off x="4876920" y="2514600"/>
            <a:ext cx="4190760" cy="320040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126" name="Text Box 6"/>
          <p:cNvSpPr/>
          <p:nvPr/>
        </p:nvSpPr>
        <p:spPr>
          <a:xfrm>
            <a:off x="685800" y="685800"/>
            <a:ext cx="7848720" cy="12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3- Turner’s syndrome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 u="sng">
                <a:solidFill>
                  <a:srgbClr val="0000ff"/>
                </a:solidFill>
                <a:uFillTx/>
                <a:latin typeface="Arial"/>
              </a:rPr>
              <a:t>a monosomy femal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X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1800" spc="-1" strike="noStrike" u="sng">
                <a:solidFill>
                  <a:srgbClr val="0000ff"/>
                </a:solidFill>
                <a:uFillTx/>
                <a:latin typeface="Arial"/>
              </a:rPr>
              <a:t>,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ccurs once in every 5000 births, produces phenotypic, but immature females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غير ناضجة جنسيا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228600" y="325440"/>
            <a:ext cx="8763120" cy="56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76920" indent="0"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          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B)- Chromosomal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tructure-alter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6920" indent="0"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7692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92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 can also cause human disord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letions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حزف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even in a heterozygous state, cause severe physical and mental proble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920" indent="0"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spcBef>
                <a:spcPts val="499"/>
              </a:spcBef>
              <a:buClr>
                <a:srgbClr val="ff0000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Cri-du-chat</a:t>
            </a:r>
            <a:r>
              <a:rPr b="1" i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عارض مواء القط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                                                            results from a specific deletion in chromosome 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920" indent="0"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--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s a rare genetic disorder due to a missing part of                                   chromosome 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3948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se individuals are mentally retarded, have a                                       small head with unusual facial features, and a cry                                 like the mewing of a distressed ca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3948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syndrome is fatal in infancy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طفوية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                                                   early childhoo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4" descr=""/>
          <p:cNvPicPr/>
          <p:nvPr/>
        </p:nvPicPr>
        <p:blipFill>
          <a:blip r:embed="rId1"/>
          <a:stretch/>
        </p:blipFill>
        <p:spPr>
          <a:xfrm>
            <a:off x="6705720" y="2590920"/>
            <a:ext cx="2287440" cy="320040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129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6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0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500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500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1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4" descr=""/>
          <p:cNvPicPr/>
          <p:nvPr/>
        </p:nvPicPr>
        <p:blipFill>
          <a:blip r:embed="rId1"/>
          <a:srcRect l="19231" t="0" r="17306" b="30552"/>
          <a:stretch/>
        </p:blipFill>
        <p:spPr>
          <a:xfrm>
            <a:off x="1905120" y="1600200"/>
            <a:ext cx="5790960" cy="473868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75960" y="380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-5788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Arial"/>
              <a:buAutoNum type="arabicPeriod" startAt="2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Myelogenous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leukemia (CML)]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used by chromosomal translocations since a fragment of chromosome 22 switches places with a small fragment from the tip of chromosome 9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10" descr=""/>
          <p:cNvPicPr/>
          <p:nvPr/>
        </p:nvPicPr>
        <p:blipFill>
          <a:blip r:embed="rId1"/>
          <a:srcRect l="0" t="0" r="0" b="8880"/>
          <a:stretch/>
        </p:blipFill>
        <p:spPr>
          <a:xfrm>
            <a:off x="5135400" y="1219320"/>
            <a:ext cx="4008600" cy="556236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151920" y="1406160"/>
            <a:ext cx="5257800" cy="171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human and other mammals, there are two varieties of sex chromosomes, </a:t>
            </a:r>
            <a:r>
              <a:rPr b="1" lang="en-US" sz="1800" spc="-1" strike="noStrike">
                <a:solidFill>
                  <a:srgbClr val="f63f1b"/>
                </a:solidFill>
                <a:latin typeface="Arial"/>
              </a:rPr>
              <a:t>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1" lang="en-US" sz="1800" spc="-1" strike="noStrike">
                <a:solidFill>
                  <a:srgbClr val="f63f1b"/>
                </a:solidFill>
                <a:latin typeface="Arial"/>
              </a:rPr>
              <a:t>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 individual who inherits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two X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chromosomes usually develops as a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femal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 individual who inherits an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X and a 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chromosome usually develops as a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mal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990720" y="15192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1. The chromosomal basis of sex varies with the organ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"/>
          <p:cNvSpPr/>
          <p:nvPr/>
        </p:nvSpPr>
        <p:spPr>
          <a:xfrm>
            <a:off x="152280" y="3309840"/>
            <a:ext cx="5105520" cy="17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X-Y system of mammals is not the only chromosomal mechanism of determining sex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options include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X-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locu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 system,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Z-W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ystem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bird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, and the haplo-diploid system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be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"/>
          <p:cNvSpPr/>
          <p:nvPr/>
        </p:nvSpPr>
        <p:spPr>
          <a:xfrm>
            <a:off x="76320" y="5261040"/>
            <a:ext cx="5410080" cy="152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Human,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gene (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-determining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gion of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chromosome) modifies embryonic gonads into tes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males lack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gene, thus, the embryonic gonads develop into ovari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12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" dur="5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04920" y="1382400"/>
            <a:ext cx="8534160" cy="50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e X-Y system, Y and X chromosomes behave as homologous chromosomes during meios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In reality, they are only partially homologous and rarely undergo crossing o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both testes (XY) and ovaries (XX), the two sex chromosomes segregate during meiosis and each gamete receives o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Each egg receives an X chromoso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Half the sperm receive an X chromosome and half receive a Y chromoso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cause of this, each conception has about a fifty-fifty chance of producing a particular se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title"/>
          </p:nvPr>
        </p:nvSpPr>
        <p:spPr>
          <a:xfrm>
            <a:off x="990720" y="15192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1. The chromosomal basis of sex varies with the organ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12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151920" y="1146240"/>
            <a:ext cx="4876920" cy="32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sex chromosomes, especially the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chromosome, have genes for many characters unrelated to sex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s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ex-link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gene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جينات مرتبطة بالجنس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llow the same pattern of inheritance       as the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white-ey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us in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rosophil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f a sex-linked trait is due to a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recessiv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llele, a female have this phenotype only if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homozygou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terozygous females will be carrie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title"/>
          </p:nvPr>
        </p:nvSpPr>
        <p:spPr>
          <a:xfrm>
            <a:off x="1447920" y="1519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2. Sex-linked genes have unique patterns of inheri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8" descr=""/>
          <p:cNvPicPr/>
          <p:nvPr/>
        </p:nvPicPr>
        <p:blipFill>
          <a:blip r:embed="rId1"/>
          <a:srcRect l="2114" t="0" r="2902" b="10775"/>
          <a:stretch/>
        </p:blipFill>
        <p:spPr>
          <a:xfrm>
            <a:off x="5029200" y="1600200"/>
            <a:ext cx="4019400" cy="51814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0" descr=""/>
          <p:cNvPicPr/>
          <p:nvPr/>
        </p:nvPicPr>
        <p:blipFill>
          <a:blip r:embed="rId2"/>
          <a:srcRect l="0" t="11612" r="0" b="0"/>
          <a:stretch/>
        </p:blipFill>
        <p:spPr>
          <a:xfrm>
            <a:off x="304920" y="4194000"/>
            <a:ext cx="4647960" cy="2622600"/>
          </a:xfrm>
          <a:prstGeom prst="rect">
            <a:avLst/>
          </a:prstGeom>
          <a:ln w="0">
            <a:noFill/>
          </a:ln>
        </p:spPr>
      </p:pic>
      <p:sp>
        <p:nvSpPr>
          <p:cNvPr id="79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12" descr=""/>
          <p:cNvPicPr/>
          <p:nvPr/>
        </p:nvPicPr>
        <p:blipFill>
          <a:blip r:embed="rId3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2"/>
          <p:cNvSpPr/>
          <p:nvPr/>
        </p:nvSpPr>
        <p:spPr>
          <a:xfrm>
            <a:off x="304920" y="1243080"/>
            <a:ext cx="8381880" cy="25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cause males have only one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hromosome (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emizygou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, any male receiving the recessive allele from his mother will express the tra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refore, males are far more likely to inherit sex-linked recessive disorders </a:t>
            </a:r>
            <a:r>
              <a:rPr b="0" lang="ar-EG" sz="2400" spc="-1" strike="noStrike">
                <a:solidFill>
                  <a:srgbClr val="000000"/>
                </a:solidFill>
                <a:latin typeface="Arial"/>
              </a:rPr>
              <a:t>مرض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an are femal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3"/>
          <p:cNvSpPr/>
          <p:nvPr/>
        </p:nvSpPr>
        <p:spPr>
          <a:xfrm>
            <a:off x="304920" y="4203720"/>
            <a:ext cx="85341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600" spc="-1" strike="noStrike">
                <a:solidFill>
                  <a:srgbClr val="ff0000"/>
                </a:solidFill>
                <a:latin typeface="Arial"/>
              </a:rPr>
              <a:t>الصفات المرتبطة بالجنس تورث للأبناء الذكور من الأم فقط لأنهم يرثون منها الكروموسوم </a:t>
            </a:r>
            <a:r>
              <a:rPr b="1" lang="en-GB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X</a:t>
            </a:r>
            <a:r>
              <a:rPr b="1" lang="ar-EG" sz="3600" spc="-1" strike="noStrike">
                <a:solidFill>
                  <a:srgbClr val="ff0000"/>
                </a:solidFill>
                <a:latin typeface="Arial"/>
              </a:rPr>
              <a:t> الحامل لهذا النوع من الـﭼـينات، حيث إن </a:t>
            </a:r>
            <a:r>
              <a:rPr b="1" lang="en-GB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Y</a:t>
            </a:r>
            <a:r>
              <a:rPr b="1" lang="ar-EG" sz="3600" spc="-1" strike="noStrike">
                <a:solidFill>
                  <a:srgbClr val="ff0000"/>
                </a:solidFill>
                <a:latin typeface="Arial"/>
              </a:rPr>
              <a:t> لا يحمل شى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447920" y="1519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ex-linked ge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12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2"/>
          <p:cNvSpPr/>
          <p:nvPr/>
        </p:nvSpPr>
        <p:spPr>
          <a:xfrm>
            <a:off x="1600200" y="76320"/>
            <a:ext cx="66294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ex-linked disorders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الأمراض المرتبطة بالجنس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in human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3"/>
          <p:cNvSpPr/>
          <p:nvPr/>
        </p:nvSpPr>
        <p:spPr>
          <a:xfrm>
            <a:off x="76320" y="1112760"/>
            <a:ext cx="8686800" cy="239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spcBef>
                <a:spcPts val="499"/>
              </a:spcBef>
              <a:buClr>
                <a:srgbClr val="ff0000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Duchenne muscular dystrophy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و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َ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ه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َ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ن العضلات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ffects one in 3,500 males born in the United Sta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ffected individuals rarely live past their early 20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is disorder is due to the absence of an X-linked gene for a key muscle protein, called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dystrophi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disease is characterized by a weakening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Arial"/>
              </a:rPr>
              <a:t>ضعف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f the muscles and loss of coordination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Arial"/>
              </a:rPr>
              <a:t>فـقـْد التوازن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4"/>
          <p:cNvSpPr/>
          <p:nvPr/>
        </p:nvSpPr>
        <p:spPr>
          <a:xfrm>
            <a:off x="76320" y="3544920"/>
            <a:ext cx="8762760" cy="32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spcBef>
                <a:spcPts val="499"/>
              </a:spcBef>
              <a:buClr>
                <a:srgbClr val="ff0000"/>
              </a:buClr>
              <a:buFont typeface="Arial"/>
              <a:buAutoNum type="arabicPeriod" startAt="2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Hemophilia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نزيف الدمو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s a sex-linked recessive trait defined by the absence of one or more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lotting factor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عوامل تجلط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se proteins normally slow and then stop bleed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dividuals with hemophilia have prolonged bleeding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Arial"/>
              </a:rPr>
              <a:t>نزيف مستمر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ecause a firm clot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Arial"/>
              </a:rPr>
              <a:t>تجلط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orms slow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dividuals can be treated with intravenous injections of the missing prote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is gene is transmitted to offspring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i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the moth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Thus, Sons borne from hemophilic woman should be exempted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Arial"/>
              </a:rPr>
              <a:t>يُستثنى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from circumcision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Arial"/>
              </a:rPr>
              <a:t>الختان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7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Group 2"/>
          <p:cNvGrpSpPr/>
          <p:nvPr/>
        </p:nvGrpSpPr>
        <p:grpSpPr>
          <a:xfrm>
            <a:off x="0" y="1120680"/>
            <a:ext cx="8991360" cy="3374640"/>
            <a:chOff x="0" y="1120680"/>
            <a:chExt cx="8991360" cy="3374640"/>
          </a:xfrm>
        </p:grpSpPr>
        <p:pic>
          <p:nvPicPr>
            <p:cNvPr id="92" name="Picture 3" descr=""/>
            <p:cNvPicPr/>
            <p:nvPr/>
          </p:nvPicPr>
          <p:blipFill>
            <a:blip r:embed="rId1"/>
            <a:srcRect l="0" t="0" r="0" b="7360"/>
            <a:stretch/>
          </p:blipFill>
          <p:spPr>
            <a:xfrm>
              <a:off x="0" y="1120680"/>
              <a:ext cx="8991360" cy="337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Rectangle 4"/>
            <p:cNvSpPr/>
            <p:nvPr/>
          </p:nvSpPr>
          <p:spPr>
            <a:xfrm>
              <a:off x="85320" y="1120680"/>
              <a:ext cx="5994360" cy="3344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76320" y="1501560"/>
            <a:ext cx="586728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5000"/>
              </a:lnSpc>
              <a:spcBef>
                <a:spcPts val="601"/>
              </a:spcBef>
              <a:buClr>
                <a:srgbClr val="ff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Color blindness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عمى الألوان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 a disorder inherited as a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recessive sex-linked charact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affect both males and fema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or blind female (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X</a:t>
            </a:r>
            <a:r>
              <a:rPr b="1" lang="en-US" sz="24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X</a:t>
            </a:r>
            <a:r>
              <a:rPr b="1" lang="en-US" sz="24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may be born to a color blind father (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X</a:t>
            </a:r>
            <a:r>
              <a:rPr b="1" lang="en-US" sz="24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and a carrier mother (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X</a:t>
            </a:r>
            <a:r>
              <a:rPr b="1" lang="en-US" sz="24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X</a:t>
            </a:r>
            <a:r>
              <a:rPr b="1" lang="en-US" sz="24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2"/>
          <p:cNvSpPr/>
          <p:nvPr/>
        </p:nvSpPr>
        <p:spPr>
          <a:xfrm>
            <a:off x="0" y="1143000"/>
            <a:ext cx="9067680" cy="62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common </a:t>
            </a:r>
            <a:r>
              <a:rPr b="0" lang="ar-EG" sz="2400" spc="-1" strike="noStrike">
                <a:solidFill>
                  <a:srgbClr val="000000"/>
                </a:solidFill>
                <a:latin typeface="Arial"/>
              </a:rPr>
              <a:t>شائع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meiosis and includ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Chromosomal deletions/translocation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  <a:cs typeface="Arial"/>
              </a:rPr>
              <a:t>نقص أو فقد جزء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 من الكروموسوم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81120" indent="-3808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omologous chromatids may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break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Arial"/>
              </a:rPr>
              <a:t>تـَنكسر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d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 rejoi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Arial"/>
              </a:rPr>
              <a:t>و تلتحم مرة أخرى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t incorrect places, thus, one chromatid will loose more genes than it receiv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Chromosomal duplication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  <a:cs typeface="Arial"/>
              </a:rPr>
              <a:t>تضاعُف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(Polyploidy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  <a:cs typeface="Arial"/>
              </a:rPr>
              <a:t>تعدد الكروموسومات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81120" indent="-3808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sult from nondisjunction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Arial"/>
              </a:rPr>
              <a:t>عدم الإنفصال الكامل للكروموسومات أثناء الإنقسام الميوز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  <a:cs typeface="Arial"/>
              </a:rPr>
              <a:t>ي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uring gamete production in one par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diploid embryo that is homozygous for a large deletion or male with a large deletion to its single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hromosome is usually missing </a:t>
            </a:r>
            <a:r>
              <a:rPr b="0" lang="ar-EG" sz="2400" spc="-1" strike="noStrike">
                <a:solidFill>
                  <a:srgbClr val="000000"/>
                </a:solidFill>
                <a:latin typeface="Arial"/>
              </a:rPr>
              <a:t>يفتق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ny essential genes and this leads to a lethal </a:t>
            </a:r>
            <a:r>
              <a:rPr b="0" lang="ar-EG" sz="2400" spc="-1" strike="noStrike">
                <a:solidFill>
                  <a:srgbClr val="000000"/>
                </a:solidFill>
                <a:latin typeface="Arial"/>
              </a:rPr>
              <a:t>مُمِيت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co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uplications and translocation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Arial"/>
              </a:rPr>
              <a:t>تغيير أماكن الأجزاء المقطوعة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re very harmfu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Translocation or inversion can alter phenotype because a gene’s expression is influenced by its lo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3"/>
          <p:cNvSpPr/>
          <p:nvPr/>
        </p:nvSpPr>
        <p:spPr>
          <a:xfrm>
            <a:off x="1371600" y="12060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Chromosomal aberration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الشذوذ الكروموسوم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6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2"/>
          <p:cNvSpPr/>
          <p:nvPr/>
        </p:nvSpPr>
        <p:spPr>
          <a:xfrm>
            <a:off x="1009080" y="152280"/>
            <a:ext cx="208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Chromosomal Mut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5">
            <a:hlinkClick r:id="" action="ppaction://hlinkshowjump?jump=nextslide"/>
          </p:cNvPr>
          <p:cNvSpPr/>
          <p:nvPr/>
        </p:nvSpPr>
        <p:spPr>
          <a:xfrm>
            <a:off x="591336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6">
            <a:hlinkClick r:id="" action="ppaction://hlinkshowjump?jump=endshow"/>
          </p:cNvPr>
          <p:cNvSpPr/>
          <p:nvPr/>
        </p:nvSpPr>
        <p:spPr>
          <a:xfrm>
            <a:off x="792468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7">
            <a:hlinkClick r:id="" action="ppaction://hlinkshowjump?jump=previousslide"/>
          </p:cNvPr>
          <p:cNvSpPr/>
          <p:nvPr/>
        </p:nvSpPr>
        <p:spPr>
          <a:xfrm>
            <a:off x="5079960" y="63118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8">
            <a:hlinkClick r:id="rId1" action="ppaction://hlinksldjump"/>
          </p:cNvPr>
          <p:cNvSpPr/>
          <p:nvPr/>
        </p:nvSpPr>
        <p:spPr>
          <a:xfrm>
            <a:off x="6781680" y="6311880"/>
            <a:ext cx="9144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9" descr="p108"/>
          <p:cNvPicPr/>
          <p:nvPr/>
        </p:nvPicPr>
        <p:blipFill>
          <a:blip r:embed="rId2"/>
          <a:stretch/>
        </p:blipFill>
        <p:spPr>
          <a:xfrm>
            <a:off x="1270080" y="1662120"/>
            <a:ext cx="6608520" cy="4378320"/>
          </a:xfrm>
          <a:prstGeom prst="rect">
            <a:avLst/>
          </a:prstGeom>
          <a:ln w="0">
            <a:noFill/>
          </a:ln>
        </p:spPr>
      </p:pic>
      <p:sp>
        <p:nvSpPr>
          <p:cNvPr id="106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12" descr=""/>
          <p:cNvPicPr/>
          <p:nvPr/>
        </p:nvPicPr>
        <p:blipFill>
          <a:blip r:embed="rId3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0T17:27:32Z</dcterms:created>
  <dc:creator>User</dc:creator>
  <dc:description/>
  <dc:language>en-US</dc:language>
  <cp:lastModifiedBy>HP</cp:lastModifiedBy>
  <dcterms:modified xsi:type="dcterms:W3CDTF">2014-01-07T17:13:50Z</dcterms:modified>
  <cp:revision>114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ticulateGUID">
    <vt:lpwstr>01994D54-395E-4C98-B2A2-9712B3498659</vt:lpwstr>
  </property>
  <property fmtid="{D5CDD505-2E9C-101B-9397-08002B2CF9AE}" pid="3" name="ArticulatePath">
    <vt:lpwstr>Lecture 24</vt:lpwstr>
  </property>
</Properties>
</file>