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3618-389E-45FA-8793-4C77E5C1D1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DB0-0CEF-4D58-9C9C-2CB6052658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CAF-202E-4597-B80C-022AB8DA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738-EFAE-4225-896D-53E540D3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EB7-3B27-478D-80FD-3265CC3B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620-4EFA-46EC-8519-B2D3A6BB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A077-3210-429D-963C-E1D6EF64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7FFE-B295-4AEE-BC62-56B6563A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44E-CF6A-4810-91A7-DB7ED726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C8E7-58A1-47CE-92F3-AA85D7DC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613-21BC-46F0-ACD6-8A89CA07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6DB-E757-414C-BCBB-F0C6110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67C6-EAE8-4F1B-8136-E464B0DE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76D-6021-4C37-8EDB-55862C7F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9DA-384C-44E3-B68F-D7B7AE99CA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3492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4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5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7" name="Picture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58" name="Picture 1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9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41120"/>
            <a:ext cx="883944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euploi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غير التا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8"/>
          <p:cNvGrpSpPr/>
          <p:nvPr/>
        </p:nvGrpSpPr>
        <p:grpSpPr>
          <a:xfrm>
            <a:off x="838080" y="3278160"/>
            <a:ext cx="7772400" cy="3503520"/>
            <a:chOff x="838080" y="3278160"/>
            <a:chExt cx="7772400" cy="350352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rcRect l="0" t="0" r="42396" b="0"/>
            <a:stretch/>
          </p:blipFill>
          <p:spPr>
            <a:xfrm>
              <a:off x="838080" y="3278160"/>
              <a:ext cx="4038840" cy="3503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11" name="Oval 5"/>
            <p:cNvSpPr/>
            <p:nvPr/>
          </p:nvSpPr>
          <p:spPr>
            <a:xfrm>
              <a:off x="3098880" y="62244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7" descr=""/>
            <p:cNvPicPr/>
            <p:nvPr/>
          </p:nvPicPr>
          <p:blipFill>
            <a:blip r:embed="rId2"/>
            <a:stretch/>
          </p:blipFill>
          <p:spPr>
            <a:xfrm>
              <a:off x="4952880" y="3278160"/>
              <a:ext cx="3657600" cy="3494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11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ymptoms of Down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slant to 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ears that fold over at the 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, flattene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mouth, making tongue appear la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ne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hands with short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down syndrome always involves some degree of mental retardation, from mild to severe. In most cases, the mental retardation is mild to mode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1"/>
          <a:srcRect l="8333" t="0" r="33333" b="17130"/>
          <a:stretch/>
        </p:blipFill>
        <p:spPr>
          <a:xfrm flipH="1">
            <a:off x="6652800" y="1523880"/>
            <a:ext cx="2414520" cy="32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52280" y="152280"/>
            <a:ext cx="8915400" cy="27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trisom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order occurring due to nondisjunction of the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erm containing both X and Y combines with an egg containing the X, results in a male chil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gg may contribute the extra X chromos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52280" y="5638680"/>
            <a:ext cx="8610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XYY male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somewhat taller than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XXX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" y="3124080"/>
            <a:ext cx="4419720" cy="2362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les with some development of breast tissue normally seen in fem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tle body hair is present, and such person are typically tall, have small tes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ertility results from absent spe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idence of mental retard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y or may not be pres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4800600" y="3124080"/>
            <a:ext cx="4267080" cy="2438280"/>
            <a:chOff x="4800600" y="3124080"/>
            <a:chExt cx="4267080" cy="2438280"/>
          </a:xfrm>
        </p:grpSpPr>
        <p:pic>
          <p:nvPicPr>
            <p:cNvPr id="122" name="Picture 3" descr="kleinfelters"/>
            <p:cNvPicPr/>
            <p:nvPr/>
          </p:nvPicPr>
          <p:blipFill>
            <a:blip r:embed="rId1"/>
            <a:stretch/>
          </p:blipFill>
          <p:spPr>
            <a:xfrm>
              <a:off x="4800600" y="3124080"/>
              <a:ext cx="4267080" cy="23425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123" name="Oval 15"/>
            <p:cNvSpPr/>
            <p:nvPr/>
          </p:nvSpPr>
          <p:spPr>
            <a:xfrm>
              <a:off x="8000640" y="4891320"/>
              <a:ext cx="838080" cy="671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280" y="2514600"/>
            <a:ext cx="4572000" cy="3200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er syndrome is associated with underdeveloped ovaries, short st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l neck, and broad chest. Individuals are sterile, and lack expected secondary sexual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al retardation typically not ev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omosomal or monogeni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turners"/>
          <p:cNvPicPr/>
          <p:nvPr/>
        </p:nvPicPr>
        <p:blipFill>
          <a:blip r:embed="rId1"/>
          <a:srcRect l="1787" t="4077" r="0" b="0"/>
          <a:stretch/>
        </p:blipFill>
        <p:spPr>
          <a:xfrm>
            <a:off x="4876920" y="2514600"/>
            <a:ext cx="419076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685800" y="685800"/>
            <a:ext cx="784872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325440"/>
            <a:ext cx="876312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)- Chromosom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e-alt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6920" indent="-37692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9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-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rare genetic disorder due to a missing part of                                   chromosome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                                      small head with unusual facial features, and a cry                                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                                                  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705720" y="2590920"/>
            <a:ext cx="228744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2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19231" t="0" r="17306" b="30552"/>
          <a:stretch/>
        </p:blipFill>
        <p:spPr>
          <a:xfrm>
            <a:off x="1905120" y="1600200"/>
            <a:ext cx="5790960" cy="4738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9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yelogenou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d by chromosomal translocations since a fragment of chromosome 22 switches places with a small fragment from the tip of chromosome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0" t="0" r="0" b="8880"/>
          <a:stretch/>
        </p:blipFill>
        <p:spPr>
          <a:xfrm>
            <a:off x="5135400" y="1219320"/>
            <a:ext cx="4008600" cy="5562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51920" y="140616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152280" y="330984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6320" y="526104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3824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90720" y="151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51920" y="114624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1"/>
          <a:srcRect l="2114" t="0" r="2902" b="10775"/>
          <a:stretch/>
        </p:blipFill>
        <p:spPr>
          <a:xfrm>
            <a:off x="5029200" y="1600200"/>
            <a:ext cx="4019400" cy="518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2"/>
          <a:srcRect l="0" t="11612" r="0" b="0"/>
          <a:stretch/>
        </p:blipFill>
        <p:spPr>
          <a:xfrm>
            <a:off x="304920" y="4194000"/>
            <a:ext cx="4647960" cy="2622600"/>
          </a:xfrm>
          <a:prstGeom prst="rect">
            <a:avLst/>
          </a:prstGeom>
          <a:ln w="0">
            <a:noFill/>
          </a:ln>
        </p:spPr>
      </p:pic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04920" y="124308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04920" y="42037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x-linked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1600200" y="76320"/>
            <a:ext cx="6629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111276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َ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54492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120680"/>
            <a:ext cx="8991360" cy="3374640"/>
            <a:chOff x="0" y="112068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112068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112068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1501560"/>
            <a:ext cx="586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143000"/>
            <a:ext cx="906768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 من الكروموسو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71600" y="120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شذوذ الكروموسوم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09080" y="152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hromosomal Mu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p108"/>
          <p:cNvPicPr/>
          <p:nvPr/>
        </p:nvPicPr>
        <p:blipFill>
          <a:blip r:embed="rId2"/>
          <a:stretch/>
        </p:blipFill>
        <p:spPr>
          <a:xfrm>
            <a:off x="1270080" y="1662120"/>
            <a:ext cx="6608520" cy="437832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HP</cp:lastModifiedBy>
  <dcterms:modified xsi:type="dcterms:W3CDTF">2014-01-07T17:13:50Z</dcterms:modified>
  <cp:revision>1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1994D54-395E-4C98-B2A2-9712B3498659</vt:lpwstr>
  </property>
  <property fmtid="{D5CDD505-2E9C-101B-9397-08002B2CF9AE}" pid="3" name="ArticulatePath">
    <vt:lpwstr>Lecture 24</vt:lpwstr>
  </property>
</Properties>
</file>