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5D55-220D-471F-B325-58204C73AD3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966F-27FB-486F-B080-52BC58DDA88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B01-1C3A-461A-892C-E33EED7B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F408-3CE3-4C26-98BF-7B5BA5FC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106-5743-4BCD-AB60-FB07F847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EB5-EA36-4E97-8E7A-743EE649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378-3F16-4FAE-ACF4-C76F3DD1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AB1A-5CDA-49B0-8461-51987ADC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0039-DEC8-45F3-AB45-6EF96817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CF20-D9DD-4423-848F-B4F11F91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5AB-B33B-4828-BFFC-7AB79575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518-62A9-47F2-B0A8-5B548C40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FAA5-BE84-48F4-87EA-A4C543FA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C1C-53C0-4B74-B54D-A28E5A72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CF36-50A7-4D65-A928-9F53E0B7C3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4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5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7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58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120"/>
            <a:ext cx="883944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euploi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غير الت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838080" y="3278160"/>
            <a:ext cx="7772400" cy="3503520"/>
            <a:chOff x="838080" y="3278160"/>
            <a:chExt cx="7772400" cy="350352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838080" y="3278160"/>
              <a:ext cx="4038840" cy="350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1" name="Oval 5"/>
            <p:cNvSpPr/>
            <p:nvPr/>
          </p:nvSpPr>
          <p:spPr>
            <a:xfrm>
              <a:off x="3098880" y="62244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7" descr=""/>
            <p:cNvPicPr/>
            <p:nvPr/>
          </p:nvPicPr>
          <p:blipFill>
            <a:blip r:embed="rId2"/>
            <a:stretch/>
          </p:blipFill>
          <p:spPr>
            <a:xfrm>
              <a:off x="4952880" y="3278160"/>
              <a:ext cx="3657600" cy="349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52280" y="152280"/>
            <a:ext cx="8915400" cy="27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risom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erm containing both X and Y combines with an egg containing the X, results in a male chi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52280" y="5638680"/>
            <a:ext cx="8610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XYY male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somewhat taller than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XXX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" y="3124080"/>
            <a:ext cx="441972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s with some development of breast tissue normally seen in fem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body hair is present, and such person are typically tall, have small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rtility results from absent spe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dence of mental retar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y or may not be pres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4800600" y="3124080"/>
            <a:ext cx="4267080" cy="2438280"/>
            <a:chOff x="4800600" y="3124080"/>
            <a:chExt cx="4267080" cy="2438280"/>
          </a:xfrm>
        </p:grpSpPr>
        <p:pic>
          <p:nvPicPr>
            <p:cNvPr id="122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4800600" y="3124080"/>
              <a:ext cx="4267080" cy="2342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23" name="Oval 15"/>
            <p:cNvSpPr/>
            <p:nvPr/>
          </p:nvSpPr>
          <p:spPr>
            <a:xfrm>
              <a:off x="8000640" y="4891320"/>
              <a:ext cx="838080" cy="67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2514600"/>
            <a:ext cx="4572000" cy="3200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876920" y="2514600"/>
            <a:ext cx="419076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6" name="Text Box 6"/>
          <p:cNvSpPr/>
          <p:nvPr/>
        </p:nvSpPr>
        <p:spPr>
          <a:xfrm>
            <a:off x="685800" y="685800"/>
            <a:ext cx="78487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Chromoso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-alt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28744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19231" t="0" r="17306" b="30552"/>
          <a:stretch/>
        </p:blipFill>
        <p:spPr>
          <a:xfrm>
            <a:off x="1905120" y="1600200"/>
            <a:ext cx="5790960" cy="4738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elogenou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382400"/>
            <a:ext cx="8534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32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04920" y="124308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42037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x-linked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600200" y="76320"/>
            <a:ext cx="6629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4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320" y="150156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143000"/>
            <a:ext cx="90676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نقص أو فقد جز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من الكروموسو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دم الإنفصال الكامل للكروموسومات أثناء الإنقسام الميوز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371600" y="120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ذوذ الكروموسو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HP</cp:lastModifiedBy>
  <dcterms:modified xsi:type="dcterms:W3CDTF">2014-01-07T17:13:50Z</dcterms:modified>
  <cp:revision>1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1994D54-395E-4C98-B2A2-9712B3498659</vt:lpwstr>
  </property>
  <property fmtid="{D5CDD505-2E9C-101B-9397-08002B2CF9AE}" pid="3" name="ArticulatePath">
    <vt:lpwstr>Lecture 24</vt:lpwstr>
  </property>
</Properties>
</file>