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11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60E9-A7FD-44B3-B256-481AFDD904D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FFAC-FB5F-4AF8-983F-BC4075344FC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D8D5-11D3-41CA-B100-EC52973C4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BE86-0F89-4215-8D23-EF8200A8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5CCC-44F8-4B32-935E-CED19F376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B7CD-67B6-4385-B62D-A2FB8C234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610D-9C90-4CE7-AD55-116892B4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013D-1BE9-4CAB-B8E5-CF7CEAB7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CB8E-94D4-45A1-A5B8-577AD27E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0EC3-BDDA-49DA-A3F7-0CCEDB80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E81D-3D80-4EDC-AF64-5AB4AB7E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E628-65CC-41EC-A782-E24112BD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A22C-900F-4D3F-987F-71CB3123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10E7-7094-47A3-BCFD-7509A34F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494A-760D-4693-B6D3-28B33FA470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bbe0e3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1219320" y="1676520"/>
            <a:ext cx="685800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 B: Sex Chrom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828800" y="34920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ROMOSOMAL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9"/>
          <p:cNvGrpSpPr/>
          <p:nvPr/>
        </p:nvGrpSpPr>
        <p:grpSpPr>
          <a:xfrm>
            <a:off x="812880" y="2457360"/>
            <a:ext cx="7569000" cy="2876760"/>
            <a:chOff x="812880" y="2457360"/>
            <a:chExt cx="7569000" cy="2876760"/>
          </a:xfrm>
        </p:grpSpPr>
        <p:grpSp>
          <p:nvGrpSpPr>
            <p:cNvPr id="54" name="Group 15"/>
            <p:cNvGrpSpPr/>
            <p:nvPr/>
          </p:nvGrpSpPr>
          <p:grpSpPr>
            <a:xfrm>
              <a:off x="812880" y="2457360"/>
              <a:ext cx="7569000" cy="2876760"/>
              <a:chOff x="812880" y="2457360"/>
              <a:chExt cx="7569000" cy="2876760"/>
            </a:xfrm>
          </p:grpSpPr>
          <p:sp>
            <p:nvSpPr>
              <p:cNvPr id="55" name="Rectangle 8"/>
              <p:cNvSpPr/>
              <p:nvPr/>
            </p:nvSpPr>
            <p:spPr>
              <a:xfrm>
                <a:off x="812880" y="2457360"/>
                <a:ext cx="7569000" cy="2876760"/>
              </a:xfrm>
              <a:prstGeom prst="rect">
                <a:avLst/>
              </a:prstGeom>
              <a:solidFill>
                <a:srgbClr val="bbe0e3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" name="Group 14"/>
              <p:cNvGrpSpPr/>
              <p:nvPr/>
            </p:nvGrpSpPr>
            <p:grpSpPr>
              <a:xfrm>
                <a:off x="982440" y="2541600"/>
                <a:ext cx="7277400" cy="2674440"/>
                <a:chOff x="982440" y="2541600"/>
                <a:chExt cx="7277400" cy="2674440"/>
              </a:xfrm>
            </p:grpSpPr>
            <p:pic>
              <p:nvPicPr>
                <p:cNvPr id="57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510640" y="2541600"/>
                  <a:ext cx="5749200" cy="265644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58" name="Picture 1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82440" y="2563920"/>
                  <a:ext cx="5021280" cy="2652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9" name="Rectangle 16"/>
            <p:cNvSpPr/>
            <p:nvPr/>
          </p:nvSpPr>
          <p:spPr>
            <a:xfrm>
              <a:off x="6004080" y="2507760"/>
              <a:ext cx="145440" cy="2758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7"/>
            <p:cNvSpPr/>
            <p:nvPr/>
          </p:nvSpPr>
          <p:spPr>
            <a:xfrm>
              <a:off x="3457080" y="2507760"/>
              <a:ext cx="72720" cy="2758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8"/>
            <p:cNvSpPr/>
            <p:nvPr/>
          </p:nvSpPr>
          <p:spPr>
            <a:xfrm>
              <a:off x="910080" y="2496600"/>
              <a:ext cx="5094000" cy="6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20"/>
          <p:cNvSpPr/>
          <p:nvPr/>
        </p:nvSpPr>
        <p:spPr>
          <a:xfrm>
            <a:off x="228600" y="5470560"/>
            <a:ext cx="87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hromosomal basis of sex varies with the 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x-linked genes have unique patterns of inher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2" descr=""/>
          <p:cNvPicPr/>
          <p:nvPr/>
        </p:nvPicPr>
        <p:blipFill>
          <a:blip r:embed="rId4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2280" y="141120"/>
            <a:ext cx="8839440" cy="32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)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neuploid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omosomal  duplication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عدد الكروموسوم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غير التا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- Down syndrom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yploidy (2n +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isomy in autosom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due to three copies of chromosome 21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som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مجموعات كروموسومية ثلاث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hough chromosome 21 is the smallest human chromosome, it severely alter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غي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ndividual’s phenotype in specific way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8"/>
          <p:cNvGrpSpPr/>
          <p:nvPr/>
        </p:nvGrpSpPr>
        <p:grpSpPr>
          <a:xfrm>
            <a:off x="838080" y="3278160"/>
            <a:ext cx="7772400" cy="3503520"/>
            <a:chOff x="838080" y="3278160"/>
            <a:chExt cx="7772400" cy="3503520"/>
          </a:xfrm>
        </p:grpSpPr>
        <p:pic>
          <p:nvPicPr>
            <p:cNvPr id="110" name="Picture 3" descr=""/>
            <p:cNvPicPr/>
            <p:nvPr/>
          </p:nvPicPr>
          <p:blipFill>
            <a:blip r:embed="rId1"/>
            <a:srcRect l="0" t="0" r="42396" b="0"/>
            <a:stretch/>
          </p:blipFill>
          <p:spPr>
            <a:xfrm>
              <a:off x="838080" y="3278160"/>
              <a:ext cx="4038840" cy="3503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11" name="Oval 5"/>
            <p:cNvSpPr/>
            <p:nvPr/>
          </p:nvSpPr>
          <p:spPr>
            <a:xfrm>
              <a:off x="3098880" y="6224400"/>
              <a:ext cx="45720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7" descr=""/>
            <p:cNvPicPr/>
            <p:nvPr/>
          </p:nvPicPr>
          <p:blipFill>
            <a:blip r:embed="rId2"/>
            <a:stretch/>
          </p:blipFill>
          <p:spPr>
            <a:xfrm>
              <a:off x="4952880" y="3278160"/>
              <a:ext cx="3657600" cy="3494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11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ymptoms of Down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ward slant to 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ears that fold over at the t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, flattened n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mouth, making tongue appear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ne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hands with short fin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, down syndrome always involves some degree of mental retardation, from mild to severe. In most cases, the mental retardation is mild to mode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1"/>
          <a:srcRect l="8333" t="0" r="33333" b="17130"/>
          <a:stretch/>
        </p:blipFill>
        <p:spPr>
          <a:xfrm flipH="1">
            <a:off x="6652800" y="1523880"/>
            <a:ext cx="241452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152280" y="152280"/>
            <a:ext cx="8915400" cy="27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- Klinefelter’s syndro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yploidy (2n + 1),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trisom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n sex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order occurring due to nondisjunction of the X chromos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perm containing both X and Y combines with an egg containing the X, results in a male chil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gg may contribute the extra X chromos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a)- An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XXY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ma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ccurs once in every 2000 live bir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individuals have male sex organs, but are ster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may be feminine characteristic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له صفات أنثو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ut their intelligence is norm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52280" y="5638680"/>
            <a:ext cx="8610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b)- An XYY male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nd to somewhat taller than 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c)- A trisomy female (XXX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ch occurs once in every 2000 live births, produces healthy fem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28600" y="3124080"/>
            <a:ext cx="441972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les with some development of breast tissue normally seen in fem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ttle body hair is present, and such person are typically tall, have small tes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ertility results from absent spe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idence of mental retard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y or may not be pres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7"/>
          <p:cNvGrpSpPr/>
          <p:nvPr/>
        </p:nvGrpSpPr>
        <p:grpSpPr>
          <a:xfrm>
            <a:off x="4800600" y="3124080"/>
            <a:ext cx="4267080" cy="2438280"/>
            <a:chOff x="4800600" y="3124080"/>
            <a:chExt cx="4267080" cy="2438280"/>
          </a:xfrm>
        </p:grpSpPr>
        <p:pic>
          <p:nvPicPr>
            <p:cNvPr id="122" name="Picture 3" descr="kleinfelters"/>
            <p:cNvPicPr/>
            <p:nvPr/>
          </p:nvPicPr>
          <p:blipFill>
            <a:blip r:embed="rId1"/>
            <a:stretch/>
          </p:blipFill>
          <p:spPr>
            <a:xfrm>
              <a:off x="4800600" y="3124080"/>
              <a:ext cx="4267080" cy="234252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23" name="Oval 15"/>
            <p:cNvSpPr/>
            <p:nvPr/>
          </p:nvSpPr>
          <p:spPr>
            <a:xfrm>
              <a:off x="8000640" y="4891320"/>
              <a:ext cx="838080" cy="671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mb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52280" y="2514600"/>
            <a:ext cx="4572000" cy="3200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er syndrome is associated with underdeveloped ovaries, short st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ll neck, and broad chest. Individuals are sterile, and lack expected secondary sexual characteris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tal retardation typically not evi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omosomal or monogeni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turners"/>
          <p:cNvPicPr/>
          <p:nvPr/>
        </p:nvPicPr>
        <p:blipFill>
          <a:blip r:embed="rId1"/>
          <a:srcRect l="1787" t="4077" r="0" b="0"/>
          <a:stretch/>
        </p:blipFill>
        <p:spPr>
          <a:xfrm>
            <a:off x="4876920" y="2514600"/>
            <a:ext cx="4190760" cy="3200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6" name="Text Box 6"/>
          <p:cNvSpPr/>
          <p:nvPr/>
        </p:nvSpPr>
        <p:spPr>
          <a:xfrm>
            <a:off x="685800" y="685800"/>
            <a:ext cx="784872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3- Turner’s syndrom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a monosomy fem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,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curs once in every 5000 births, produces phenotypic, but immature fema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غير ناضجة جنس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8600" y="325440"/>
            <a:ext cx="8763120" cy="56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)- Chromosom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e-alter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can also cause human disor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ز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ven in a heterozygous state, cause severe physical and mental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ri-du-chat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ارض مواء الق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results from a specific deletion in chromosome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 rare genetic disorder due to a missing part of                                   chromosome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individuals are mentally retarded, have a                                       small head with unusual facial features, and a cry                                 like the mewing of a distressed c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syndrome is fatal in infanc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طفو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                                                   early childh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6705720" y="2590920"/>
            <a:ext cx="2287440" cy="3200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rcRect l="19231" t="0" r="17306" b="30552"/>
          <a:stretch/>
        </p:blipFill>
        <p:spPr>
          <a:xfrm>
            <a:off x="1905120" y="1600200"/>
            <a:ext cx="5790960" cy="4738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59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yelogenou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leukemia (CML)]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sed by chromosomal translocations since a fragment of chromosome 22 switches places with a small fragment from the tip of chromosome 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" descr=""/>
          <p:cNvPicPr/>
          <p:nvPr/>
        </p:nvPicPr>
        <p:blipFill>
          <a:blip r:embed="rId1"/>
          <a:srcRect l="0" t="0" r="0" b="8880"/>
          <a:stretch/>
        </p:blipFill>
        <p:spPr>
          <a:xfrm>
            <a:off x="5135400" y="1219320"/>
            <a:ext cx="4008600" cy="55623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51920" y="1406160"/>
            <a:ext cx="525780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 and other mammals, there are two varieties of sex chromosomes, </a:t>
            </a:r>
            <a:r>
              <a:rPr b="1" lang="en-US" sz="1800" spc="-1" strike="noStrike">
                <a:solidFill>
                  <a:srgbClr val="f63f1b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1800" spc="-1" strike="noStrike">
                <a:solidFill>
                  <a:srgbClr val="f63f1b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ndividual who inherits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wo X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romosomes usually develops as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ema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ndividual who inherits a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X and a 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romosome usually develops as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a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990720" y="1519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 The chromosomal basis of sex varies with the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52280" y="3309840"/>
            <a:ext cx="510552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X-Y system of mammals is not the only chromosomal mechanism of determining s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options include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-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locu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system,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-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i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and the haplo-diploid system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e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6320" y="5261040"/>
            <a:ext cx="541008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,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-determining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gion of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romosome) modifies embryonic gonads into tes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males lack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, thus, the embryonic gonads develop into ova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4920" y="1382400"/>
            <a:ext cx="85341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X-Y system, Y and X chromosomes behave as homologous chromosomes during mei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 reality, they are only partially homologous and rarely undergo crossing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both testes (XY) and ovaries (XX), the two sex chromosomes segregate during meiosis and each gamete receives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ach egg receives an X chrom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alf the sperm receive an X chromosome and half receive a Y chrom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of this, each conception has about a fifty-fifty chance of producing a particular s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990720" y="1519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 The chromosomal basis of sex varies with the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51920" y="1146240"/>
            <a:ext cx="4876920" cy="32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ex chromosomes, especially the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romosome, have genes for many characters unrelated to s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x-link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جينات مرتبطة بالجن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llow the same pattern of inheritance       as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ite-ey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us i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rosophi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 sex-linked trait is due to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llele, a female have this phenotype only if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mozygo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terozygous females will be carr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 Sex-linked genes have unique pattern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1"/>
          <a:srcRect l="2114" t="0" r="2902" b="10775"/>
          <a:stretch/>
        </p:blipFill>
        <p:spPr>
          <a:xfrm>
            <a:off x="5029200" y="1600200"/>
            <a:ext cx="4019400" cy="5181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"/>
          <p:cNvPicPr/>
          <p:nvPr/>
        </p:nvPicPr>
        <p:blipFill>
          <a:blip r:embed="rId2"/>
          <a:srcRect l="0" t="11612" r="0" b="0"/>
          <a:stretch/>
        </p:blipFill>
        <p:spPr>
          <a:xfrm>
            <a:off x="304920" y="4194000"/>
            <a:ext cx="4647960" cy="2622600"/>
          </a:xfrm>
          <a:prstGeom prst="rect">
            <a:avLst/>
          </a:prstGeom>
          <a:ln w="0">
            <a:noFill/>
          </a:ln>
        </p:spPr>
      </p:pic>
      <p:sp>
        <p:nvSpPr>
          <p:cNvPr id="7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304920" y="1243080"/>
            <a:ext cx="838188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males have only on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romosome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emizyg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any male receiving the recessive allele from his mother will express the tr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, males are far more likely to inherit sex-linked recessive disorder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ر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n are fem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04920" y="4203720"/>
            <a:ext cx="853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الصفات المرتبطة بالجنس تورث للأبناء الذكور من الأم فقط لأنهم يرثون منها الكروموسوم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 الحامل لهذا النوع من الـﭼـينات، حيث إن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 لا يحمل شى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x-linked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600200" y="76320"/>
            <a:ext cx="6629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x-linked disorders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أمراض المرتبطة بالجن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 human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76320" y="1112760"/>
            <a:ext cx="8686800" cy="23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uchenne muscular dystroph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َ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َ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 العضل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fects one in 3,500 males born in the United St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ffected individuals rarely live past their early 20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disorder is due to the absence of an X-linked gene for a key muscle protein, call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dystroph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sease is characterized by a weaken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ضع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the muscles and loss of coordin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فـقـْد التواز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76320" y="3544920"/>
            <a:ext cx="8762760" cy="32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emophili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نزيف الدم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sex-linked recessive trait defined by the absence of one or mor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lotting fa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وامل تجل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proteins normally slow and then stop blee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s with hemophilia have prolonged blee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نزيف مستم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a firm clo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جل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s slow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s can be treated with intravenous injections of the missing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gene is transmitted to offspr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he m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Thus, Sons borne from hemophilic woman should be exempt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يُستثنى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from circumcis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الختان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1120680"/>
            <a:ext cx="8991360" cy="3374640"/>
            <a:chOff x="0" y="1120680"/>
            <a:chExt cx="8991360" cy="3374640"/>
          </a:xfrm>
        </p:grpSpPr>
        <p:pic>
          <p:nvPicPr>
            <p:cNvPr id="92" name="Picture 3" descr=""/>
            <p:cNvPicPr/>
            <p:nvPr/>
          </p:nvPicPr>
          <p:blipFill>
            <a:blip r:embed="rId1"/>
            <a:srcRect l="0" t="0" r="0" b="7360"/>
            <a:stretch/>
          </p:blipFill>
          <p:spPr>
            <a:xfrm>
              <a:off x="0" y="1120680"/>
              <a:ext cx="8991360" cy="33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Rectangle 4"/>
            <p:cNvSpPr/>
            <p:nvPr/>
          </p:nvSpPr>
          <p:spPr>
            <a:xfrm>
              <a:off x="85320" y="1120680"/>
              <a:ext cx="5994360" cy="334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6320" y="1501560"/>
            <a:ext cx="586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Color blindnes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مى الألوا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disorder inherited a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cessive sex-linked charac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ffect both males and fe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or blind female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may be born to a color blind father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a carrier mother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1143000"/>
            <a:ext cx="9067680" cy="62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common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شائ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meiosis and inclu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hromosomal deletions/translo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نقص أو فقد جزء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من الكروموسو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mologous chromatids ma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break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ـَنكسر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rejo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و تلتحم مرة أخر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incorrect places, thus, one chromatid will loose more genes than it rece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hromosomal dupli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تضاعُ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Polyploid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تعدد الكروموسوم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ult from nondisjunc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عدم الإنفصال الكامل للكروموسومات أثناء الإنقسام الميوز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ing gamete production in one pa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iploid embryo that is homozygous for a large deletion or male with a large deletion to its singl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romosome is usually missing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يفتق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essential genes and this leads to a lethal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ُمِي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plications and translocati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غيير أماكن الأجزاء المقطوع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very harmf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nslocation or inversion can alter phenotype because a gene’s expression is influenced by its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371600" y="1206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romosomal aberr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شذوذ الكروموسوم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romosomal Mu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p108"/>
          <p:cNvPicPr/>
          <p:nvPr/>
        </p:nvPicPr>
        <p:blipFill>
          <a:blip r:embed="rId2"/>
          <a:stretch/>
        </p:blipFill>
        <p:spPr>
          <a:xfrm>
            <a:off x="1270080" y="1662120"/>
            <a:ext cx="6608520" cy="437832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17:27:32Z</dcterms:created>
  <dc:creator>User</dc:creator>
  <dc:description/>
  <dc:language>en-US</dc:language>
  <cp:lastModifiedBy>HP</cp:lastModifiedBy>
  <dcterms:modified xsi:type="dcterms:W3CDTF">2014-01-07T17:13:50Z</dcterms:modified>
  <cp:revision>1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01994D54-395E-4C98-B2A2-9712B3498659</vt:lpwstr>
  </property>
  <property fmtid="{D5CDD505-2E9C-101B-9397-08002B2CF9AE}" pid="3" name="ArticulatePath">
    <vt:lpwstr>Lecture 24</vt:lpwstr>
  </property>
</Properties>
</file>