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FB6-36B2-482A-8418-CAE6B962EE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10F2-16AB-4E61-A366-139216A17E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944-5D28-45DC-8892-0C2CA36B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F60-ED92-412F-AA06-31DF882A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1FA-102A-4199-A288-D263DBA5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984-D9BC-4E0B-99CB-674558D2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97E-801E-4B60-B7F5-8D8B9F51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A0B-BBD6-4BC0-BDED-122EAAB2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3BC-81DF-4951-A8F2-A507C42C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894-9656-4942-B4BD-8F52F4F6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DBD-3512-45E5-B3C8-808F88AA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5C4-A32A-4C84-A52D-459F81AA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109-1BAE-4ECD-858E-026A78F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384-E036-4AA3-A55F-C571DD69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C64-EF41-45AC-80C1-3D2181109A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4076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04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0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16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17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6966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04920" y="63324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04920" y="37339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86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User</cp:lastModifiedBy>
  <dcterms:modified xsi:type="dcterms:W3CDTF">2014-01-04T13:31:20Z</dcterms:modified>
  <cp:revision>113</cp:revision>
  <dc:subject/>
  <dc:title>Slide 1</dc:title>
</cp:coreProperties>
</file>