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9D6A-56F8-49A5-B18C-DC91609585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5068-7FF7-4577-BA71-2C780C131A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991-6363-4F8A-8FE0-CDA675B4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7F5-4FCB-4EDA-B410-6771A46F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B6C-8F63-4F03-BCD6-0DB7EDE4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6C4-DEEA-4464-80D1-9CAE471F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8FD-32AC-44AB-9A70-797AD986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8A7-069F-4539-9AB7-7F0B6232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9EB-4408-4CDE-9C16-0205E422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B92-DAED-4A4D-9B42-F531E89A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5C3-8FF9-46C9-981C-E1819C45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E7D-9466-47AD-BDD2-264E85E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BAA-2984-4D9D-85D4-7511A3EA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CC4-6039-48DF-8C6A-E6664E78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C83-EBDD-452F-8209-3B66B3C62A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4076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04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0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16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17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6966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04920" y="63324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04920" y="37339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86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User</cp:lastModifiedBy>
  <dcterms:modified xsi:type="dcterms:W3CDTF">2014-01-04T13:31:20Z</dcterms:modified>
  <cp:revision>113</cp:revision>
  <dc:subject/>
  <dc:title>Slide 1</dc:title>
</cp:coreProperties>
</file>