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9A3F-4468-4108-93FC-D475BF2008C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A561-541D-4E22-A287-40875794D4C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15C-8E69-460C-917A-D8CDA70F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933-9AB1-4790-841F-EB024AA0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B88-21C6-4646-94DF-A7E948E9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0E4-7F57-4BAC-9E11-B78CFD70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DC8-6259-4A3F-AAF5-BD74CAD6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981-FD5D-4C9E-A1CB-31FB0989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0B07-ED3B-4C5C-883A-C24B75AE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F26-EA55-418F-BEA7-5F04B760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9E8-875F-4BAF-8613-8423077D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650-78C3-4AB5-A4AE-669AF38C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5CB-A0DC-4EA1-BD47-E1638002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6C5-D42B-4890-961C-5191F3F7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BE11-A6F7-4C48-AAE7-1D5444D913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120"/>
            <a:ext cx="88394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1" name="Oval 5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22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23" name="Oval 15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3824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124308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42037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x-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HP</cp:lastModifiedBy>
  <dcterms:modified xsi:type="dcterms:W3CDTF">2014-01-07T17:13:50Z</dcterms:modified>
  <cp:revision>1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1994D54-395E-4C98-B2A2-9712B3498659</vt:lpwstr>
  </property>
  <property fmtid="{D5CDD505-2E9C-101B-9397-08002B2CF9AE}" pid="3" name="ArticulatePath">
    <vt:lpwstr>Lecture 24</vt:lpwstr>
  </property>
</Properties>
</file>