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4DB-5BE9-425C-AC96-E934EE65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3A0-006D-4C5A-9C26-D67DD850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723-23F5-4D04-980D-54AF04D3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839-9323-404E-8CFC-19F96F6F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0063-D78B-41D5-AC16-27BE9DAD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5DC-AD8B-46F1-86EE-902609A6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903A-D5D1-4865-A9DB-B8EDC50C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F3B-4A87-46E7-97CC-625AAD44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2C03-31B6-4BB1-8C9B-A4383865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B35B-3354-4EB7-BB22-17E03B2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8A3F-A52B-42B3-95BA-304B0265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F2B-F741-4383-8B04-08AA2EC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21B-24A2-49F5-A8B8-36678F43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DAFF-AB21-41BA-B4FE-407D909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5598-353C-417F-8800-C6322A76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F16F-FB75-416B-8810-21D40030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F2BF-B614-48ED-A748-01EDEC2D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7E88-CCB5-4EE0-98F6-0BBE11E8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04A3-6681-430E-8274-56507386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CC34-2C9B-482E-975D-95996AD0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3EAF-1CA4-43FE-8736-6374F934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0C23-90CD-4C5C-9CD6-9060D6B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886-CB7B-4878-98DB-742206A7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42CF-6DFF-4B0F-89DB-68D2A7FD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1009-6D0F-4885-B7A0-77074621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49FE-DC27-4FD9-AE47-0274EAB8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972C-9080-4571-9337-EB79B7F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AD97-1682-45E1-95DC-C8638609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2813-6597-4F6D-90B6-84CEBA5A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20A6-EA8E-45AA-AECA-EEA9EADE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1A0E-414E-41CF-A92C-EC685F07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8313-B40B-494C-90A3-DAA3A273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D82D-10F3-4224-9AAB-B2F3CA40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A4F-61E9-4464-8945-6F4A200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9DF1-7816-4E81-A59B-BAC308AD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3A22-6C7D-4506-B614-71FC253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4D0A-7BB4-4CB7-A238-1BD34FB4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4938-F011-4DE4-8AE1-CAD729C5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9EA3-CDD2-4DCC-A966-A6ACB7B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57A0-8C79-4003-8ACF-E4F8A108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EE9F-8AFD-4109-942F-0ADCBFC1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8F80-42C1-4734-97E6-2370B7F1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E3D4-22A5-4AD3-AE1C-C93199EE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E7B-F548-4338-82FE-FC41598A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479-B70A-40F5-AA56-8C52432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208-5F8E-468F-8B5B-8D9B7B12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C3F-70FC-4F24-A906-7B05042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F5F-A691-4FA2-8CD7-DB166BB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A18C-0625-4EE7-8399-F4E41D97CDA7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A336-6BB3-40E4-9D44-A2A1F4A1C78D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9E1B-7672-42AD-A939-310BA5BA6C55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67E-37EF-4E39-9D79-4EB84B67BD8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58840" y="2335320"/>
            <a:ext cx="6662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د أشرف مشالي</cp:lastModifiedBy>
  <cp:lastPrinted>2011-12-15T16:15:06Z</cp:lastPrinted>
  <dcterms:modified xsi:type="dcterms:W3CDTF">2013-09-02T11:17:50Z</dcterms:modified>
  <cp:revision>47</cp:revision>
  <dc:subject/>
  <dc:title>The Structure and Function  of Blood</dc:title>
</cp:coreProperties>
</file>