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5C8-BE6B-41F8-A1AB-6AB9D1D3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335-5785-43CB-B0F5-07BACD6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38C-5377-449B-A26E-CAEEF66C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B85-4958-4304-AA42-9DA4B55B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1EF0-CBD1-4AA0-BA6E-B93DC5F2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49A-CA24-4526-B1B2-1382923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F52-83B6-42EC-8C89-C8D2E061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94A-E7C3-4636-9968-60AA193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19A-E2F1-4340-970B-5A161796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8E75-0E59-480A-A32C-535728EC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76D9-A292-480C-B223-A059A99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310-DF03-4B1D-841A-E63C334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43CC-49D3-46B3-96B1-D996F1F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B1E9-E370-4BAC-92BB-93F3A21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CD2A-4F7C-4FE6-9BA3-BB81CC4B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474-FF93-45D4-82AB-D676BFEA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4828-A849-4960-9624-A292FC74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38BB-E19E-4ABF-9EFF-2DD63273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FDC0-3793-44E1-8EF5-59C906C3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0C67-1F51-4930-8918-CDB925B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FCCA-532A-46F3-87D4-2BA582D8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EA40-D512-4DBE-B2CD-C7ED2B00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41E-552F-450A-AF77-4018E012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DBB0-CEF8-4CBC-85EF-501E1E4A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04BC-70CC-4F4F-8760-1FDAACEF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69D1-122C-4BDF-8346-5E12902B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1C96-C0CD-4225-BD9F-752E6022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4020-5372-4BDA-9EAE-165CFCE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69DD-F2CC-46F3-A070-37013414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A1FB-2A0A-43E2-9A65-1754BEF9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6613-C0CA-4B42-A271-3468A8A7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CCBB-726A-431F-9274-6A844556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DBBE-9D88-4759-B425-2A3FC78E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585-0A05-46A3-B1AD-AFC0728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D113-9C49-4495-86B2-D8339781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94D6-D6CE-4CAB-BFA5-ECB9CCE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F2B9-5A66-4406-BF11-2D5C8DEA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78E9-9748-4498-A187-9F83B45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F84B-E443-4AB9-B4E6-CA884BA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68C3-2EFC-4B0E-99C2-29BC192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E700-66C3-494A-B7AF-35A0B9DE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EC93-F1ED-4FD6-BDDC-1929D53F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584F-F1DE-4797-B2D4-320F5A8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C2D-0972-4840-A734-2A1B049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C1E-693D-46CD-8976-FADBD60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06B-6550-4585-93DB-3FCC6B7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658-A314-4147-8EC3-7F7A852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A26-9DD0-4496-9443-39A0478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0518-30F5-4151-8D63-CB0C352408C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0F4C-05C6-4581-A846-02749D0512C3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9C9-C994-4D62-9148-5889C704F943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F4E0-A77F-43C7-88A8-88564ED9687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58840" y="2335320"/>
            <a:ext cx="6662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د أشرف مشالي</cp:lastModifiedBy>
  <cp:lastPrinted>2011-12-15T16:15:06Z</cp:lastPrinted>
  <dcterms:modified xsi:type="dcterms:W3CDTF">2013-09-02T11:17:50Z</dcterms:modified>
  <cp:revision>47</cp:revision>
  <dc:subject/>
  <dc:title>The Structure and Function  of Blood</dc:title>
</cp:coreProperties>
</file>