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304-0FBD-48F9-A615-279718C0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51E-EF14-4D39-8C66-713D8C62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AD4-CC39-40A0-953F-E2B0AAEA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490-7C43-4F60-A571-4FF2927D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27C7-EDF6-4415-982E-051F4D2F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E3F3-D0B8-478A-AF70-263FC19E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F785-D769-44C2-A66A-B6D2941D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30ED-DAE5-4FD9-9DE1-3634E89F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6134-9584-4339-9A41-DD621929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8DA1-7BFE-4777-AC6E-0DDFFB45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8575-928E-4DE2-9CCB-1EDE0C2E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31A2-5ABF-481A-9760-118D4A03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DFC1-9F2A-42AD-9142-5C3608B4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6EC2-8BE5-4CA5-A170-AC66CDC4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E6C9-4624-4930-9B63-890CFEB3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687F-01F8-46DC-8911-E56E00EB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5BAE-A514-414F-A9D4-AE9E49AF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86273-9E77-4EE8-BCBC-C7B771C1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5EB2-DD96-483F-BA2E-359359B7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30091-D6BC-43A7-9DEF-C20E100A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A836-140C-494B-B083-817E664D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D81F4-FFD9-45F7-856C-03A49790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5AB-5FF4-48C1-BFFF-8D84A1C8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6C5D6-2ACD-4D8C-B26A-9C10D06D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C62BB-AEB7-4ECA-9C80-4F446B61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0F6C4-B521-456B-97D4-39DD1CD9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415DD-01E6-40E3-B421-C73FCDF9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9C1E0-79D7-44A5-A534-7CBF3A57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6835E-E4BA-4AE3-BE8C-F689F772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E7EA5-E0E2-4FC2-85AD-D927B3F2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3EE3-9692-410B-86EF-4A3CD2DF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61862-94A7-4738-AEA6-1BD73321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E6667-0AB4-4CD7-86B2-0D28A1DC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A1A-0BF5-4997-AE7B-CA43DE6D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EC96-66D0-41D2-95CB-53D8E3AE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58F98-C608-4BBA-88F9-48B4D9F4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B8A7-7452-45DF-810E-4A78DB24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4D53A-7661-4A60-8577-6F1367B6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9856A-2EB6-4866-9567-B05D1F02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564C9-7E1A-4053-B1B0-A9F662AC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C2F0-9805-40C5-AE9B-B8B59063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7D062-E744-4283-8EA1-8F13CB89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9351D-C6E6-4B08-9E93-62264A80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EB8-5AD5-48FE-BB06-E25B6F44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3BC-26D2-4FAF-AD0D-FE9EDAB1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E63-F317-4DD1-A870-ADE58537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FB2-4B34-4464-B919-8DE016EC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45B-F9C8-4FBD-85FD-34B0E83E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3024-D779-4281-A207-D5E7EF61C71A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BD42-3344-4E44-A4C8-0C1CE9044445}" type="slidenum"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337A-53DC-49D1-ADDD-606A7E87937C}" type="slidenum"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24D3-E6CF-4B26-BACC-57311C099C8F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163520" y="2341440"/>
            <a:ext cx="6664320" cy="925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FLANDERS\AppData\Local\Microsoft\Windows\Temporary Internet Files\Content.IE5\4SCEXAE9\MP900407342[1].jpg"/>
          <p:cNvPicPr/>
          <p:nvPr/>
        </p:nvPicPr>
        <p:blipFill>
          <a:blip r:embed="rId2"/>
          <a:stretch/>
        </p:blipFill>
        <p:spPr>
          <a:xfrm>
            <a:off x="3276720" y="3200400"/>
            <a:ext cx="264924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1728720" y="961920"/>
            <a:ext cx="5357880" cy="5619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ecture 24: Animal phys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228600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Platelets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196560" indent="-19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rombocytes or PL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agments from the cytoplasm of megakaryocyte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mallest of the blood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-4 micrometers in diame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hape can be round, oval, or appear spik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fe span of around 8-12 day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224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150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96560" indent="-196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543096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4"/>
          <a:stretch/>
        </p:blipFill>
        <p:spPr>
          <a:xfrm>
            <a:off x="5892840" y="4267080"/>
            <a:ext cx="2455920" cy="183060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4"/>
          <p:cNvCxnSpPr/>
          <p:nvPr/>
        </p:nvCxnSpPr>
        <p:spPr>
          <a:xfrm flipH="1">
            <a:off x="7921440" y="3431880"/>
            <a:ext cx="38160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37160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volved in the clotting proc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al wounds and prevent blood lo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lp repair damaged vesse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49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50,000 – 400,000 per microliter of bloo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28600" indent="-228600">
              <a:spcBef>
                <a:spcPts val="601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stain bluish with reddish or purple granu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7626240" y="2027160"/>
            <a:ext cx="1374840" cy="1405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5948280" y="1701720"/>
            <a:ext cx="1689120" cy="1317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4"/>
          <a:stretch/>
        </p:blipFill>
        <p:spPr>
          <a:xfrm>
            <a:off x="6410160" y="4800600"/>
            <a:ext cx="2455920" cy="1830240"/>
          </a:xfrm>
          <a:prstGeom prst="rect">
            <a:avLst/>
          </a:prstGeom>
          <a:ln w="0">
            <a:noFill/>
          </a:ln>
        </p:spPr>
      </p:pic>
      <p:cxnSp>
        <p:nvCxnSpPr>
          <p:cNvPr id="247" name="Straight Arrow Connector 4"/>
          <p:cNvCxnSpPr/>
          <p:nvPr/>
        </p:nvCxnSpPr>
        <p:spPr>
          <a:xfrm flipH="1">
            <a:off x="8381160" y="3916080"/>
            <a:ext cx="381960" cy="111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8" name="Picture 2" descr=""/>
          <p:cNvPicPr/>
          <p:nvPr/>
        </p:nvPicPr>
        <p:blipFill>
          <a:blip r:embed="rId5"/>
          <a:srcRect l="0" t="0" r="0" b="7227"/>
          <a:stretch/>
        </p:blipFill>
        <p:spPr>
          <a:xfrm>
            <a:off x="838080" y="4743360"/>
            <a:ext cx="4581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525780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736360"/>
            <a:ext cx="8229600" cy="29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responsible for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gases (oxygen &amp; carbon dioxi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waste produc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ing nutr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ping remove toxins from the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238880" y="99072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762600" y="3429000"/>
            <a:ext cx="2381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700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lood makes up 6–8% of ou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tal body weigh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rmal adult blood volume is 5 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lood is made up of cellula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terial in a fluid called plasm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7543800" y="6159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2536920" cy="1974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3"/>
          <a:stretch/>
        </p:blipFill>
        <p:spPr>
          <a:xfrm>
            <a:off x="6324480" y="2163600"/>
            <a:ext cx="18288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21733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is a circulating tissue consisting of three types of cell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rythr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te Blood Cel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uk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tele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romb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lls listed above are suspended in a liquid known as plas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7238880" y="76824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6858000" y="3048120"/>
            <a:ext cx="1576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867960"/>
            <a:ext cx="487656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Forma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matopoiesi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the formation and development of blood ce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adults the cellular elements are produced in the bone mar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WBCs are produced in the lymphatic tissue and bone mar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od cells need certain nutrients to form properl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271440" indent="-2336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 include…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r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lic ac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itamin B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blood cells formed com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rom a hematopoietic stem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224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se cells can become an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od ce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76"/>
              </a:spcBef>
              <a:buClr>
                <a:srgbClr val="da1f28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271440">
              <a:lnSpc>
                <a:spcPct val="8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allthingsstemcell.com/wp-content/uploads/2009/02/hematopoiesis_simple1.png"/>
          <p:cNvPicPr/>
          <p:nvPr/>
        </p:nvPicPr>
        <p:blipFill>
          <a:blip r:embed="rId2"/>
          <a:stretch/>
        </p:blipFill>
        <p:spPr>
          <a:xfrm>
            <a:off x="4119480" y="3505320"/>
            <a:ext cx="50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5638680" cy="73188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Composition of Blood</a:t>
            </a:r>
            <a:endParaRPr b="0" lang="en-US" sz="45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blood is made up of cell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at are suspended in liqui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lled plasm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asma makes up 55% of the bloo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asma is made of 90% water an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0% proteins, lipids, carbohydrates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mino acids, antibodies, hormones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ectrolytes, waste, salts, and 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ells make up the remaining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45% of the bloo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d blood cells make up 99% of the blood cell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ite blood cells and platelets make up the other 1%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7200" indent="-4572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7238880" y="692280"/>
            <a:ext cx="1524240" cy="1517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rcRect l="0" t="0" r="3921" b="6850"/>
          <a:stretch/>
        </p:blipFill>
        <p:spPr>
          <a:xfrm>
            <a:off x="5334120" y="2286000"/>
            <a:ext cx="3733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700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2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type of blood cell performs a different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d blood cells (Erythrocy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te blood cells (Leukocy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499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telets (Thrombocyte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1456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7391520" y="99684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3"/>
          <a:stretch/>
        </p:blipFill>
        <p:spPr>
          <a:xfrm>
            <a:off x="4432320" y="5105520"/>
            <a:ext cx="1376280" cy="1403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5"/>
          <a:stretch/>
        </p:blipFill>
        <p:spPr>
          <a:xfrm>
            <a:off x="6545160" y="3344760"/>
            <a:ext cx="254016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3352680" cy="68580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Red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600" y="1752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 indent="-228600">
              <a:spcBef>
                <a:spcPts val="451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rythrocytes or RBC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st abundant cell in the bloo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4 million – 6 million per microliter of blood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med in the bone marro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ture forms do NOT have a nucleu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aped as biconcave disk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6-8 micrometers in diamet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fe span of about 120 day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moglobin (iron protein)i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nd in the RB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emoglobin carries oxygen from th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ungs to the rest of the body and carbo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oxide binds to the RBC and is taken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lungs to be exhaled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399960">
              <a:spcBef>
                <a:spcPts val="451"/>
              </a:spcBef>
              <a:buClr>
                <a:srgbClr val="da1f28"/>
              </a:buClr>
              <a:buSzPct val="70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7315200" y="844560"/>
            <a:ext cx="1523880" cy="1517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5935680" y="2971800"/>
            <a:ext cx="20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6934320" y="4695840"/>
            <a:ext cx="1828800" cy="1771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4"/>
          <a:stretch/>
        </p:blipFill>
        <p:spPr>
          <a:xfrm>
            <a:off x="5288040" y="1600200"/>
            <a:ext cx="14936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3886200" cy="655560"/>
          </a:xfrm>
          <a:prstGeom prst="rect">
            <a:avLst/>
          </a:prstGeom>
          <a:solidFill>
            <a:srgbClr val="b7132e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White Blood Cell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198720" indent="-198720">
              <a:spcBef>
                <a:spcPts val="400"/>
              </a:spcBef>
              <a:buClr>
                <a:srgbClr val="2da2b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eukocytes or WB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argest sized blood cell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owest numbers in the bloo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4,500 – 11,000 per microliter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ormed in the bone marrow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nd some in lymph gland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Primary cells of the immune system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ights disease and foreign invader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ontain nuclei with DNA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 shape depends on type of cel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ertain WBCs produce antibodi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ife span is from 24 hours to several year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ize is 8-20 micrometers in diamet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re are five different types of WBC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Neutr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Eosin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asophil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ymphocyt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buClr>
                <a:srgbClr val="2da2bf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onocyt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249"/>
              </a:spcBef>
              <a:buClr>
                <a:srgbClr val="2da2bf"/>
              </a:buClr>
              <a:buSzPct val="85000"/>
              <a:buFont typeface="Calibri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601"/>
              </a:spcBef>
              <a:buClr>
                <a:srgbClr val="2da2b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98720" indent="-19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524240" cy="1517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6100920" y="1994040"/>
            <a:ext cx="2317680" cy="1739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1687680" cy="1316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4"/>
          <a:stretch/>
        </p:blipFill>
        <p:spPr>
          <a:xfrm>
            <a:off x="5411880" y="4038480"/>
            <a:ext cx="357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2:32:06Z</dcterms:created>
  <dc:creator>Mims, Amanda</dc:creator>
  <dc:description/>
  <dc:language>en-US</dc:language>
  <cp:lastModifiedBy>User</cp:lastModifiedBy>
  <cp:lastPrinted>2011-12-15T16:15:06Z</cp:lastPrinted>
  <dcterms:modified xsi:type="dcterms:W3CDTF">2015-03-10T17:49:07Z</dcterms:modified>
  <cp:revision>47</cp:revision>
  <dc:subject/>
  <dc:title>The Structure and Function  of Blood</dc:title>
</cp:coreProperties>
</file>