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3.png" ContentType="image/png"/>
  <Override PartName="/ppt/media/image26.png" ContentType="image/png"/>
  <Override PartName="/ppt/media/image1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3776-89B4-4BB5-BD62-850F223D1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F97D-9302-41E6-8A29-2AF35CBF3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D5BD-1C87-429B-B126-5A600668A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9AA8-4F9E-4616-8ED9-D25E190A1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E97EB-8E37-4553-909F-20BBB4741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4D7D1-F386-4970-888A-C4FEEC6DA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1B9AE-5000-4AC7-9E22-8BE88BC10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FDA0C-E888-40C1-9398-5C3308BD6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17E59-ED26-4E1B-8369-C430FBC41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78C24-F337-4ED8-BBC6-79D2F2923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2B31A-A0B5-4D02-A69F-63C29570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D1D0-4A16-4F16-9F28-3D0B41AC8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731DB-D999-4919-83A1-F3A6D71C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72FF7-6B42-4C9E-B573-88464E82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38C65-3896-4496-949A-9B9EEA7CC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DC669-9257-4CA6-A796-A9AD0A2F0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E3EDE-988F-4DA9-B2D1-333953D23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A1711-CB2B-4458-9C34-EA82E9617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E7AAE-EF65-47C1-8883-FE4999E62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739F2-45F8-4D9E-8EA5-783B7E419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2093F-FFAE-443F-AE83-B188440CF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15524-471A-4D1E-BCFC-00CE00383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40CD-0ADC-4F0B-9F3F-EBE40078B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59988-62C2-4F10-92F8-B6DA9C063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1D9D3-8479-44BB-94B4-251198BFB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BDA63-E3BA-4764-A5FD-54A56E5E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8D683-E9D5-4A88-8B46-AF841629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7084E-9E9D-47FA-9D66-06FFF071B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182D2-1291-46AC-AB39-9A9CA9B07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C4EC0-7FE8-4968-A93B-0262568E0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0D7FC-9921-4602-9548-DF913ED77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BFF09-B616-4A49-BA2F-901F06E89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ACC28-DB8F-4C14-852E-1927662E8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29E0-22CC-4E57-8C34-DE59BDD61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90255-3FBF-43CC-929F-B9B277A38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BDF7C-216B-4CA4-A89B-C2FA83DE0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A70C9-7BEE-467C-B073-AD2C96BB7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08D94-CD78-4DE2-8C19-7BE78299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F15C8-90FD-49E9-B466-4DA74336F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19C7A-7AA4-401B-BE76-3C259926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9AE0D-03F5-483B-893E-FACFC2AC0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22FA2-7043-4396-9845-94223505D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16D89-367C-45CC-9607-0FCC1828A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FEC0-B03B-4101-A41B-4150ECB63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AE0E-2444-41AA-82F8-3DDF829F2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EF0D-AB50-48DE-98B0-BB95E388D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BE2D-269F-4F3A-AEE0-4F2439DFA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206A-1ED3-4B13-B328-3D389222F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24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901AB-82A5-48DC-BB77-42F345ADBB84}" type="slidenum">
              <a:rPr b="0" lang="en-US" sz="1200" spc="-1" strike="noStrike">
                <a:solidFill>
                  <a:srgbClr val="42424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f5f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4eae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4eae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4ea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29DA0-E7D5-4452-8C34-CADF88E0D713}" type="slidenum">
              <a:rPr b="0" lang="en-US" sz="1200" spc="-1" strike="noStrike">
                <a:solidFill>
                  <a:srgbClr val="d4eae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f5f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4eae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4eae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4ea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860B2-1F1B-4811-943B-415DAFA50779}" type="slidenum">
              <a:rPr b="0" lang="en-US" sz="1200" spc="-1" strike="noStrike">
                <a:solidFill>
                  <a:srgbClr val="d4eae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24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BF783-A8E1-4581-B1F5-D2B382038AD1}" type="slidenum">
              <a:rPr b="0" lang="en-US" sz="1200" spc="-1" strike="noStrike">
                <a:solidFill>
                  <a:srgbClr val="42424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2.png"/><Relationship Id="rId3" Type="http://schemas.openxmlformats.org/officeDocument/2006/relationships/image" Target="../media/image21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1163520" y="2341440"/>
            <a:ext cx="6664320" cy="9255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C:\Users\FLANDERS\AppData\Local\Microsoft\Windows\Temporary Internet Files\Content.IE5\4SCEXAE9\MP900407342[1].jpg"/>
          <p:cNvPicPr/>
          <p:nvPr/>
        </p:nvPicPr>
        <p:blipFill>
          <a:blip r:embed="rId2"/>
          <a:stretch/>
        </p:blipFill>
        <p:spPr>
          <a:xfrm>
            <a:off x="3276720" y="3200400"/>
            <a:ext cx="2649240" cy="342900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2"/>
          <p:cNvSpPr/>
          <p:nvPr/>
        </p:nvSpPr>
        <p:spPr>
          <a:xfrm>
            <a:off x="1728720" y="961920"/>
            <a:ext cx="5357880" cy="561960"/>
          </a:xfrm>
          <a:prstGeom prst="rect">
            <a:avLst/>
          </a:prstGeom>
          <a:solidFill>
            <a:srgbClr val="b713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Lecture 24: Animal phys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2286000" cy="731880"/>
          </a:xfrm>
          <a:prstGeom prst="rect">
            <a:avLst/>
          </a:prstGeom>
          <a:solidFill>
            <a:srgbClr val="b7132e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00"/>
                </a:solidFill>
                <a:latin typeface="Calibri"/>
              </a:rPr>
              <a:t>Platelets</a:t>
            </a:r>
            <a:endParaRPr b="0" lang="en-US" sz="45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70040"/>
            <a:ext cx="822960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lvl="1" marL="196560" indent="-196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49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rombocytes or PLT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24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49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ormed in the bone marrow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24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49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ragments from the cytoplasm of megakaryocytes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249"/>
              </a:spcBef>
              <a:buClr>
                <a:srgbClr val="2da2b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49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mallest of the blood cell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24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49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1-4 micrometers in diamet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24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49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hape can be round, oval, or appear spik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24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49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Life span of around 8-12 day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49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224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150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601"/>
              </a:spcBef>
              <a:buClr>
                <a:srgbClr val="2da2b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7" name="Picture 3" descr=""/>
          <p:cNvPicPr/>
          <p:nvPr/>
        </p:nvPicPr>
        <p:blipFill>
          <a:blip r:embed="rId1"/>
          <a:stretch/>
        </p:blipFill>
        <p:spPr>
          <a:xfrm>
            <a:off x="7238880" y="152280"/>
            <a:ext cx="1524240" cy="15177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"/>
          <p:cNvPicPr/>
          <p:nvPr/>
        </p:nvPicPr>
        <p:blipFill>
          <a:blip r:embed="rId2"/>
          <a:stretch/>
        </p:blipFill>
        <p:spPr>
          <a:xfrm>
            <a:off x="7626240" y="2027160"/>
            <a:ext cx="1374840" cy="14050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" descr=""/>
          <p:cNvPicPr/>
          <p:nvPr/>
        </p:nvPicPr>
        <p:blipFill>
          <a:blip r:embed="rId3"/>
          <a:stretch/>
        </p:blipFill>
        <p:spPr>
          <a:xfrm>
            <a:off x="5430960" y="1701720"/>
            <a:ext cx="1689120" cy="13176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"/>
          <p:cNvPicPr/>
          <p:nvPr/>
        </p:nvPicPr>
        <p:blipFill>
          <a:blip r:embed="rId4"/>
          <a:stretch/>
        </p:blipFill>
        <p:spPr>
          <a:xfrm>
            <a:off x="5892840" y="4267080"/>
            <a:ext cx="2455920" cy="1830600"/>
          </a:xfrm>
          <a:prstGeom prst="rect">
            <a:avLst/>
          </a:prstGeom>
          <a:ln w="0">
            <a:noFill/>
          </a:ln>
        </p:spPr>
      </p:pic>
      <p:cxnSp>
        <p:nvCxnSpPr>
          <p:cNvPr id="241" name="Straight Arrow Connector 4"/>
          <p:cNvCxnSpPr/>
          <p:nvPr/>
        </p:nvCxnSpPr>
        <p:spPr>
          <a:xfrm flipH="1">
            <a:off x="7921440" y="3431880"/>
            <a:ext cx="381600" cy="1113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457200" y="1371600"/>
            <a:ext cx="822960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28600" indent="-228600">
              <a:spcBef>
                <a:spcPts val="49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latelets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28600" indent="-228600">
              <a:spcBef>
                <a:spcPts val="49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volved in the clotting proces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28600" indent="-228600">
              <a:spcBef>
                <a:spcPts val="24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228600" indent="-228600">
              <a:spcBef>
                <a:spcPts val="49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eal wounds and prevent blood los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28600" indent="-228600">
              <a:spcBef>
                <a:spcPts val="24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228600" indent="-228600">
              <a:spcBef>
                <a:spcPts val="49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Help repair damaged vessel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28600" indent="-228600">
              <a:spcBef>
                <a:spcPts val="249"/>
              </a:spcBef>
              <a:buClr>
                <a:srgbClr val="2da2b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228600" indent="-228600">
              <a:spcBef>
                <a:spcPts val="49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150,000 – 400,000 per microliter of blood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28600" indent="-228600">
              <a:spcBef>
                <a:spcPts val="24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228600" indent="-228600">
              <a:spcBef>
                <a:spcPts val="601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latelets stain bluish with reddish or purple granule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3" name="Picture 3" descr=""/>
          <p:cNvPicPr/>
          <p:nvPr/>
        </p:nvPicPr>
        <p:blipFill>
          <a:blip r:embed="rId1"/>
          <a:stretch/>
        </p:blipFill>
        <p:spPr>
          <a:xfrm>
            <a:off x="7238880" y="152280"/>
            <a:ext cx="1524240" cy="15177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5" descr=""/>
          <p:cNvPicPr/>
          <p:nvPr/>
        </p:nvPicPr>
        <p:blipFill>
          <a:blip r:embed="rId2"/>
          <a:stretch/>
        </p:blipFill>
        <p:spPr>
          <a:xfrm>
            <a:off x="7626240" y="2027160"/>
            <a:ext cx="1374840" cy="14050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" descr=""/>
          <p:cNvPicPr/>
          <p:nvPr/>
        </p:nvPicPr>
        <p:blipFill>
          <a:blip r:embed="rId3"/>
          <a:stretch/>
        </p:blipFill>
        <p:spPr>
          <a:xfrm>
            <a:off x="5948280" y="1701720"/>
            <a:ext cx="1689120" cy="13176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5" descr=""/>
          <p:cNvPicPr/>
          <p:nvPr/>
        </p:nvPicPr>
        <p:blipFill>
          <a:blip r:embed="rId4"/>
          <a:stretch/>
        </p:blipFill>
        <p:spPr>
          <a:xfrm>
            <a:off x="6410160" y="4800600"/>
            <a:ext cx="2455920" cy="1830240"/>
          </a:xfrm>
          <a:prstGeom prst="rect">
            <a:avLst/>
          </a:prstGeom>
          <a:ln w="0">
            <a:noFill/>
          </a:ln>
        </p:spPr>
      </p:pic>
      <p:cxnSp>
        <p:nvCxnSpPr>
          <p:cNvPr id="247" name="Straight Arrow Connector 4"/>
          <p:cNvCxnSpPr/>
          <p:nvPr/>
        </p:nvCxnSpPr>
        <p:spPr>
          <a:xfrm flipH="1">
            <a:off x="8381160" y="3916080"/>
            <a:ext cx="381960" cy="1113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48" name="Picture 2" descr=""/>
          <p:cNvPicPr/>
          <p:nvPr/>
        </p:nvPicPr>
        <p:blipFill>
          <a:blip r:embed="rId5"/>
          <a:srcRect l="0" t="0" r="0" b="7227"/>
          <a:stretch/>
        </p:blipFill>
        <p:spPr>
          <a:xfrm>
            <a:off x="838080" y="4743360"/>
            <a:ext cx="458172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371240"/>
            <a:ext cx="5257800" cy="685800"/>
          </a:xfrm>
          <a:prstGeom prst="rect">
            <a:avLst/>
          </a:prstGeom>
          <a:solidFill>
            <a:srgbClr val="b7132e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00"/>
                </a:solidFill>
                <a:latin typeface="Calibri"/>
              </a:rPr>
              <a:t>Composition of Blood</a:t>
            </a:r>
            <a:endParaRPr b="0" lang="en-US" sz="45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2736360"/>
            <a:ext cx="8229600" cy="29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2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lood is responsible for….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ransporting gases (oxygen &amp; carbon dioxide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ransporting waste product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ransporting nutrie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elping remove toxins from the bod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7238880" y="990720"/>
            <a:ext cx="1524240" cy="15174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" descr=""/>
          <p:cNvPicPr/>
          <p:nvPr/>
        </p:nvPicPr>
        <p:blipFill>
          <a:blip r:embed="rId2"/>
          <a:stretch/>
        </p:blipFill>
        <p:spPr>
          <a:xfrm>
            <a:off x="6762600" y="3429000"/>
            <a:ext cx="23814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57200" y="167004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201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01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Blood makes up 6–8% of our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otal body weight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Normal adult blood volume is 5 L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Blood is made up of cellular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material in a fluid called plasma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3" name="Picture 3" descr=""/>
          <p:cNvPicPr/>
          <p:nvPr/>
        </p:nvPicPr>
        <p:blipFill>
          <a:blip r:embed="rId1"/>
          <a:stretch/>
        </p:blipFill>
        <p:spPr>
          <a:xfrm>
            <a:off x="7543800" y="615960"/>
            <a:ext cx="1523880" cy="15177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" descr=""/>
          <p:cNvPicPr/>
          <p:nvPr/>
        </p:nvPicPr>
        <p:blipFill>
          <a:blip r:embed="rId2"/>
          <a:stretch/>
        </p:blipFill>
        <p:spPr>
          <a:xfrm>
            <a:off x="6324480" y="4267080"/>
            <a:ext cx="2536920" cy="19749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"/>
          <p:cNvPicPr/>
          <p:nvPr/>
        </p:nvPicPr>
        <p:blipFill>
          <a:blip r:embed="rId3"/>
          <a:stretch/>
        </p:blipFill>
        <p:spPr>
          <a:xfrm>
            <a:off x="6324480" y="2163600"/>
            <a:ext cx="1828800" cy="20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457200" y="217332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201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lood is a circulating tissue consisting of three types of cell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514440">
              <a:spcBef>
                <a:spcPts val="601"/>
              </a:spcBef>
              <a:buClr>
                <a:srgbClr val="2da2bf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d Blood Cell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Erythrocy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514440">
              <a:spcBef>
                <a:spcPts val="601"/>
              </a:spcBef>
              <a:buClr>
                <a:srgbClr val="2da2bf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ite Blood Cell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Leukocy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514440">
              <a:spcBef>
                <a:spcPts val="601"/>
              </a:spcBef>
              <a:buClr>
                <a:srgbClr val="2da2bf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latelet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Thrombocy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514440">
              <a:spcBef>
                <a:spcPts val="601"/>
              </a:spcBef>
              <a:buClr>
                <a:srgbClr val="2da2bf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514440">
              <a:spcBef>
                <a:spcPts val="601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cells listed above are suspended in a liquid known as plasm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3" descr=""/>
          <p:cNvPicPr/>
          <p:nvPr/>
        </p:nvPicPr>
        <p:blipFill>
          <a:blip r:embed="rId1"/>
          <a:stretch/>
        </p:blipFill>
        <p:spPr>
          <a:xfrm>
            <a:off x="7238880" y="768240"/>
            <a:ext cx="1524240" cy="15177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" descr=""/>
          <p:cNvPicPr/>
          <p:nvPr/>
        </p:nvPicPr>
        <p:blipFill>
          <a:blip r:embed="rId2"/>
          <a:stretch/>
        </p:blipFill>
        <p:spPr>
          <a:xfrm>
            <a:off x="6858000" y="3048120"/>
            <a:ext cx="157644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520" y="867960"/>
            <a:ext cx="4876560" cy="731880"/>
          </a:xfrm>
          <a:prstGeom prst="rect">
            <a:avLst/>
          </a:prstGeom>
          <a:solidFill>
            <a:srgbClr val="b7132e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00"/>
                </a:solidFill>
                <a:latin typeface="Calibri"/>
              </a:rPr>
              <a:t>Formation of Blood</a:t>
            </a:r>
            <a:endParaRPr b="0" lang="en-US" sz="45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670040"/>
            <a:ext cx="822960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176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lvl="1" marL="271440" indent="-233640">
              <a:lnSpc>
                <a:spcPct val="8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Hematopoiesi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the formation and development of blood cell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71440" indent="-233640">
              <a:lnSpc>
                <a:spcPct val="80000"/>
              </a:lnSpc>
              <a:spcBef>
                <a:spcPts val="24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271440" indent="-233640">
              <a:lnSpc>
                <a:spcPct val="8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 adults the cellular elements are produced in the bone marrow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71440" indent="-233640">
              <a:lnSpc>
                <a:spcPct val="80000"/>
              </a:lnSpc>
              <a:spcBef>
                <a:spcPts val="24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271440" indent="-233640">
              <a:lnSpc>
                <a:spcPct val="8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ome WBCs are produced in the lymphatic tissue and bone marrow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71440" indent="-233640">
              <a:lnSpc>
                <a:spcPct val="80000"/>
              </a:lnSpc>
              <a:spcBef>
                <a:spcPts val="224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lvl="1" marL="271440" indent="-233640">
              <a:lnSpc>
                <a:spcPct val="8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lood cells need certain nutrients to form properl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71440" indent="-233640">
              <a:lnSpc>
                <a:spcPct val="80000"/>
              </a:lnSpc>
              <a:spcBef>
                <a:spcPts val="224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lvl="1" marL="271440" indent="-233640">
              <a:lnSpc>
                <a:spcPct val="8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xamples include….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271440">
              <a:lnSpc>
                <a:spcPct val="80000"/>
              </a:lnSpc>
              <a:spcBef>
                <a:spcPts val="499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r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271440">
              <a:lnSpc>
                <a:spcPct val="80000"/>
              </a:lnSpc>
              <a:spcBef>
                <a:spcPts val="499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olic aci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271440">
              <a:lnSpc>
                <a:spcPct val="80000"/>
              </a:lnSpc>
              <a:spcBef>
                <a:spcPts val="499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Vitamin B12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271440">
              <a:lnSpc>
                <a:spcPct val="8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271440">
              <a:lnSpc>
                <a:spcPct val="80000"/>
              </a:lnSpc>
              <a:spcBef>
                <a:spcPts val="499"/>
              </a:spcBef>
              <a:buClr>
                <a:srgbClr val="da1f28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ll blood cells formed come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271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rom a hematopoietic stem cell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271440">
              <a:lnSpc>
                <a:spcPct val="80000"/>
              </a:lnSpc>
              <a:spcBef>
                <a:spcPts val="224"/>
              </a:spcBef>
              <a:buClr>
                <a:srgbClr val="da1f28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lvl="2" marL="271440">
              <a:lnSpc>
                <a:spcPct val="80000"/>
              </a:lnSpc>
              <a:spcBef>
                <a:spcPts val="499"/>
              </a:spcBef>
              <a:buClr>
                <a:srgbClr val="da1f28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se cells can become any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271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lood cell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271440">
              <a:lnSpc>
                <a:spcPct val="80000"/>
              </a:lnSpc>
              <a:spcBef>
                <a:spcPts val="476"/>
              </a:spcBef>
              <a:buClr>
                <a:srgbClr val="da1f28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271440">
              <a:lnSpc>
                <a:spcPct val="8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271440">
              <a:lnSpc>
                <a:spcPct val="8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Picture 3" descr=""/>
          <p:cNvPicPr/>
          <p:nvPr/>
        </p:nvPicPr>
        <p:blipFill>
          <a:blip r:embed="rId1"/>
          <a:stretch/>
        </p:blipFill>
        <p:spPr>
          <a:xfrm>
            <a:off x="7238880" y="152280"/>
            <a:ext cx="1524240" cy="15177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" descr="http://www.allthingsstemcell.com/wp-content/uploads/2009/02/hematopoiesis_simple1.png"/>
          <p:cNvPicPr/>
          <p:nvPr/>
        </p:nvPicPr>
        <p:blipFill>
          <a:blip r:embed="rId2"/>
          <a:stretch/>
        </p:blipFill>
        <p:spPr>
          <a:xfrm>
            <a:off x="4119480" y="3505320"/>
            <a:ext cx="50245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160" y="914040"/>
            <a:ext cx="5638680" cy="731880"/>
          </a:xfrm>
          <a:prstGeom prst="rect">
            <a:avLst/>
          </a:prstGeom>
          <a:solidFill>
            <a:srgbClr val="b7132e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00"/>
                </a:solidFill>
                <a:latin typeface="Calibri"/>
              </a:rPr>
              <a:t>Composition of Blood</a:t>
            </a:r>
            <a:endParaRPr b="0" lang="en-US" sz="45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670040"/>
            <a:ext cx="822960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176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e blood is made up of cells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at are suspended in liquid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called plasma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5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Plasma makes up 55% of the blood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5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Plasma is made of 90% water and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10% proteins, lipids, carbohydrates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mino acids, antibodies, hormones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electrolytes, waste, salts, and ion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5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Blood cells make up the remaining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45% of the blood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Red blood cells make up 99% of the blood cell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49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White blood cells and platelets make up the other 1%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457200" indent="-457200">
              <a:lnSpc>
                <a:spcPct val="80000"/>
              </a:lnSpc>
              <a:spcBef>
                <a:spcPts val="601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Picture 3" descr=""/>
          <p:cNvPicPr/>
          <p:nvPr/>
        </p:nvPicPr>
        <p:blipFill>
          <a:blip r:embed="rId1"/>
          <a:stretch/>
        </p:blipFill>
        <p:spPr>
          <a:xfrm>
            <a:off x="7238880" y="692280"/>
            <a:ext cx="1524240" cy="15174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"/>
          <p:cNvPicPr/>
          <p:nvPr/>
        </p:nvPicPr>
        <p:blipFill>
          <a:blip r:embed="rId2"/>
          <a:srcRect l="0" t="0" r="3921" b="6850"/>
          <a:stretch/>
        </p:blipFill>
        <p:spPr>
          <a:xfrm>
            <a:off x="5334120" y="2286000"/>
            <a:ext cx="37335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457200" y="1670040"/>
            <a:ext cx="822960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201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214560" indent="-214560">
              <a:spcBef>
                <a:spcPts val="49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ach type of blood cell performs a different functio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14560" indent="-214560">
              <a:spcBef>
                <a:spcPts val="24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214560" indent="-214560">
              <a:spcBef>
                <a:spcPts val="24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214560" indent="-214560">
              <a:spcBef>
                <a:spcPts val="24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214560" indent="-214560">
              <a:spcBef>
                <a:spcPts val="49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Red blood cells (Erythrocyte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14560" indent="-214560">
              <a:spcBef>
                <a:spcPts val="49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14560" indent="-214560">
              <a:spcBef>
                <a:spcPts val="49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14560" indent="-214560">
              <a:spcBef>
                <a:spcPts val="49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14560" indent="-214560">
              <a:spcBef>
                <a:spcPts val="49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hite blood cells (Leukocyte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14560" indent="-214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14560" indent="-214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14560" indent="-2145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214560" indent="-214560">
              <a:spcBef>
                <a:spcPts val="49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latelets (Thrombocytes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14560" indent="-214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14560" indent="-214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Picture 3" descr=""/>
          <p:cNvPicPr/>
          <p:nvPr/>
        </p:nvPicPr>
        <p:blipFill>
          <a:blip r:embed="rId1"/>
          <a:stretch/>
        </p:blipFill>
        <p:spPr>
          <a:xfrm>
            <a:off x="7391520" y="996840"/>
            <a:ext cx="1523880" cy="15177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"/>
          <p:cNvPicPr/>
          <p:nvPr/>
        </p:nvPicPr>
        <p:blipFill>
          <a:blip r:embed="rId2"/>
          <a:stretch/>
        </p:blipFill>
        <p:spPr>
          <a:xfrm>
            <a:off x="4343400" y="3733920"/>
            <a:ext cx="1600200" cy="11998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"/>
          <p:cNvPicPr/>
          <p:nvPr/>
        </p:nvPicPr>
        <p:blipFill>
          <a:blip r:embed="rId3"/>
          <a:stretch/>
        </p:blipFill>
        <p:spPr>
          <a:xfrm>
            <a:off x="4432320" y="5105520"/>
            <a:ext cx="1376280" cy="14032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"/>
          <p:cNvPicPr/>
          <p:nvPr/>
        </p:nvPicPr>
        <p:blipFill>
          <a:blip r:embed="rId4"/>
          <a:stretch/>
        </p:blipFill>
        <p:spPr>
          <a:xfrm>
            <a:off x="4343400" y="2362320"/>
            <a:ext cx="1600200" cy="11998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"/>
          <p:cNvPicPr/>
          <p:nvPr/>
        </p:nvPicPr>
        <p:blipFill>
          <a:blip r:embed="rId5"/>
          <a:stretch/>
        </p:blipFill>
        <p:spPr>
          <a:xfrm>
            <a:off x="6545160" y="3344760"/>
            <a:ext cx="254016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3352680" cy="685800"/>
          </a:xfrm>
          <a:prstGeom prst="rect">
            <a:avLst/>
          </a:prstGeom>
          <a:solidFill>
            <a:srgbClr val="b7132e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Red Blood Cells</a:t>
            </a: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228600" y="17524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28600" indent="-228600">
              <a:spcBef>
                <a:spcPts val="451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rythrocytes or RBC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399960">
              <a:spcBef>
                <a:spcPts val="451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Most abundant cell in the blood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399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(4 million – 6 million per microliter of blood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399960">
              <a:spcBef>
                <a:spcPts val="451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ormed in the bone marrow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399960">
              <a:spcBef>
                <a:spcPts val="451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Mature forms do NOT have a nucleu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399960">
              <a:spcBef>
                <a:spcPts val="451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haped as biconcave disks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399960">
              <a:spcBef>
                <a:spcPts val="451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6-8 micrometers in diamete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399960">
              <a:spcBef>
                <a:spcPts val="451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Life span of about 120 day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399960">
              <a:spcBef>
                <a:spcPts val="451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emoglobin (iron protein)is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399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ound in the RBC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399960">
              <a:spcBef>
                <a:spcPts val="451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emoglobin carries oxygen from the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399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lungs to the rest of the body and carbon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399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ioxide binds to the RBC and is taken to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399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e lungs to be exhaled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399960">
              <a:spcBef>
                <a:spcPts val="451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399960">
              <a:spcBef>
                <a:spcPts val="451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5" name="Picture 3" descr=""/>
          <p:cNvPicPr/>
          <p:nvPr/>
        </p:nvPicPr>
        <p:blipFill>
          <a:blip r:embed="rId1"/>
          <a:stretch/>
        </p:blipFill>
        <p:spPr>
          <a:xfrm>
            <a:off x="7315200" y="844560"/>
            <a:ext cx="1523880" cy="15177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"/>
          <p:cNvPicPr/>
          <p:nvPr/>
        </p:nvPicPr>
        <p:blipFill>
          <a:blip r:embed="rId2"/>
          <a:stretch/>
        </p:blipFill>
        <p:spPr>
          <a:xfrm>
            <a:off x="5935680" y="2971800"/>
            <a:ext cx="2043000" cy="15318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" descr=""/>
          <p:cNvPicPr/>
          <p:nvPr/>
        </p:nvPicPr>
        <p:blipFill>
          <a:blip r:embed="rId3"/>
          <a:stretch/>
        </p:blipFill>
        <p:spPr>
          <a:xfrm>
            <a:off x="6934320" y="4695840"/>
            <a:ext cx="1828800" cy="17715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" descr=""/>
          <p:cNvPicPr/>
          <p:nvPr/>
        </p:nvPicPr>
        <p:blipFill>
          <a:blip r:embed="rId4"/>
          <a:stretch/>
        </p:blipFill>
        <p:spPr>
          <a:xfrm>
            <a:off x="5288040" y="1600200"/>
            <a:ext cx="149364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3886200" cy="655560"/>
          </a:xfrm>
          <a:prstGeom prst="rect">
            <a:avLst/>
          </a:prstGeom>
          <a:solidFill>
            <a:srgbClr val="b7132e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White Blood Cells</a:t>
            </a: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76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lvl="1" marL="198720" indent="-198720">
              <a:spcBef>
                <a:spcPts val="400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Leukocytes or WBC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Largest sized blood cells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Lowest numbers in the blood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(4,500 – 11,000 per microliter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Formed in the bone marrow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and some in lymph glands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Primary cells of the immune system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Fights disease and foreign invader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Contain nuclei with DNA,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the shape depends on type of cell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Certain WBCs produce antibodie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Life span is from 24 hours to several years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Size is 8-20 micrometers in diameter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There are five different types of WBC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buClr>
                <a:srgbClr val="2da2bf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Neutrophil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buClr>
                <a:srgbClr val="2da2bf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Eosinophil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buClr>
                <a:srgbClr val="2da2bf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Basophil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buClr>
                <a:srgbClr val="2da2bf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Lymphocyte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buClr>
                <a:srgbClr val="2da2bf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Monocyte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spcBef>
                <a:spcPts val="24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spcBef>
                <a:spcPts val="601"/>
              </a:spcBef>
              <a:buClr>
                <a:srgbClr val="2da2b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1" name="Picture 3" descr=""/>
          <p:cNvPicPr/>
          <p:nvPr/>
        </p:nvPicPr>
        <p:blipFill>
          <a:blip r:embed="rId1"/>
          <a:stretch/>
        </p:blipFill>
        <p:spPr>
          <a:xfrm>
            <a:off x="7238880" y="152280"/>
            <a:ext cx="1524240" cy="15177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" descr=""/>
          <p:cNvPicPr/>
          <p:nvPr/>
        </p:nvPicPr>
        <p:blipFill>
          <a:blip r:embed="rId2"/>
          <a:stretch/>
        </p:blipFill>
        <p:spPr>
          <a:xfrm>
            <a:off x="6100920" y="1994040"/>
            <a:ext cx="2317680" cy="17398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" descr=""/>
          <p:cNvPicPr/>
          <p:nvPr/>
        </p:nvPicPr>
        <p:blipFill>
          <a:blip r:embed="rId3"/>
          <a:stretch/>
        </p:blipFill>
        <p:spPr>
          <a:xfrm>
            <a:off x="4267080" y="1828800"/>
            <a:ext cx="1687680" cy="13161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" descr=""/>
          <p:cNvPicPr/>
          <p:nvPr/>
        </p:nvPicPr>
        <p:blipFill>
          <a:blip r:embed="rId4"/>
          <a:stretch/>
        </p:blipFill>
        <p:spPr>
          <a:xfrm>
            <a:off x="5411880" y="4038480"/>
            <a:ext cx="35766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3T12:32:06Z</dcterms:created>
  <dc:creator>Mims, Amanda</dc:creator>
  <dc:description/>
  <dc:language>en-US</dc:language>
  <cp:lastModifiedBy>User</cp:lastModifiedBy>
  <cp:lastPrinted>2011-12-15T16:15:06Z</cp:lastPrinted>
  <dcterms:modified xsi:type="dcterms:W3CDTF">2015-03-10T17:49:07Z</dcterms:modified>
  <cp:revision>47</cp:revision>
  <dc:subject/>
  <dc:title>The Structure and Function  of Blood</dc:title>
</cp:coreProperties>
</file>