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43C-3D18-4814-A1FE-4CE6AAED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A93-8EB0-4FB5-A4A9-4F9CBFA6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9A5-472A-495F-8192-CF8BC579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21B6-3147-400E-B20A-E98570A2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15BC-E057-4D81-A346-354E8F53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17D4-4FB7-4188-ACD5-F3569B9D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8097-0A7C-437C-8B66-050EEBAA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2B22-F5C3-45BB-9173-45DA2404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4B6A-A67F-449E-A80F-325373BD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CB83-FF9B-47E8-A4BD-108977B1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6109-71DA-4F48-812A-7783795E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0D2-9FAC-42B8-9F73-E9E9508B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8D48-E6ED-4227-94A4-F6E4BBE0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316F-F7BC-46CE-8D7F-0C75DD3E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3E73-5379-4DBB-BA69-662B7BFB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B880-DB8C-41CC-B700-9F431042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0F55-90D2-43B9-A184-C93472EC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FAEB1-C56E-4E57-8432-50CC019A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1F759-179B-4DAC-814B-4CD3C117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CF800-01AF-4F12-BB05-4FFC733F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46CB5-AEA4-4E91-8ACC-3E2FA503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51F8C-F271-4B21-8CFB-8FD76872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4EF7-2A96-4CF1-9CC1-03324AB8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2D744-A43F-4EE3-92AE-0447BE40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C4152-B09A-4F8B-870C-05811A44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E8994-5559-4091-8229-1FA73FF3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E2EE5-AB19-44C4-8AA2-477B9123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054FD-D708-4B43-AF22-41D291D9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1651D-007A-42D7-935A-641F128D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C3BF0-9608-45BF-BC66-9C67F72D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36C5A-1624-4290-8E74-B2DA0ECE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77534-384B-435D-8C8C-AEA0B66A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2D640-72C3-4BFD-A09B-C200E459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589-B877-4B00-AAB5-E016E6D1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9C3E6-777B-4A1C-A9F9-29244D29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2B05D-4C09-4788-BA9B-3E91F48F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09B63-3D9D-485A-ACA3-FCBD011D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7413C-9C91-4087-8DB3-4CBA326D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05244-12FE-4E7C-BBCA-C921941C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064E6-B187-472C-87C8-18C6B37E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59C8A-B9F6-45B3-8EBC-757DA159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49283-9922-4238-A36C-26AFDB90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7E13F-7082-4FDD-B2F5-85C9132B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2C5-9A80-44F4-94D2-65A82481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CCE2-6BAB-4017-9F02-CE387142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8C69-27D2-4FA7-B079-61557664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A064-4899-4A16-BE3F-D9278ABE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7480-C393-4946-9CA7-8F19F0E1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B5EB-DC85-4150-8A15-58D8DD43B2D8}" type="slidenum">
              <a:rPr b="0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4D6A-DADD-4004-8530-47C55DBE32BC}" type="slidenum">
              <a:rPr b="0" lang="en-US" sz="1200" spc="-1" strike="noStrike">
                <a:solidFill>
                  <a:srgbClr val="d4eae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95BB-FDDF-4953-B61F-737ECFB8AF59}" type="slidenum">
              <a:rPr b="0" lang="en-US" sz="1200" spc="-1" strike="noStrike">
                <a:solidFill>
                  <a:srgbClr val="d4eae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C8F9-76F6-43BD-BB56-239AC980BD42}" type="slidenum">
              <a:rPr b="0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920" y="2057040"/>
            <a:ext cx="8229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ood is responsible for…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gases (oxygen &amp; carbon dioxid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waste produc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nutri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lping remove toxins from the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457200" y="457200"/>
            <a:ext cx="8153280" cy="5619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ecture 24: The structure and function of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52280" y="45684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ood makes u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–8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our total body weigh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rmal adult blood volume 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ood is made up of cellular material in a fluid called plas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is a circulating tissue consisting of three types of cell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Erythr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te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Leuk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tele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hromb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5769000" y="3962520"/>
            <a:ext cx="31464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87656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Forma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600" y="160020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285840" indent="-2462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adults the cellular elements are produced in the bone marr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85840" indent="-2462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WBCs are produced in the lymphatic tissue and bone marr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85840" indent="-2462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ood cells need certain nutrients to form prope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85840" indent="-2462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s include…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lic aci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tamin B1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blood cells formed come from a hematopoietic stem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se cells can become any blood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63868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Composi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2280" y="151776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76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lood is made up of cells that are suspended in liquid      called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plasm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ma makes up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55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 bloo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ma is made of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90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ater 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10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roteins, lipids, carbohydrates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ino acids, antibodies, hormones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sal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ood cells make up the remain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45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 bloo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 blood cells make up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99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 blood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te blood cells and platelets make up the other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1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rcRect l="0" t="0" r="30653" b="6850"/>
          <a:stretch/>
        </p:blipFill>
        <p:spPr>
          <a:xfrm>
            <a:off x="6143760" y="2209680"/>
            <a:ext cx="26953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35268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Red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60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601"/>
              </a:spcBef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rythrocytes or RB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abundant cell in the bloo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illion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illion per microliter of blood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med in the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bone marr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ture forms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do NOT hav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 nucle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fe span of abou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Hemoglobi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iron protein)is found in the RB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moglobin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carries oxyge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m the lungs to the rest of     the body and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carbon dioxid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ds to the RBC and is taken to the lungs to be exhal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60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6299280" y="45720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3886200" cy="65592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White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824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ukocytes or WB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rgest sized blood cell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west numbers in the blood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,500 – 11,000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 microlite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med in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bone marrow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some in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lymph gland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imary cells of the immune system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ghts disease and foreign inva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ain nuclei with DNA, the shape depends on type of ce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ertain WBCs produce antibod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Life spa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fro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hours to several yea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228600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Platelets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28600" y="1447920"/>
            <a:ext cx="861048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lvl="1" marL="159840" indent="-15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ombocytes or PL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med in the bone marrow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mallest of the blood 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fe span of arou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-1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olved in the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clotting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0,000 – 400,000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 microliter of bloo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2:32:06Z</dcterms:created>
  <dc:creator>Mims, Amanda</dc:creator>
  <dc:description/>
  <dc:language>en-US</dc:language>
  <cp:lastModifiedBy>User</cp:lastModifiedBy>
  <cp:lastPrinted>2011-12-15T16:15:06Z</cp:lastPrinted>
  <dcterms:modified xsi:type="dcterms:W3CDTF">2016-04-24T06:42:04Z</dcterms:modified>
  <cp:revision>76</cp:revision>
  <dc:subject/>
  <dc:title>The Structure and Function  of Blood</dc:title>
</cp:coreProperties>
</file>