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7ED6-C14B-46E0-B0FE-EE69A915D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EEFF-671F-461A-AA5C-F0CEE172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ECBA-43E0-4CD9-BD5E-5D0CEEFB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9366-4490-4681-80C7-A59D9D2E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D56D-1A71-4FC0-AFC7-F61380CB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8C75-489E-4998-9FA0-44557A4D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347F-2B9A-40F9-9D7C-C8D16F9F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0862-B8E7-4889-9953-CB81E45B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4FE4-A3BC-4311-A4BB-683D5E48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AF4F-654C-4A8B-B8D9-911BD652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55F8-8D7F-4B22-89F5-E80EA8E7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6DEB-AA62-4C16-A2F9-F34ACFE3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7F55-AABD-4D8C-8AE8-B79C67A6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5309-E16B-46E2-A2AD-89EAF966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0DDC-F970-462A-BA24-B2F42082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DA2B-EC6D-464F-981B-A008BA396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0E6D-B1DB-4654-95AD-09D60F9D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490D7-89B3-4A71-822E-FFED25188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1283A-301A-4ECD-8ED9-6DBA6057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A1ACA-478A-4099-A013-0AC6A8C2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5D097-ADB9-4D48-AA8E-804239A3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D6A06-4711-4C34-9EAD-32FA012B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4BC2-8156-46B8-8276-DB093033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B59BF-0EC0-42E1-9313-70B4B48B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B63CD-536F-443E-8CA9-4C85E29A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432CD-86BF-4E51-93CF-35B34098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B13E5-6661-4DFA-B2F2-9BB300E4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BB6DC-B235-45EB-B5FD-0C0F2088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9897E-FF68-4BF3-8BC0-0B9F33BDF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D374D-EAA9-40E2-9671-D596E02D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2BB48-78C8-408A-9924-013A4703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3B802-EE61-43F1-82DB-47579B58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DBBA3-BAC8-4C78-A699-5D504096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E5D1-8D41-4102-947E-DA70638A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3E446-1789-4A68-A088-EB74A38F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F9ACB-F6B7-44E3-BF18-314F5535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60A68-FB4B-4A4D-AD05-41F9706A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A02E5-5362-4F3A-A346-9F104EB5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D4F03-0614-4F75-9F18-F6909B84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EC99A-DDD0-4B59-B150-591337D7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8E653-FFAB-4DCB-8DFD-9DA25163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3924C-A870-43C7-93E9-F5DB5AC8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F1FB8-3512-4F1C-8707-AF02EAA65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7268-2B37-4A9D-98F5-78CEE837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CBA6-33DD-450B-B38D-B2DDFBB8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6BC3-2E9A-4E94-A1F4-7B1FCB51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F14D-D20F-4B8F-960F-4DE37C09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46DB-94E1-46E7-945A-3D163C0F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E660-E156-4E36-9358-6C1AF241F7D8}" type="slidenum">
              <a:rPr b="0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AFCD-02DF-4170-A7A4-985406ABC121}" type="slidenum">
              <a:rPr b="0" lang="en-US" sz="1200" spc="-1" strike="noStrike">
                <a:solidFill>
                  <a:srgbClr val="d4eae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7655-44D2-4A24-AD7F-295DE9F5808B}" type="slidenum">
              <a:rPr b="0" lang="en-US" sz="1200" spc="-1" strike="noStrike">
                <a:solidFill>
                  <a:srgbClr val="d4eae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0029-EED7-4055-B8CE-106E03BB1604}" type="slidenum">
              <a:rPr b="0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04920" y="2057040"/>
            <a:ext cx="8229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lood is responsible for….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porting gases (oxygen &amp; carbon dioxid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porting waste product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porting nutri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lping remove toxins from the bod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457200" y="457200"/>
            <a:ext cx="8153280" cy="56196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Lecture 24: The structure and function of bl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52280" y="45684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lood makes up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–8%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our total body weigh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rmal adult blood volume i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lood is made up of cellular material in a fluid called plasm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lood is a circulating tissue consisting of three types of cell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d Blood Cel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Erythr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ite Blood Cel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Leuk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tele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Thromb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5769000" y="3962520"/>
            <a:ext cx="31464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4876560" cy="7318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Formation of Blood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28600" y="1600200"/>
            <a:ext cx="86868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285840" indent="-2462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adults the cellular elements are produced in the bone marrow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85840" indent="-2462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me WBCs are produced in the lymphatic tissue and bone marrow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85840" indent="-2462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lood cells need certain nutrients to form properl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85840" indent="-2462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amples include….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2858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2858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lic aci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2858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itamin B1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2858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 blood cells formed come from a hematopoietic stem c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2858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se cells can become any blood c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2858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285840" algn="just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285840">
              <a:lnSpc>
                <a:spcPct val="90000"/>
              </a:lnSpc>
              <a:spcBef>
                <a:spcPts val="60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638680" cy="7318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Composition of Blood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52280" y="151776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76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blood is made up of cells that are suspended in liquid      called </a:t>
            </a:r>
            <a:r>
              <a:rPr b="0" lang="en-US" sz="2400" spc="-1" strike="noStrike">
                <a:solidFill>
                  <a:srgbClr val="ff1d1d"/>
                </a:solidFill>
                <a:latin typeface="Constantia"/>
              </a:rPr>
              <a:t>plasm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sma makes up </a:t>
            </a:r>
            <a:r>
              <a:rPr b="0" lang="en-US" sz="2400" spc="-1" strike="noStrike">
                <a:solidFill>
                  <a:srgbClr val="ff1d1d"/>
                </a:solidFill>
                <a:latin typeface="Calibri"/>
              </a:rPr>
              <a:t>55%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the bloo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sma is made of </a:t>
            </a:r>
            <a:r>
              <a:rPr b="0" lang="en-US" sz="2400" spc="-1" strike="noStrike">
                <a:solidFill>
                  <a:srgbClr val="ff1d1d"/>
                </a:solidFill>
                <a:latin typeface="Calibri"/>
              </a:rPr>
              <a:t>90%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water 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400" spc="-1" strike="noStrike">
                <a:solidFill>
                  <a:srgbClr val="ff1d1d"/>
                </a:solidFill>
                <a:latin typeface="Calibri"/>
              </a:rPr>
              <a:t>10%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proteins, lipids, carbohydrates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mino acids, antibodies, hormones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sal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lood cells make up the remaining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400" spc="-1" strike="noStrike">
                <a:solidFill>
                  <a:srgbClr val="ff1d1d"/>
                </a:solidFill>
                <a:latin typeface="Calibri"/>
              </a:rPr>
              <a:t>45%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the bloo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d blood cells make up </a:t>
            </a:r>
            <a:r>
              <a:rPr b="0" lang="en-US" sz="2400" spc="-1" strike="noStrike">
                <a:solidFill>
                  <a:srgbClr val="ff1d1d"/>
                </a:solidFill>
                <a:latin typeface="Calibri"/>
              </a:rPr>
              <a:t>99%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the blood cel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ite blood cells and platelets make up the other </a:t>
            </a:r>
            <a:r>
              <a:rPr b="0" lang="en-US" sz="2400" spc="-1" strike="noStrike">
                <a:solidFill>
                  <a:srgbClr val="ff1d1d"/>
                </a:solidFill>
                <a:latin typeface="Calibri"/>
              </a:rPr>
              <a:t>1%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57200" indent="-45720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rcRect l="0" t="0" r="30653" b="6850"/>
          <a:stretch/>
        </p:blipFill>
        <p:spPr>
          <a:xfrm>
            <a:off x="6143760" y="2209680"/>
            <a:ext cx="26953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352680" cy="68580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Red Blood Cells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28600" y="17521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601"/>
              </a:spcBef>
              <a:buClr>
                <a:srgbClr val="00b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rythrocytes or RBC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b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abundant cell in the bloo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399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million 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million per microliter of blood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399960" algn="just">
              <a:spcBef>
                <a:spcPts val="601"/>
              </a:spcBef>
              <a:buClr>
                <a:srgbClr val="00b05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med in the </a:t>
            </a:r>
            <a:r>
              <a:rPr b="0" lang="en-US" sz="2400" spc="-1" strike="noStrike">
                <a:solidFill>
                  <a:srgbClr val="ff1d1d"/>
                </a:solidFill>
                <a:latin typeface="Constantia"/>
              </a:rPr>
              <a:t>bone marrow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399960" algn="just">
              <a:spcBef>
                <a:spcPts val="601"/>
              </a:spcBef>
              <a:buClr>
                <a:srgbClr val="00b05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ture forms </a:t>
            </a:r>
            <a:r>
              <a:rPr b="0" lang="en-US" sz="2400" spc="-1" strike="noStrike">
                <a:solidFill>
                  <a:srgbClr val="ff1d1d"/>
                </a:solidFill>
                <a:latin typeface="Constantia"/>
              </a:rPr>
              <a:t>do NOT hav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 nucle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399960" algn="just">
              <a:spcBef>
                <a:spcPts val="601"/>
              </a:spcBef>
              <a:buClr>
                <a:srgbClr val="00b05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fe span of abou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399960" algn="just">
              <a:spcBef>
                <a:spcPts val="601"/>
              </a:spcBef>
              <a:buClr>
                <a:srgbClr val="00b05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d1d"/>
                </a:solidFill>
                <a:latin typeface="Constantia"/>
              </a:rPr>
              <a:t>Hemoglobi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(iron protein)is found in the RB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399960" algn="just">
              <a:spcBef>
                <a:spcPts val="601"/>
              </a:spcBef>
              <a:buClr>
                <a:srgbClr val="00b05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moglobin </a:t>
            </a:r>
            <a:r>
              <a:rPr b="0" lang="en-US" sz="2400" spc="-1" strike="noStrike">
                <a:solidFill>
                  <a:srgbClr val="ff1d1d"/>
                </a:solidFill>
                <a:latin typeface="Constantia"/>
              </a:rPr>
              <a:t>carries oxyge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om the lungs to the rest of     the body and </a:t>
            </a:r>
            <a:r>
              <a:rPr b="0" lang="en-US" sz="2400" spc="-1" strike="noStrike">
                <a:solidFill>
                  <a:srgbClr val="ff1d1d"/>
                </a:solidFill>
                <a:latin typeface="Constantia"/>
              </a:rPr>
              <a:t>carbon dioxid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inds to the RBC and is taken to the lungs to be exhal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399960" algn="just">
              <a:spcBef>
                <a:spcPts val="601"/>
              </a:spcBef>
              <a:buClr>
                <a:srgbClr val="00b05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60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1"/>
          <a:stretch/>
        </p:blipFill>
        <p:spPr>
          <a:xfrm>
            <a:off x="6299280" y="45720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3886200" cy="65592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White Blood Cells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28240" y="12189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294840" indent="-29484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ukocytes or WBC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rgest sized blood cell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west numbers in the blood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,500 – 11,000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r microliter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med in th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bone marrow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some in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lymph gland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imary cells of the immune system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ghts disease and foreign invad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tain nuclei with DNA, the shape depends on type of cel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ertain WBCs produce antibod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 algn="just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d1d"/>
                </a:solidFill>
                <a:latin typeface="Constantia"/>
              </a:rPr>
              <a:t>Life spa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 from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hours to several year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 algn="just">
              <a:lnSpc>
                <a:spcPct val="150000"/>
              </a:lnSpc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>
              <a:spcBef>
                <a:spcPts val="601"/>
              </a:spcBef>
              <a:buClr>
                <a:srgbClr val="2da2b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2286000" cy="7318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Platelets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28600" y="1447920"/>
            <a:ext cx="861048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lvl="1" marL="159840" indent="-159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rombocytes or PL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med in the bone marrow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mallest of the blood ce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fe span of aroun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-12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volved in the </a:t>
            </a:r>
            <a:r>
              <a:rPr b="0" lang="en-US" sz="2400" spc="-1" strike="noStrike">
                <a:solidFill>
                  <a:srgbClr val="ff1d1d"/>
                </a:solidFill>
                <a:latin typeface="Constantia"/>
              </a:rPr>
              <a:t>clotting proc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50,000 – 400,000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r microliter of bloo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lnSpc>
                <a:spcPct val="150000"/>
              </a:lnSpc>
              <a:buClr>
                <a:srgbClr val="2da2b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59840" indent="-15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12:32:06Z</dcterms:created>
  <dc:creator>Mims, Amanda</dc:creator>
  <dc:description/>
  <dc:language>en-US</dc:language>
  <cp:lastModifiedBy>User</cp:lastModifiedBy>
  <cp:lastPrinted>2011-12-15T16:15:06Z</cp:lastPrinted>
  <dcterms:modified xsi:type="dcterms:W3CDTF">2016-04-24T06:42:04Z</dcterms:modified>
  <cp:revision>76</cp:revision>
  <dc:subject/>
  <dc:title>The Structure and Function  of Blood</dc:title>
</cp:coreProperties>
</file>