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7711-29FA-46DE-A230-7FA773E6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4133-746C-4A71-9AC4-D3B388AD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81AF-967D-4437-A405-0A332F8F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38D8-CB22-4C4E-9473-026F6E01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BBEC-9C9F-450C-97D9-F3EB7578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6D47-9B94-4C9D-AE4C-7D266351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43FD-9493-4382-B42A-FB4F2632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C033-0EFD-4942-8C10-CB84A271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042A-754D-4D9D-BBAC-EA91F6BA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8011-5EEE-4457-8019-389716DF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83AC-F2A2-4988-96D7-6BB85936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7524-0641-4007-91CB-5697313D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D896-FC4A-42F9-B14D-F5DC591C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8036-E5FA-418A-9EEC-630CF979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353D-2CF6-4B03-98A6-FA04D1F4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88B0-83B2-4C72-A8F6-716AB711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97F7-B7DE-4787-A36C-0E5400DF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0B12A-E9F0-4E4A-A980-D057D715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00F92-AF59-4DD9-B387-A8E0D031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4107D-782F-455A-A2D8-5AABF13B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7F3AB-92F6-4C57-AA30-9719D7F1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FFE0D-B1D6-4546-805F-2789E793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8527-17A0-4B02-983A-6E9C28A5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315A6-0B73-4ED1-B907-AF5BBF6D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A5670-A738-410E-903A-DAF2D557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8A818-2DD3-42BE-BB64-2FE2E729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C1057-1A18-41C5-A9D9-664E155C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81842-26F6-4200-AF4C-57FB32BB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A8AA3-E056-42B6-9113-70EB29DE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007F1-07C8-4BC2-A013-71E06FCF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B5F67-AFE2-4767-8A0D-DE039A22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0DA0A-7394-4CA5-914D-EE7E22F2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6E5B4-A76B-4A00-9D53-28D0E4F8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87F1-6546-4D6A-96CB-7A6227E1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3E5F2-E18E-4E52-837B-A11FB974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ECBD8-E255-4EEB-9850-12A6DFD0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0AB9E-2F1E-4CDF-94AC-2FCB17C2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01B72-F4C0-46AC-A3D1-29B87BED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65867-AA6C-4D4B-9CA4-534BEA36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AE1D0-FDDD-4D3B-8C42-D70D544C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249AC-E92B-450F-A816-DBD00802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53CF6-D0DD-4312-9AE6-011027C3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1CCA6-7FA3-4B6A-8E91-6FB4EA38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BF6B-A875-4BB2-86C3-CA4B4724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371B-3D91-49B2-8472-7E2072F4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21A6-269E-4222-8B64-734FB986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D4B1-30D1-41DC-997F-C6CB7817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AB1F-2135-4ED1-9644-6610D09D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AA2E-C678-45B2-9937-850275521DC8}" type="slidenum">
              <a:rPr b="0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4A36-4C3E-4816-98A1-CB84D721CCEC}" type="slidenum">
              <a:rPr b="0" lang="en-US" sz="1200" spc="-1" strike="noStrike">
                <a:solidFill>
                  <a:srgbClr val="d4eae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159E-601F-4019-A6F1-5194F1EBA63A}" type="slidenum">
              <a:rPr b="0" lang="en-US" sz="1200" spc="-1" strike="noStrike">
                <a:solidFill>
                  <a:srgbClr val="d4eae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3819-A2A6-4F12-9612-8FBF7FAF50AC}" type="slidenum">
              <a:rPr b="0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920" y="2057040"/>
            <a:ext cx="8229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lood is responsible for…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gases (oxygen &amp; carbon dioxid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waste product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nutri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lping remove toxins from the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457200" y="457200"/>
            <a:ext cx="8153280" cy="56196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ecture 24: The structure and function of 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52280" y="45684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lood makes u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–8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our total body weigh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rmal adult blood volume i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lood is made up of cellular material in a fluid called plasm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od is a circulating tissue consisting of three types of cell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d Blood Cel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Erythr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te Blood Cel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Leuk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tele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Thromb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5769000" y="3962520"/>
            <a:ext cx="31464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487656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Formation of Blood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28600" y="1600200"/>
            <a:ext cx="86868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285840" indent="-2462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adults the cellular elements are produced in the bone marr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85840" indent="-2462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WBCs are produced in the lymphatic tissue and bone marr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85840" indent="-2462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lood cells need certain nutrients to form proper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85840" indent="-2462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amples include…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858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858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lic aci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858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itamin B1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858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blood cells formed come from a hematopoietic stem c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858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se cells can become any blood c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858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858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85840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63868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Composition of Blood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2280" y="151776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76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lood is made up of cells that are suspended in liquid      called </a:t>
            </a:r>
            <a:r>
              <a:rPr b="0" lang="en-US" sz="2400" spc="-1" strike="noStrike">
                <a:solidFill>
                  <a:srgbClr val="ff1d1d"/>
                </a:solidFill>
                <a:latin typeface="Constantia"/>
              </a:rPr>
              <a:t>plasm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sma makes up </a:t>
            </a:r>
            <a:r>
              <a:rPr b="0" lang="en-US" sz="2400" spc="-1" strike="noStrike">
                <a:solidFill>
                  <a:srgbClr val="ff1d1d"/>
                </a:solidFill>
                <a:latin typeface="Calibri"/>
              </a:rPr>
              <a:t>55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the bloo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sma is made of </a:t>
            </a:r>
            <a:r>
              <a:rPr b="0" lang="en-US" sz="2400" spc="-1" strike="noStrike">
                <a:solidFill>
                  <a:srgbClr val="ff1d1d"/>
                </a:solidFill>
                <a:latin typeface="Calibri"/>
              </a:rPr>
              <a:t>90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water 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400" spc="-1" strike="noStrike">
                <a:solidFill>
                  <a:srgbClr val="ff1d1d"/>
                </a:solidFill>
                <a:latin typeface="Calibri"/>
              </a:rPr>
              <a:t>10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roteins, lipids, carbohydrates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ino acids, antibodies, hormones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sal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lood cells make up the remaining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400" spc="-1" strike="noStrike">
                <a:solidFill>
                  <a:srgbClr val="ff1d1d"/>
                </a:solidFill>
                <a:latin typeface="Calibri"/>
              </a:rPr>
              <a:t>45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the bloo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d blood cells make up </a:t>
            </a:r>
            <a:r>
              <a:rPr b="0" lang="en-US" sz="2400" spc="-1" strike="noStrike">
                <a:solidFill>
                  <a:srgbClr val="ff1d1d"/>
                </a:solidFill>
                <a:latin typeface="Calibri"/>
              </a:rPr>
              <a:t>99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the blood ce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te blood cells and platelets make up the other </a:t>
            </a:r>
            <a:r>
              <a:rPr b="0" lang="en-US" sz="2400" spc="-1" strike="noStrike">
                <a:solidFill>
                  <a:srgbClr val="ff1d1d"/>
                </a:solidFill>
                <a:latin typeface="Calibri"/>
              </a:rPr>
              <a:t>1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rcRect l="0" t="0" r="30653" b="6850"/>
          <a:stretch/>
        </p:blipFill>
        <p:spPr>
          <a:xfrm>
            <a:off x="6143760" y="2209680"/>
            <a:ext cx="26953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352680" cy="68580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Red Blood Cells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2860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601"/>
              </a:spcBef>
              <a:buClr>
                <a:srgbClr val="00b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rythrocytes or RBC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b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abundant cell in the bloo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399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illion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illion per microliter of blood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399960" algn="just">
              <a:spcBef>
                <a:spcPts val="601"/>
              </a:spcBef>
              <a:buClr>
                <a:srgbClr val="00b05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med in the </a:t>
            </a:r>
            <a:r>
              <a:rPr b="0" lang="en-US" sz="2400" spc="-1" strike="noStrike">
                <a:solidFill>
                  <a:srgbClr val="ff1d1d"/>
                </a:solidFill>
                <a:latin typeface="Constantia"/>
              </a:rPr>
              <a:t>bone marro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399960" algn="just">
              <a:spcBef>
                <a:spcPts val="601"/>
              </a:spcBef>
              <a:buClr>
                <a:srgbClr val="00b05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ture forms </a:t>
            </a:r>
            <a:r>
              <a:rPr b="0" lang="en-US" sz="2400" spc="-1" strike="noStrike">
                <a:solidFill>
                  <a:srgbClr val="ff1d1d"/>
                </a:solidFill>
                <a:latin typeface="Constantia"/>
              </a:rPr>
              <a:t>do NOT hav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 nucle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399960" algn="just">
              <a:spcBef>
                <a:spcPts val="601"/>
              </a:spcBef>
              <a:buClr>
                <a:srgbClr val="00b05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fe span of abou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399960" algn="just">
              <a:spcBef>
                <a:spcPts val="601"/>
              </a:spcBef>
              <a:buClr>
                <a:srgbClr val="00b05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d"/>
                </a:solidFill>
                <a:latin typeface="Constantia"/>
              </a:rPr>
              <a:t>Hemoglobi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iron protein)is found in the RB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399960" algn="just">
              <a:spcBef>
                <a:spcPts val="601"/>
              </a:spcBef>
              <a:buClr>
                <a:srgbClr val="00b05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moglobin </a:t>
            </a:r>
            <a:r>
              <a:rPr b="0" lang="en-US" sz="2400" spc="-1" strike="noStrike">
                <a:solidFill>
                  <a:srgbClr val="ff1d1d"/>
                </a:solidFill>
                <a:latin typeface="Constantia"/>
              </a:rPr>
              <a:t>carries oxyge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om the lungs to the rest of     the body and </a:t>
            </a:r>
            <a:r>
              <a:rPr b="0" lang="en-US" sz="2400" spc="-1" strike="noStrike">
                <a:solidFill>
                  <a:srgbClr val="ff1d1d"/>
                </a:solidFill>
                <a:latin typeface="Constantia"/>
              </a:rPr>
              <a:t>carbon dioxid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nds to the RBC and is taken to the lungs to be exhal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399960" algn="just">
              <a:spcBef>
                <a:spcPts val="601"/>
              </a:spcBef>
              <a:buClr>
                <a:srgbClr val="00b05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60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6299280" y="45720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3886200" cy="65592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White Blood Cells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28240" y="1218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ukocytes or WBC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rgest sized blood cell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west numbers in the blood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,500 – 11,000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 microlite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med in 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bone marrow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some in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lymph gland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imary cells of the immune system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ghts disease and foreign inva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tain nuclei with DNA, the shape depends on type of cel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ertain WBCs produce antibod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d"/>
                </a:solidFill>
                <a:latin typeface="Constantia"/>
              </a:rPr>
              <a:t>Life spa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from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hours to several year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228600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Platelets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28600" y="1447920"/>
            <a:ext cx="861048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lvl="1" marL="159840" indent="-159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rombocytes or PL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med in the bone marrow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mallest of the blood ce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fe span of aroun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-1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olved in the </a:t>
            </a:r>
            <a:r>
              <a:rPr b="0" lang="en-US" sz="2400" spc="-1" strike="noStrike">
                <a:solidFill>
                  <a:srgbClr val="ff1d1d"/>
                </a:solidFill>
                <a:latin typeface="Constantia"/>
              </a:rPr>
              <a:t>clotting proc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50,000 – 400,000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 microliter of bloo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2:32:06Z</dcterms:created>
  <dc:creator>Mims, Amanda</dc:creator>
  <dc:description/>
  <dc:language>en-US</dc:language>
  <cp:lastModifiedBy>Mohammed Albeshr</cp:lastModifiedBy>
  <cp:lastPrinted>2011-12-15T16:15:06Z</cp:lastPrinted>
  <dcterms:modified xsi:type="dcterms:W3CDTF">2017-12-26T17:23:24Z</dcterms:modified>
  <cp:revision>76</cp:revision>
  <dc:subject/>
  <dc:title>The Structure and Function  of Blood</dc:title>
</cp:coreProperties>
</file>