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E7C4-461C-4293-B38E-D7611365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F066-5403-4184-9671-B88DA3EF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DEF9-B3B9-462A-8618-1ED02AB5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E33A-35D9-44C7-A994-8B440930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B930-E6BC-43A6-9DF9-CA523874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45C9-3766-459A-A7FE-A3C0C640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AAC2-1666-493C-B16A-9CFC5F2F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F11C-D2F9-475C-B99D-454EFED8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92F4-E2BE-4362-83CE-4154FE50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934E-5B89-417C-A60B-5E6E2F9C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4808-24C7-4854-A137-5A35FF15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9667-785A-4E18-A538-D62B3427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D02E-74C4-4D83-B7B4-882476DD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1C4F-40E6-4B52-8060-244F7864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C2D4-7BB1-42B8-963B-08CC0A19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D6F3-075E-4493-83EB-88BD5BCE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DA8A-88F6-46B0-A965-070E1952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C9857-BC43-4070-B8A8-25733434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3BD62-0EFE-4BFB-A61E-07B32F2F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CAB53-D796-4B8C-B686-4EFCF805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AB4C7-6841-4637-8B04-B1E2A618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1117F-2105-4258-B8C0-FF7991AB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7034-B44C-4FCA-9071-89431519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9FAD9-B154-498F-80B0-37AF3BA3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BF5E4-9DC6-4149-AADF-E31DC4C3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CE786-3BC9-4B81-88A9-D0A46992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63B19-1272-4C21-A3D9-8C9EA7C4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8053C-34CF-4EB1-9E1D-638EB033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03CA6-F6AA-44DB-85AE-AD14E1AC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CEE0B-47DA-49F7-BC1D-5BF0BF8E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C27A7-A55E-486B-B46E-1033ABC2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DF5DA-9890-4D45-A2E4-F70EBA65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68ACA-0B5A-48AD-9A89-AE09580F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8A01-A5D5-45B5-8D8A-3FD1E732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2B4A1-7C28-480C-844D-0D12762D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70281-61CA-4F38-842F-CC3544E3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27615-F19D-4C7D-AA9D-0E3AEFC4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0920D-AABB-4836-AB6C-D09EE608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32FA5-44A3-4E8B-A05A-6CCB0E52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CF512-3131-4B95-AA84-20BB2343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0AC06-38AC-40A4-A049-73155DAE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BC402-1082-4859-9CBD-9A80B832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A329E-4C99-4DB5-8D34-3F034F97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333F-AE46-403B-B0AC-03CF753C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41F9-D0E5-4EF6-B084-6AC237D1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C50B-1DA9-40F8-9F97-8D313A5E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B21C-059B-4E49-9EFC-8F9711FB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CA36-C436-4F3D-9095-CE2AA5EA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289F-AB25-46AF-94CB-4E48D387FE77}" type="slidenum">
              <a:rPr b="0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1259-7ED7-4D48-8114-B07A248DC39C}" type="slidenum">
              <a:rPr b="0" lang="en-US" sz="1200" spc="-1" strike="noStrike">
                <a:solidFill>
                  <a:srgbClr val="d4eae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F879-817B-4659-8472-5682CF6254DE}" type="slidenum">
              <a:rPr b="0" lang="en-US" sz="1200" spc="-1" strike="noStrike">
                <a:solidFill>
                  <a:srgbClr val="d4eae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96EE-3802-4CD7-B904-71012EC1696A}" type="slidenum">
              <a:rPr b="0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920" y="2057040"/>
            <a:ext cx="8229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lood is responsible for…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gases (oxygen &amp; carbon dioxid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waste product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nutri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lping remove toxins from the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457200" y="457200"/>
            <a:ext cx="8153280" cy="56196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ecture 24: The structure and function of 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52280" y="45684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lood makes u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–8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our total body weigh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rmal adult blood volume i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lood is made up of cellular material in a fluid called plasm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od is a circulating tissue consisting of three types of cell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d Blood Cel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Erythr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te Blood Cel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Leuk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tele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Thromb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5769000" y="3962520"/>
            <a:ext cx="31464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487656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Formation of Blood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28600" y="1600200"/>
            <a:ext cx="86868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285840" indent="-2462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adults the cellular elements are produced in the bone marr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85840" indent="-2462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WBCs are produced in the lymphatic tissue and bone marr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85840" indent="-2462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lood cells need certain nutrients to form proper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85840" indent="-2462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amples include…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858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858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lic aci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858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itamin B1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858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blood cells formed come from a hematopoietic stem c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858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se cells can become any blood c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858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858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85840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63868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Composition of Blood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2280" y="151776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76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lood is made up of cells that are suspended in liquid      called </a:t>
            </a:r>
            <a:r>
              <a:rPr b="0" lang="en-US" sz="2400" spc="-1" strike="noStrike">
                <a:solidFill>
                  <a:srgbClr val="ff1d1d"/>
                </a:solidFill>
                <a:latin typeface="Constantia"/>
              </a:rPr>
              <a:t>plasm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sma makes up </a:t>
            </a:r>
            <a:r>
              <a:rPr b="0" lang="en-US" sz="2400" spc="-1" strike="noStrike">
                <a:solidFill>
                  <a:srgbClr val="ff1d1d"/>
                </a:solidFill>
                <a:latin typeface="Calibri"/>
              </a:rPr>
              <a:t>55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the bloo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sma is made of </a:t>
            </a:r>
            <a:r>
              <a:rPr b="0" lang="en-US" sz="2400" spc="-1" strike="noStrike">
                <a:solidFill>
                  <a:srgbClr val="ff1d1d"/>
                </a:solidFill>
                <a:latin typeface="Calibri"/>
              </a:rPr>
              <a:t>90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water 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400" spc="-1" strike="noStrike">
                <a:solidFill>
                  <a:srgbClr val="ff1d1d"/>
                </a:solidFill>
                <a:latin typeface="Calibri"/>
              </a:rPr>
              <a:t>10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roteins, lipids, carbohydrates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ino acids, antibodies, hormones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sal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lood cells make up the remaining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400" spc="-1" strike="noStrike">
                <a:solidFill>
                  <a:srgbClr val="ff1d1d"/>
                </a:solidFill>
                <a:latin typeface="Calibri"/>
              </a:rPr>
              <a:t>45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the bloo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d blood cells make up </a:t>
            </a:r>
            <a:r>
              <a:rPr b="0" lang="en-US" sz="2400" spc="-1" strike="noStrike">
                <a:solidFill>
                  <a:srgbClr val="ff1d1d"/>
                </a:solidFill>
                <a:latin typeface="Calibri"/>
              </a:rPr>
              <a:t>99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the blood ce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te blood cells and platelets make up the other </a:t>
            </a:r>
            <a:r>
              <a:rPr b="0" lang="en-US" sz="2400" spc="-1" strike="noStrike">
                <a:solidFill>
                  <a:srgbClr val="ff1d1d"/>
                </a:solidFill>
                <a:latin typeface="Calibri"/>
              </a:rPr>
              <a:t>1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rcRect l="0" t="0" r="30653" b="6850"/>
          <a:stretch/>
        </p:blipFill>
        <p:spPr>
          <a:xfrm>
            <a:off x="6143760" y="2209680"/>
            <a:ext cx="26953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352680" cy="68580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Red Blood Cells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2860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601"/>
              </a:spcBef>
              <a:buClr>
                <a:srgbClr val="00b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rythrocytes or RBC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b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abundant cell in the bloo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399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illion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illion per microliter of blood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399960" algn="just">
              <a:spcBef>
                <a:spcPts val="601"/>
              </a:spcBef>
              <a:buClr>
                <a:srgbClr val="00b05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med in the </a:t>
            </a:r>
            <a:r>
              <a:rPr b="0" lang="en-US" sz="2400" spc="-1" strike="noStrike">
                <a:solidFill>
                  <a:srgbClr val="ff1d1d"/>
                </a:solidFill>
                <a:latin typeface="Constantia"/>
              </a:rPr>
              <a:t>bone marro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399960" algn="just">
              <a:spcBef>
                <a:spcPts val="601"/>
              </a:spcBef>
              <a:buClr>
                <a:srgbClr val="00b05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ture forms </a:t>
            </a:r>
            <a:r>
              <a:rPr b="0" lang="en-US" sz="2400" spc="-1" strike="noStrike">
                <a:solidFill>
                  <a:srgbClr val="ff1d1d"/>
                </a:solidFill>
                <a:latin typeface="Constantia"/>
              </a:rPr>
              <a:t>do NOT hav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 nucle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399960" algn="just">
              <a:spcBef>
                <a:spcPts val="601"/>
              </a:spcBef>
              <a:buClr>
                <a:srgbClr val="00b05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fe span of abou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399960" algn="just">
              <a:spcBef>
                <a:spcPts val="601"/>
              </a:spcBef>
              <a:buClr>
                <a:srgbClr val="00b05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d"/>
                </a:solidFill>
                <a:latin typeface="Constantia"/>
              </a:rPr>
              <a:t>Hemoglobi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iron protein)is found in the RB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399960" algn="just">
              <a:spcBef>
                <a:spcPts val="601"/>
              </a:spcBef>
              <a:buClr>
                <a:srgbClr val="00b05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moglobin </a:t>
            </a:r>
            <a:r>
              <a:rPr b="0" lang="en-US" sz="2400" spc="-1" strike="noStrike">
                <a:solidFill>
                  <a:srgbClr val="ff1d1d"/>
                </a:solidFill>
                <a:latin typeface="Constantia"/>
              </a:rPr>
              <a:t>carries oxyge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om the lungs to the rest of     the body and </a:t>
            </a:r>
            <a:r>
              <a:rPr b="0" lang="en-US" sz="2400" spc="-1" strike="noStrike">
                <a:solidFill>
                  <a:srgbClr val="ff1d1d"/>
                </a:solidFill>
                <a:latin typeface="Constantia"/>
              </a:rPr>
              <a:t>carbon dioxid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nds to the RBC and is taken to the lungs to be exhal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399960" algn="just">
              <a:spcBef>
                <a:spcPts val="601"/>
              </a:spcBef>
              <a:buClr>
                <a:srgbClr val="00b05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60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6299280" y="45720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3886200" cy="65592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White Blood Cells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28240" y="1218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ukocytes or WBC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rgest sized blood cell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west numbers in the blood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,500 – 11,000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 microlite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med in 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bone marrow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some in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lymph gland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imary cells of the immune system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ghts disease and foreign inva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tain nuclei with DNA, the shape depends on type of cel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ertain WBCs produce antibod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d"/>
                </a:solidFill>
                <a:latin typeface="Constantia"/>
              </a:rPr>
              <a:t>Life spa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from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hours to several year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228600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Platelets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28600" y="1447920"/>
            <a:ext cx="861048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lvl="1" marL="159840" indent="-159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rombocytes or PL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med in the bone marrow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mallest of the blood ce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fe span of aroun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-1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olved in the </a:t>
            </a:r>
            <a:r>
              <a:rPr b="0" lang="en-US" sz="2400" spc="-1" strike="noStrike">
                <a:solidFill>
                  <a:srgbClr val="ff1d1d"/>
                </a:solidFill>
                <a:latin typeface="Constantia"/>
              </a:rPr>
              <a:t>clotting proc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50,000 – 400,000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 microliter of bloo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2:32:06Z</dcterms:created>
  <dc:creator>Mims, Amanda</dc:creator>
  <dc:description/>
  <dc:language>en-US</dc:language>
  <cp:lastModifiedBy>Mohammed Albeshr</cp:lastModifiedBy>
  <cp:lastPrinted>2011-12-15T16:15:06Z</cp:lastPrinted>
  <dcterms:modified xsi:type="dcterms:W3CDTF">2017-12-26T17:23:24Z</dcterms:modified>
  <cp:revision>76</cp:revision>
  <dc:subject/>
  <dc:title>The Structure and Function  of Blood</dc:title>
</cp:coreProperties>
</file>