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0AD-A5A6-404B-B241-8A3C9A9E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B0A-D8B6-4647-B27E-A585C042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4FB-1461-4108-90A7-B0CE8152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576-7BE2-4F16-A03E-7C36FDA7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BFDA-6EBC-4A25-A26C-73E6D110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CD26-5B0F-4A4A-93DB-9E3F50E4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9097-4650-4010-A9A5-2ADFD025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1B72-03F0-43FA-9544-7D9E47D8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5642-340A-4434-945D-1454E7F3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5FFC-8A3E-4A62-A564-C6286C46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4A51-8E87-4D36-95B7-6F2FBB69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EDB-E566-41A2-BEB3-3C3FF7D3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8FB3-931F-4932-8974-AFE3FC4E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8D40-3A79-4060-9709-12363CB7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CE34-2E87-4F37-970A-4EDCAA23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13AF-D734-4D99-B77A-103C3399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C38B-558B-4000-AC29-B85EF728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0B613-D302-4166-9190-00EE1DBF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0531D-7BAB-4B44-A75F-602D7042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1E0B-9303-43CB-897D-D99E2FF1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40ADC-C0B1-4D63-80DF-6441677D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46E9F-9C79-4412-80D3-F6BD3711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B7D-7B32-40D3-A236-809824F9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6B274-A90D-4782-8EEC-5DF3303A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75ECA-9225-4F28-9868-6787F0B8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CCAC-E7B5-49A9-ADCD-9FE7ACE1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B32C4-B716-4158-946D-0FE36112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2981E-25D6-4C71-A577-46D1C11D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8DCC-B706-4A22-956B-E9C124E4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7F0A5-047B-4376-9A14-7B297B41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6FF23-C558-4389-A1D0-6C559F6B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976B4-FA8F-4C7C-A71E-647E088B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64AE3-7B5A-4827-BF6C-55FFCF0B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610-2207-43BE-B5C3-866D728C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F0210-448B-48F3-B5E6-C700F47E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E4A79-22A0-4580-ABB5-E621AC37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6616D-F811-4DCF-9BB7-4B39777D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3A216-3042-432C-8304-FD35016B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5FEB4-F486-496C-AE65-5EB69206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C7EBA-EEDA-4F04-9DA0-1341FD38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C0C22-38CE-4F1A-82DE-B0CC3A5E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CA04B-9C68-4849-9420-E2310DCA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B0AB9-D48A-407F-A167-0032726D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A63E1-3891-45C3-81AA-74C59739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D8D-304F-4752-83B2-2E556A0E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F56D1-E2F4-42AB-BD87-653B37E3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9F2AB-FE4F-4CF3-BF00-50778B07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F66B5-145F-436E-BC16-045097D3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A58A6-8779-41AC-BE19-C27BE7B7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09070-4E2C-432B-9E07-560D53A8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44119-6AB9-414F-BD2C-64C338F7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08ACA-D144-461F-9CED-C2D75442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6BF00-21DB-4D64-9C75-7F28D897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E72FE-AF62-4DEC-896D-25F3E9B1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A2AC8-1500-438D-985A-38CA0D20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F884-1371-4F7C-8069-DC763ADA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230D9-6460-4DB6-80D7-14BD62E0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FAC-9DC1-4D06-9947-C09119F4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1415-91AE-4AC6-95D1-F96D8D85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55A-1A07-4122-BC03-9E6EBD69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95E5-0291-4C91-926E-E04986FFA95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مستطيل مستدير الزوايا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21BA-A6E0-47B6-A5CE-9DAEB1891AD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مستطيل مستدير الزوايا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مستطيل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مستطيل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مستطيل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8303-2ED8-4917-BE23-12C74558AE5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مستطيل مستدير الزوايا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EF36-F8EB-44A4-A6C0-DE776F68259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مستطيل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مستطيل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مستطيل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4F0A-028D-451F-989A-19D08DDD4CB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560" y="2361960"/>
            <a:ext cx="6933960" cy="6094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e Structure and Function of Blood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29" name="Picture 2" descr="C:\Users\FLANDERS\AppData\Local\Microsoft\Windows\Temporary Internet Files\Content.IE5\4SCEXAE9\MP900407342[1].jpg"/>
          <p:cNvPicPr/>
          <p:nvPr/>
        </p:nvPicPr>
        <p:blipFill>
          <a:blip r:embed="rId1"/>
          <a:stretch/>
        </p:blipFill>
        <p:spPr>
          <a:xfrm>
            <a:off x="3276720" y="3200400"/>
            <a:ext cx="2649240" cy="3429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"/>
          <p:cNvSpPr/>
          <p:nvPr/>
        </p:nvSpPr>
        <p:spPr>
          <a:xfrm>
            <a:off x="1676520" y="1647720"/>
            <a:ext cx="6095880" cy="5619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Book"/>
              </a:rPr>
              <a:t>Lecture 24: Animal phys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228600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Franklin Gothic Book"/>
              </a:rPr>
              <a:t>Platelet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19872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rombocytes or PL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rmed in the bone marrow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ragments from the cytoplasm of megakaryocytes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mallest of the blood cel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1-4 micrometers in diamet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hape can be round, oval, or appear spik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ife span of around 8-12 day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3"/>
          <a:stretch/>
        </p:blipFill>
        <p:spPr>
          <a:xfrm>
            <a:off x="543096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4"/>
          <a:stretch/>
        </p:blipFill>
        <p:spPr>
          <a:xfrm>
            <a:off x="5892840" y="4267080"/>
            <a:ext cx="2455920" cy="1830600"/>
          </a:xfrm>
          <a:prstGeom prst="rect">
            <a:avLst/>
          </a:prstGeom>
          <a:ln w="0">
            <a:noFill/>
          </a:ln>
        </p:spPr>
      </p:pic>
      <p:cxnSp>
        <p:nvCxnSpPr>
          <p:cNvPr id="274" name="Straight Arrow Connector 4"/>
          <p:cNvCxnSpPr/>
          <p:nvPr/>
        </p:nvCxnSpPr>
        <p:spPr>
          <a:xfrm flipH="1">
            <a:off x="7921440" y="3431880"/>
            <a:ext cx="38160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137160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latelets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volved in the clotting proces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al wounds and prevent blood los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elp repair damaged vesse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150,000 – 400,000 per microliter of blood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latelets stain bluish with reddish or purple granule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3"/>
          <a:stretch/>
        </p:blipFill>
        <p:spPr>
          <a:xfrm>
            <a:off x="594828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4"/>
          <a:stretch/>
        </p:blipFill>
        <p:spPr>
          <a:xfrm>
            <a:off x="6410160" y="4800600"/>
            <a:ext cx="2455920" cy="1830240"/>
          </a:xfrm>
          <a:prstGeom prst="rect">
            <a:avLst/>
          </a:prstGeom>
          <a:ln w="0">
            <a:noFill/>
          </a:ln>
        </p:spPr>
      </p:pic>
      <p:cxnSp>
        <p:nvCxnSpPr>
          <p:cNvPr id="280" name="Straight Arrow Connector 4"/>
          <p:cNvCxnSpPr/>
          <p:nvPr/>
        </p:nvCxnSpPr>
        <p:spPr>
          <a:xfrm flipH="1">
            <a:off x="8381160" y="3916080"/>
            <a:ext cx="38196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81" name="Picture 2" descr=""/>
          <p:cNvPicPr/>
          <p:nvPr/>
        </p:nvPicPr>
        <p:blipFill>
          <a:blip r:embed="rId5"/>
          <a:srcRect l="0" t="0" r="0" b="7227"/>
          <a:stretch/>
        </p:blipFill>
        <p:spPr>
          <a:xfrm>
            <a:off x="838080" y="4743360"/>
            <a:ext cx="4581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525780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Franklin Gothic Book"/>
              </a:rPr>
              <a:t>Composition of Blood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736360"/>
            <a:ext cx="8229600" cy="29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ood is responsible for….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ransporting gases (oxygen &amp; carbon dioxid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ransporting waste produc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ransporting nutri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elping remove toxins from the bod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7238880" y="99072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6762600" y="3429000"/>
            <a:ext cx="2381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6700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lood makes up 6–8% of our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otal body weight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ormal adult blood volume is 5 L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lood is made up of cellular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aterial in a fluid called plasma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7543800" y="6159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2536920" cy="1974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3"/>
          <a:stretch/>
        </p:blipFill>
        <p:spPr>
          <a:xfrm>
            <a:off x="6324480" y="2163600"/>
            <a:ext cx="18288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21733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ood is a circulating tissue consisting of three types of cell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51444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d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Erythrocy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51444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ite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Leukocy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51444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latele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Thrombocy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51444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14400" indent="-51444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cells listed above are suspended in a liquid known as plasm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7238880" y="76824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6858000" y="3048120"/>
            <a:ext cx="1576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867960"/>
            <a:ext cx="487656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Franklin Gothic Book"/>
              </a:rPr>
              <a:t>Formation of Blood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lvl="1" marL="274320" indent="-2361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ematopoiesi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he formation and development of blood cel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4320" indent="-2361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74320" indent="-2361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 adults the cellular elements are produced in the bone marrow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4320" indent="-2361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74320" indent="-2361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ome WBCs are produced in the lymphatic tissue and bone marrow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4320" indent="-2361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274320" indent="-2361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lood cells need certain nutrients to form properly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4320" indent="-2361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1" marL="274320" indent="-23616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xamples include….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r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lic aci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Vitamin B12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 blood cells formed come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rom a hematopoietic stem cell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se cells can become any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lood cell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27432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http://www.allthingsstemcell.com/wp-content/uploads/2009/02/hematopoiesis_simple1.png"/>
          <p:cNvPicPr/>
          <p:nvPr/>
        </p:nvPicPr>
        <p:blipFill>
          <a:blip r:embed="rId2"/>
          <a:stretch/>
        </p:blipFill>
        <p:spPr>
          <a:xfrm>
            <a:off x="4119480" y="3505320"/>
            <a:ext cx="502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563868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Franklin Gothic Book"/>
              </a:rPr>
              <a:t>Composition of Blood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blood is made up of cells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at are suspended in liquid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lled plasm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lasma makes up 55% of the bloo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lasma is made of 90% water and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10% proteins, lipids, carbohydrates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mino acids, antibodies, hormones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ectrolytes, waste, salts, and 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lood cells make up the remaining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45% of the bloo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ed blood cells make up 99% of the blood cell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ite blood cells and platelets make up the other 1%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57200" indent="-4572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7238880" y="69228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2"/>
          <a:srcRect l="0" t="0" r="3921" b="6850"/>
          <a:stretch/>
        </p:blipFill>
        <p:spPr>
          <a:xfrm>
            <a:off x="5334120" y="2286000"/>
            <a:ext cx="3733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a28e6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ach type of blood cell performs a different functio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ed blood cells (Erythrocyt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ite blood cells (Leukocyt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latelets (Thrombocytes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21400" indent="-221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7391520" y="99684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4432320" y="5105520"/>
            <a:ext cx="1376280" cy="1403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"/>
          <p:cNvPicPr/>
          <p:nvPr/>
        </p:nvPicPr>
        <p:blipFill>
          <a:blip r:embed="rId4"/>
          <a:stretch/>
        </p:blipFill>
        <p:spPr>
          <a:xfrm>
            <a:off x="4343400" y="23623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"/>
          <p:cNvPicPr/>
          <p:nvPr/>
        </p:nvPicPr>
        <p:blipFill>
          <a:blip r:embed="rId5"/>
          <a:stretch/>
        </p:blipFill>
        <p:spPr>
          <a:xfrm>
            <a:off x="6545160" y="3344760"/>
            <a:ext cx="254016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388620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Book"/>
              </a:rPr>
              <a:t>Red Blood Cel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28600" y="1752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8600" indent="-22860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rythrocytes or RBC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ost abundant cell in the blood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4 million – 6 million per microliter of blood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Formed in the bone marrow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ature forms do NOT have a nucleu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haped as biconcave disk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6-8 micrometers in diamet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ife span of about 120 day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emoglobin (iron protein)i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found in the RBC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emoglobin carries oxygen from the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ungs to the rest of the body and carbon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ioxide binds to the RBC and is taken to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lungs to be exhaled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399960">
              <a:spcBef>
                <a:spcPts val="374"/>
              </a:spcBef>
              <a:buClr>
                <a:srgbClr val="e6b1ab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7315200" y="8445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5935680" y="2971800"/>
            <a:ext cx="20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3"/>
          <a:stretch/>
        </p:blipFill>
        <p:spPr>
          <a:xfrm>
            <a:off x="6934320" y="4695840"/>
            <a:ext cx="1828800" cy="1771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4"/>
          <a:stretch/>
        </p:blipFill>
        <p:spPr>
          <a:xfrm>
            <a:off x="5288040" y="1600200"/>
            <a:ext cx="14936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867960"/>
            <a:ext cx="4419360" cy="6555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Book"/>
              </a:rPr>
              <a:t>White Blood Cel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eukocytes or WBC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argest sized blood cells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owest numbers in the blood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4,500 – 11,000 per microliter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Formed in the bone marrow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and some in lymph glands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Primary cells of the immune system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Fights disease and foreign invader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ontain nuclei with DNA,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the shape depends on type of cell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ertain WBCs produce antibodie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ife span is from 24 hours to several years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Size is 8-20 micrometers in diameter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There are five different types of WBC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Neutrophil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Eosinophil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asophil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ymphocyte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Monocyte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9872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2"/>
          <a:stretch/>
        </p:blipFill>
        <p:spPr>
          <a:xfrm>
            <a:off x="6100920" y="1994040"/>
            <a:ext cx="2317680" cy="1739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3"/>
          <a:stretch/>
        </p:blipFill>
        <p:spPr>
          <a:xfrm>
            <a:off x="4267080" y="1828800"/>
            <a:ext cx="1687680" cy="1316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4"/>
          <a:stretch/>
        </p:blipFill>
        <p:spPr>
          <a:xfrm>
            <a:off x="5411880" y="4038480"/>
            <a:ext cx="3576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2:32:06Z</dcterms:created>
  <dc:creator>Mims, Amanda</dc:creator>
  <dc:description/>
  <dc:language>en-US</dc:language>
  <cp:lastModifiedBy>المستخدم</cp:lastModifiedBy>
  <cp:lastPrinted>2011-12-15T16:15:06Z</cp:lastPrinted>
  <dcterms:modified xsi:type="dcterms:W3CDTF">2014-12-09T05:55:30Z</dcterms:modified>
  <cp:revision>48</cp:revision>
  <dc:subject/>
  <dc:title>The Structure and Function  of Blood</dc:title>
</cp:coreProperties>
</file>