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524-FD3D-47FD-8F5A-9B3AACA6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437-9BAC-41EF-8BFA-5979746D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B05-77D3-42FB-81A9-87E418C1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F2F-79F8-42F0-9741-18A20BBC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A6DD-35D0-4FDE-9D38-27C4E9B3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8E55-BBE2-47DD-8845-62FC496B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A015-F0AE-4E4C-B386-5386DC80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A743-0C3F-4488-829C-36690377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0BC9-C12D-418C-8C7B-4D1F3AB9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360F-282F-4C6D-8537-71806F49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2144-60DC-43BB-BEB6-D29E286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6B0-5720-415A-BEDD-F12B4641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D9D9-8774-4E76-B474-3C1540B6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E89E-F64F-4644-B611-F44F4ADC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56D9-34B6-422C-93AB-21B3B59E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CB32-16CF-4818-BB16-81A95FA7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C376-74AD-4CC6-9C63-BF3E6A6E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7CBD-BD8B-470F-8137-FA4A2B05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A017-03E8-4599-9CE2-AE049A28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4C78-9987-492E-87F4-3FCB2137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AC24-9799-45BA-ACAF-3EF55FA9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2A582-93D6-4453-A09C-D029620D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11D-6294-4B8E-834E-A65AB8A7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74C8-ACDF-4421-972A-6F8D4AB5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CF45-0440-4899-8709-12403352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DAD1-2B41-40AD-8AE1-5C801E7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1FCE-47B0-4925-AD22-E7D8314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B048-2C46-4903-8678-717656C2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FA71-6A19-4D81-A10F-F1DC02BF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33CE-C3CB-47EA-9DB9-29B0207C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C296-8935-49E5-814E-4034167B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34AD-3B92-4B1B-BA0B-78EB06CA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5EDC-5290-4A70-92B8-5EF10111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9E3-3E4B-4BB0-A433-CE8E9535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5E72-0B31-4285-9DB0-1D7DBBA5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8735-E535-451C-9412-A20E2B06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5482-90AA-4A60-B463-B68E575F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7E66-9FF3-4784-9762-0D7D887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E062E-6AB5-4598-97CE-EE6DBA1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46CF-4595-4CEA-A817-864A3B57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3C93-D506-4A73-9BFF-F6FCFA7C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7B3A5-163C-4517-84FA-5B20D7A6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C171-E7C4-40D3-964C-8BC62390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A48F-810D-4F62-84B6-0D710451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8C6-50D1-4533-A15E-A9EEE00D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5AC41-3F26-4CC2-BC45-34B6C48A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52700-17DD-4515-B5A2-8F026F1D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233D2-12E3-4A48-8A99-C864F1E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2E67-3B81-423B-867A-2385F31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E7C1-2338-4F6D-8A81-920DB54E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575D-C70C-46A2-8A48-C3ABC165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CECCF-6FC9-4526-A0DD-7ABDCB95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D5ABE-3223-49CA-AA1F-D6EF14F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61B1-8642-4F84-AF62-4844AB85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DC423-58AE-4F30-A4E1-CEDA7B56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5C8-E604-4AB0-9F7D-6AD04D4A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C9833-A3F6-48E3-B936-BEB0683F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0CE-59A1-4728-91BE-D534BCC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2A3-6E34-4B4D-912C-2363B9A7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FF6-FBA5-45DA-8686-ACD0757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5C38-90A1-446A-A028-59329418C2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1418-BD36-4095-8B17-C86C4BC3B26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مستطيل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مستطيل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44BA-0382-4E9F-819D-484BEFCFB8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699E-B237-4081-882B-56C6969A40A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4BFE-A19E-4851-A030-1F4F4716E1F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2361960"/>
            <a:ext cx="6933960" cy="6094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e Structure and Function of Blood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29" name="Picture 2" descr="C:\Users\FLANDERS\AppData\Local\Microsoft\Windows\Temporary Internet Files\Content.IE5\4SCEXAE9\MP900407342[1].jpg"/>
          <p:cNvPicPr/>
          <p:nvPr/>
        </p:nvPicPr>
        <p:blipFill>
          <a:blip r:embed="rId1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1676520" y="1647720"/>
            <a:ext cx="6095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Platelet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19872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74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80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1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Composition of Blood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Formation of Blood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Composition of Blood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blood is made up of cell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at are suspended in liquid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lled plasm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sma makes up 55% of the bl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sma is made of 90% water and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10% proteins, lipids, carbohydrate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mino acids, antibodies, hormone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ctrolytes, waste, salts, and 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lood cells make up the remaining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45% of the bl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d blood cells make up 99% of the blood cell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ite blood cells and platelets make up the other 1%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57200" indent="-4572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8862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Red Blood Cel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41936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White Blood Cel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المستخدم</cp:lastModifiedBy>
  <cp:lastPrinted>2011-12-15T16:15:06Z</cp:lastPrinted>
  <dcterms:modified xsi:type="dcterms:W3CDTF">2014-12-09T05:55:30Z</dcterms:modified>
  <cp:revision>48</cp:revision>
  <dc:subject/>
  <dc:title>The Structure and Function  of Blood</dc:title>
</cp:coreProperties>
</file>