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97B-0430-407A-901D-0DE5C466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CFF-88BA-400B-94F6-ACB77AAB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FCC7-205F-4EEE-BFF0-2801741E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BB5D-6410-4A4E-8F3D-35B2FB5C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C2B0-97F9-49C8-B7F9-F2C59AE8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B9C5-68A5-413E-9075-2253A045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BA8A-8C53-4DAB-96F0-832C8A54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40FD-ACD6-47B8-A6E6-805C6DE5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9F1C-44CA-44F4-96B0-D7FCDB43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7F41-6E4F-48C4-B7E1-71B38B14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F8AD-22E3-49A1-BD36-0E1555E5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803-1D69-4296-BBEC-EBDAF520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E6A9-D40C-433B-B6C1-2455E28C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A2BE-714F-46C3-B32A-6154D5A0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D099-9735-4B77-921D-6A70090C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69BE-D70D-43CC-A592-F1910C5B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EB85-AE2B-4672-949C-52074A94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39F12-188A-4025-9B25-17C86ECB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71246-C232-4032-84FB-05E6A8E5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D2AD5-47A9-4F66-BF28-AE13DF4C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2DA52-7E9E-4E5C-BCEB-31377B94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38A86-0529-4720-B42B-F2330102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72B-1B66-4729-B264-4D59617D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3D59C-CB07-4BA0-AA93-301F13D4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12DBC-04BB-486C-8072-485D9209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B9091-A9D0-4910-9692-BA90BF16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C5F9B-D578-40D9-90A4-8F3ADCDC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891E0-5F63-4B68-AC3B-7667CE8C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DF199-2DC3-41F3-9D03-48B49BA4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25A82-AAB3-4FFA-A3A1-8FF90C63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8DDA6-57E8-47E9-BC57-41080819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78562-32E5-47A0-98D0-BD406854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28ECD-C452-439F-A34A-DF7300DE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BFF-900D-4589-B129-54A03672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9858E-DF9D-4BEA-8724-57D0BDDA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9BB96-8F54-4AED-ABC1-314CF411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1F98D-4F28-4395-8531-12616DD7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0DA6F-3BED-42F6-9C2F-6900935B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96BF1-F5F3-49A7-BA23-CC762309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BBB63-C0F8-4E78-9978-891FFBE9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250FB-A278-4C64-A7BB-D819FBCE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36CE5-BE3E-431B-BB82-B997C1F9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77D24-EA69-4B92-B2D9-3BAF9960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BAD-7AEE-43AE-9F37-4E93ABA3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AD3-8451-4BA2-8FA6-43D34866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FD02-B3B0-482D-9740-34B61131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6E7-5D41-4684-8F01-97FEA2ED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0138-ABC0-4ADB-AB50-A98944E6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EEAA-D487-40FB-9839-AC9F39C21FCF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5B8E-BEC4-4BC1-925E-65BB32FBDB34}" type="slidenum"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BA34-EF39-4B6E-85BF-E4B3C3D16DAF}" type="slidenum"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2E38-12E9-48D7-B692-51589EDE087F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1158840" y="2335320"/>
            <a:ext cx="6662880" cy="693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FLANDERS\AppData\Local\Microsoft\Windows\Temporary Internet Files\Content.IE5\4SCEXAE9\MP900407342[1].jpg"/>
          <p:cNvPicPr/>
          <p:nvPr/>
        </p:nvPicPr>
        <p:blipFill>
          <a:blip r:embed="rId2"/>
          <a:stretch/>
        </p:blipFill>
        <p:spPr>
          <a:xfrm>
            <a:off x="3276720" y="3200400"/>
            <a:ext cx="2649240" cy="3429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/>
          <p:cNvSpPr/>
          <p:nvPr/>
        </p:nvSpPr>
        <p:spPr>
          <a:xfrm>
            <a:off x="1728720" y="961920"/>
            <a:ext cx="5357880" cy="5619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ecture 24: Animal phys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228600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Platelets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196560" indent="-196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rombocytes or PL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med in the bone marrow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ragments from the cytoplasm of megakaryocytes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mallest of the blood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-4 micrometers in diame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hape can be round, oval, or appear spik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fe span of around 8-12 day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24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150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7626240" y="2027160"/>
            <a:ext cx="1374840" cy="1405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3"/>
          <a:stretch/>
        </p:blipFill>
        <p:spPr>
          <a:xfrm>
            <a:off x="5430960" y="1701720"/>
            <a:ext cx="1689120" cy="1317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4"/>
          <a:stretch/>
        </p:blipFill>
        <p:spPr>
          <a:xfrm>
            <a:off x="5892840" y="4267080"/>
            <a:ext cx="2455920" cy="1830600"/>
          </a:xfrm>
          <a:prstGeom prst="rect">
            <a:avLst/>
          </a:prstGeom>
          <a:ln w="0">
            <a:noFill/>
          </a:ln>
        </p:spPr>
      </p:pic>
      <p:cxnSp>
        <p:nvCxnSpPr>
          <p:cNvPr id="241" name="Straight Arrow Connector 4"/>
          <p:cNvCxnSpPr/>
          <p:nvPr/>
        </p:nvCxnSpPr>
        <p:spPr>
          <a:xfrm flipH="1">
            <a:off x="7921440" y="3431880"/>
            <a:ext cx="381600" cy="111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37160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volved in the clotting proce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al wounds and prevent blood lo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lp repair damaged vesse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50,000 – 400,000 per microliter of bloo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601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stain bluish with reddish or purple granu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7626240" y="2027160"/>
            <a:ext cx="1374840" cy="1405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3"/>
          <a:stretch/>
        </p:blipFill>
        <p:spPr>
          <a:xfrm>
            <a:off x="5948280" y="1701720"/>
            <a:ext cx="1689120" cy="1317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4"/>
          <a:stretch/>
        </p:blipFill>
        <p:spPr>
          <a:xfrm>
            <a:off x="6410160" y="4800600"/>
            <a:ext cx="2455920" cy="1830240"/>
          </a:xfrm>
          <a:prstGeom prst="rect">
            <a:avLst/>
          </a:prstGeom>
          <a:ln w="0">
            <a:noFill/>
          </a:ln>
        </p:spPr>
      </p:pic>
      <p:cxnSp>
        <p:nvCxnSpPr>
          <p:cNvPr id="247" name="Straight Arrow Connector 4"/>
          <p:cNvCxnSpPr/>
          <p:nvPr/>
        </p:nvCxnSpPr>
        <p:spPr>
          <a:xfrm flipH="1">
            <a:off x="8381160" y="3916080"/>
            <a:ext cx="381960" cy="111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8" name="Picture 2" descr=""/>
          <p:cNvPicPr/>
          <p:nvPr/>
        </p:nvPicPr>
        <p:blipFill>
          <a:blip r:embed="rId5"/>
          <a:srcRect l="0" t="0" r="0" b="7227"/>
          <a:stretch/>
        </p:blipFill>
        <p:spPr>
          <a:xfrm>
            <a:off x="838080" y="4743360"/>
            <a:ext cx="4581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525780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Composi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736360"/>
            <a:ext cx="8229600" cy="29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is responsible for…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gases (oxygen &amp; carbon dioxid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waste produc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nutri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lping remove toxins from the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238880" y="990720"/>
            <a:ext cx="1524240" cy="1517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6762600" y="3429000"/>
            <a:ext cx="2381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6700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lood makes up 6–8% of our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tal body weigh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rmal adult blood volume is 5 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lood is made up of cellular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terial in a fluid called plasm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7543800" y="61596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2536920" cy="1974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3"/>
          <a:stretch/>
        </p:blipFill>
        <p:spPr>
          <a:xfrm>
            <a:off x="6324480" y="2163600"/>
            <a:ext cx="18288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21733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is a circulating tissue consisting of three types of cell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rythr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te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euk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tele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romb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ells listed above are suspended in a liquid known as plas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7238880" y="76824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6858000" y="3048120"/>
            <a:ext cx="15764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867960"/>
            <a:ext cx="487656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Forma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176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matopoiesi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he formation and development of blood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adults the cellular elements are produced in the bone mar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WBCs are produced in the lymphatic tissue and bone mar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ood cells need certain nutrients to form properl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 include…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r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lic aci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Vitamin B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blood cells formed com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rom a hematopoietic stem ce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224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se cells can become an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ood ce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76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www.allthingsstemcell.com/wp-content/uploads/2009/02/hematopoiesis_simple1.png"/>
          <p:cNvPicPr/>
          <p:nvPr/>
        </p:nvPicPr>
        <p:blipFill>
          <a:blip r:embed="rId2"/>
          <a:stretch/>
        </p:blipFill>
        <p:spPr>
          <a:xfrm>
            <a:off x="4119480" y="3505320"/>
            <a:ext cx="502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563868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Composi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blood is made up of cell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at are suspended in liqui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lled plasm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lasma makes up 55% of the bloo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lasma is made of 90% water an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0% proteins, lipids, carbohydrates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mino acids, antibodies, hormones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ectrolytes, waste, salts, and 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lood cells make up the remaining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45% of the bloo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d blood cells make up 99% of the blood cell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ite blood cells and platelets make up the other 1%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57200" indent="-4572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7238880" y="692280"/>
            <a:ext cx="1524240" cy="1517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2"/>
          <a:srcRect l="0" t="0" r="3921" b="6850"/>
          <a:stretch/>
        </p:blipFill>
        <p:spPr>
          <a:xfrm>
            <a:off x="5334120" y="2286000"/>
            <a:ext cx="3733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ch type of blood cell performs a different fun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d blood cells (Erythrocy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ite blood cells (Leukocy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(Thrombocyte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7391520" y="99684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4343400" y="37339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3"/>
          <a:stretch/>
        </p:blipFill>
        <p:spPr>
          <a:xfrm>
            <a:off x="4432320" y="5105520"/>
            <a:ext cx="1376280" cy="1403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4"/>
          <a:stretch/>
        </p:blipFill>
        <p:spPr>
          <a:xfrm>
            <a:off x="4343400" y="23623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5"/>
          <a:stretch/>
        </p:blipFill>
        <p:spPr>
          <a:xfrm>
            <a:off x="6545160" y="3344760"/>
            <a:ext cx="254016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335268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Red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28600" y="1752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spcBef>
                <a:spcPts val="45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rythrocytes or RBC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ost abundant cell in the bloo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4 million – 6 million per microliter of blood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rmed in the bone marro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ture forms do NOT have a nucleu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aped as biconcave disk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6-8 micrometers in diamet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ife span of about 120 day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emoglobin (iron protein)i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nd in the RB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emoglobin carries oxygen from th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ungs to the rest of the body and carbo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oxide binds to the RBC and is taken t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lungs to be exhale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7315200" y="84456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5935680" y="2971800"/>
            <a:ext cx="2043000" cy="1531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3"/>
          <a:stretch/>
        </p:blipFill>
        <p:spPr>
          <a:xfrm>
            <a:off x="6934320" y="4695840"/>
            <a:ext cx="1828800" cy="1771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4"/>
          <a:stretch/>
        </p:blipFill>
        <p:spPr>
          <a:xfrm>
            <a:off x="5288040" y="1600200"/>
            <a:ext cx="14936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3886200" cy="6555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White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198720" indent="-198720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eukocytes or WBC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argest sized blood cell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owest numbers in the bloo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(4,500 – 11,000 per microliter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ormed in the bone marrow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nd some in lymph gland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Primary cells of the immune system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ights disease and foreign invader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ntain nuclei with DNA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 shape depends on type of cel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ertain WBCs produce antibodi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ife span is from 24 hours to several year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ize is 8-20 micrometers in diamet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re are five different types of WBC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Neutr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Eosin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as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ymphocyt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Monocyt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6100920" y="1994040"/>
            <a:ext cx="2317680" cy="1739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3"/>
          <a:stretch/>
        </p:blipFill>
        <p:spPr>
          <a:xfrm>
            <a:off x="4267080" y="1828800"/>
            <a:ext cx="1687680" cy="1316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4"/>
          <a:stretch/>
        </p:blipFill>
        <p:spPr>
          <a:xfrm>
            <a:off x="5411880" y="4038480"/>
            <a:ext cx="3576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2:32:06Z</dcterms:created>
  <dc:creator>Mims, Amanda</dc:creator>
  <dc:description/>
  <dc:language>en-US</dc:language>
  <cp:lastModifiedBy>د أشرف مشالي</cp:lastModifiedBy>
  <cp:lastPrinted>2011-12-15T16:15:06Z</cp:lastPrinted>
  <dcterms:modified xsi:type="dcterms:W3CDTF">2013-09-02T11:17:50Z</dcterms:modified>
  <cp:revision>47</cp:revision>
  <dc:subject/>
  <dc:title>The Structure and Function  of Blood</dc:title>
</cp:coreProperties>
</file>