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E22-E019-498B-AF94-755B9C8C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5DA-1397-44E7-98A4-0912855F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3F5-0E51-4885-B900-4274ED4E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DC8-FC38-4561-BD42-3CD1BAF4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9BE7-E6F1-441E-B347-94A68420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0EBE-9B87-46B4-AE3C-29F6E8BA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6DDC-AA0C-4095-A3F9-765061F0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87E1-4C2B-4E7C-B88B-838934D8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16CB-E484-40C0-8321-2B2818C1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443-A573-4F41-8A52-365E4065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CEC7-2A3F-4930-8630-018C8013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464-8603-4581-B407-9EC73FE3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0FFE-F13F-4FBD-8483-A63760B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4D22-6474-4EB0-B649-97995CC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1EC0-33DF-4596-BC16-5FE7FD1D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66FF-A6B0-41B8-B772-B5DDA2F0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5866-3AE7-482A-9379-9B91D2F9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EDD2-DB04-4CA7-BE6D-444C10A0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006A-D125-4A6B-8500-91F71F95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C4D9-02C7-4C43-AD69-3C9CCEBA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B63E-6B60-474D-B593-7952DE48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D362-483A-403D-B6B3-FC4246AC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6C6-67B6-4789-968A-AE24551F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256F-5527-4ECF-9001-A57C8F6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8BCE-2713-4992-942C-5EB5107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D727-685D-4D1D-8C24-956B8F1F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C724-0791-4EF8-8038-9113C17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302A-D09B-4AB0-AA4E-17CB7575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8098-2E5F-4880-885D-0A239AAC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D755-2F9E-4C87-BCF7-A6558EF7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1F6A-992F-465C-AE4A-8A1BD84A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9891-E6FC-451F-9278-25A4A9AC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77EF-B41D-4F4D-BE9A-8A927D80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921-C905-4136-8525-FB11B9FE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1806B-F4FE-4660-A228-770C1515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A128-97A8-40A8-9A07-EA37176B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DA652-49B3-4770-BCFE-DA0074F9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09DDD-2542-43F2-87CE-7CF1FA0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2D38B-0B16-4617-884C-591BD347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3F68-2F7C-4BF3-915D-36F4E26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5712-F42A-4104-B8D4-EDBD143D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E43F-37B6-4F14-9D76-D30504FE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7EC95-8490-474A-BF24-E1204E34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888-DA8E-43BC-9754-610A3CC8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255-2DF5-42E3-85C8-DAA95604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88D-65E3-45AC-AEC5-C00A050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D35-7AD2-472E-A787-0772A67D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BA6-9F53-4807-BD61-53AF464C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89D0-995C-4013-9C6F-83DDC2215912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45F-BD91-43DF-B07A-F459A09D7595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6B68-A88A-456E-AF6E-3E9C42F80A50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9AD8-777B-4FDF-BA44-3594B24538CA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158840" y="2335320"/>
            <a:ext cx="6662880" cy="69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FLANDERS\AppData\Local\Microsoft\Windows\Temporary Internet Files\Content.IE5\4SCEXAE9\MP900407342[1].jpg"/>
          <p:cNvPicPr/>
          <p:nvPr/>
        </p:nvPicPr>
        <p:blipFill>
          <a:blip r:embed="rId2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1728720" y="961920"/>
            <a:ext cx="5357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196560" indent="-19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24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150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601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8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224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76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od is made up of cell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suspended in liqui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plas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makes up 5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is made of 90% water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0% proteins, lipids, carbohydrat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ectrolytes, waste, salts, and 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d blood cells make up 99% of the blood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te blood cells and platelets make up the other 1%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5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388620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198720" indent="-198720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د أشرف مشالي</cp:lastModifiedBy>
  <cp:lastPrinted>2011-12-15T16:15:06Z</cp:lastPrinted>
  <dcterms:modified xsi:type="dcterms:W3CDTF">2013-09-02T11:17:50Z</dcterms:modified>
  <cp:revision>47</cp:revision>
  <dc:subject/>
  <dc:title>The Structure and Function  of Blood</dc:title>
</cp:coreProperties>
</file>