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464-B1EB-4C2A-8022-98DD53B8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EE6-3260-4AD4-B14C-A2A11B7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65A-B476-4CBD-A75B-B766EDB0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6E3-2EAE-4D5A-BF64-5C318E2E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CF6-38D4-464D-9632-C4A7202E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E98-5974-4C83-8E51-CEECD42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E1C8-AB78-4123-9DF6-EB1174D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3CEB-E505-44CD-953F-B74C611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0351-3B8E-4CFF-896A-0EA5777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A9A-E1E5-4196-A186-1091C5F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4B21-BB1B-42FD-8997-0783DFB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636-08C5-47FD-88F7-9C85C1CC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0A20-EAAD-467D-BEA7-C7A4FC6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3EEF-D701-4EC5-B689-21AA9FC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DBE4-6A89-4984-8CF1-1EB223BC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377E-09E2-4578-A130-3028B151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A1A-D5F9-43FF-8046-B00810E9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6F7C-F811-4F09-9D88-CAAE4EF8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215C-6982-49DD-9F33-4977E905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E238-1DE2-49E0-9B47-04F1076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78F9-7F7A-447F-A1E8-C5C3DD3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D41F-4AD8-4BCE-8F5C-5009F11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672-B88E-4E15-BF6E-C4FD14BF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F46A-3678-4988-83E2-4B9B947E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1BFA-B172-4130-BEC0-192CFBDE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47E4-2EA1-4135-8CB5-832D066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CC06-67C2-487A-AC20-489D814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60F2-9B2C-440B-B5A3-0AAE556A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F35A-3D5A-4C56-82BA-A84A3F35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6F55-5D58-48B5-B3DA-9B771C08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944E-9161-4226-9E1B-3F50F39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1D6B-20D9-468F-B317-8E6CA370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D7524-7AA2-40A1-B982-D4CA5066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6A3-E451-4992-AE3F-A4AA0064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5F2F-B1BD-4AF2-B5DC-1CF418A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3DAC-F610-4033-AA8F-FECEBB4C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ACFC-97A0-4180-9284-32EA3E13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EDCE-3386-4E96-B848-5508BB7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84CF-5823-4C43-AACA-C30267E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A1F8-DFD6-4309-9725-F25F795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C5E9-9862-4128-BDF8-B5AE508B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15C7-B8BC-4E3C-AA50-F24ADBE7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5201-EE34-4D52-B2AD-C9EFDBC1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920-B5A6-4A07-A686-9B636BC0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98A-D679-4C35-A4C8-A66EF058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9E9-5A10-4D22-A02E-418E8E2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520-C051-4A75-8148-8CF4D5E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07A-02B6-4D7F-8E67-DBB283E6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5B7D-74B6-404A-AA35-CB1DF6F1E9FA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0FBD-22C5-4E47-80D3-E977DDF887FA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7A6F-AEC2-4469-8F7B-568869B96155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4B7-88F7-4D8B-A4A4-EF1276D25C79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58840" y="2335320"/>
            <a:ext cx="6662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د أشرف مشالي</cp:lastModifiedBy>
  <cp:lastPrinted>2011-12-15T16:15:06Z</cp:lastPrinted>
  <dcterms:modified xsi:type="dcterms:W3CDTF">2013-09-02T11:17:50Z</dcterms:modified>
  <cp:revision>47</cp:revision>
  <dc:subject/>
  <dc:title>The Structure and Function  of Blood</dc:title>
</cp:coreProperties>
</file>