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18.wmf" ContentType="image/x-wmf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1D0B-C387-4E55-B770-2009B6AB00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E87F-3A64-4AA6-8DD3-C0DCEE7FD77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DF48-771D-47B3-84CF-157A7DCB24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F397-0979-4F72-9B33-2B77656BF12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2D3A-B1E4-4076-93B8-C6148654118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E5A-AB5E-4866-938E-B51FC73F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028-B37E-429F-8F70-69AF935E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10E-C8D4-4A53-9B20-A0782523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41B-6268-4B65-BE44-DEA43733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A8D-035B-4E52-B3D1-E49F4C23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954-B876-494F-BAB0-CE572C46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9FC-317D-474E-8E6C-A30A5298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C36-9708-4A10-80AF-94F1329D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695-2FDF-4840-B563-2E151601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15E-9E9B-4BF6-9189-6E2BD09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ADB-B1D3-4545-A27A-6579D101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AE3B-0562-4D9C-8713-F299ECEC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79BF-D9FC-458C-998E-05B1DCB3BD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ksu.edu.sa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C860-896E-47CC-9F04-90C61F3F97A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9760" y="222552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14440" y="286020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125960" y="3630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sp>
        <p:nvSpPr>
          <p:cNvPr id="53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181480" y="6342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6-1437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125960" y="4210200"/>
            <a:ext cx="46483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cture 24 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romosomal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0" y="1828800"/>
            <a:ext cx="390672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King Saud Universi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23000" y="0"/>
            <a:ext cx="2421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457200" y="120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lterations of chromosome number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tructure cause some genetic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iagram 3" descr=""/>
          <p:cNvPicPr/>
          <p:nvPr/>
        </p:nvPicPr>
        <p:blipFill>
          <a:blip r:embed="rId1"/>
          <a:stretch/>
        </p:blipFill>
        <p:spPr>
          <a:xfrm>
            <a:off x="85680" y="1359000"/>
            <a:ext cx="9204480" cy="5286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Diagram 1" descr=""/>
          <p:cNvPicPr/>
          <p:nvPr/>
        </p:nvPicPr>
        <p:blipFill>
          <a:blip r:embed="rId1"/>
          <a:stretch/>
        </p:blipFill>
        <p:spPr>
          <a:xfrm>
            <a:off x="281160" y="1390680"/>
            <a:ext cx="8484840" cy="51814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457200" y="120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lterations of chromosome number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tructure cause some genetic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1643040"/>
            <a:ext cx="9067680" cy="44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ploid embryo that is homozygous for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deletion or male with a large deletion to its singl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romosome is usually missing many essential genes and this leads to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hal outc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ications and translocations are very harm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anslocation or inversion can alter phenotype because a gene’s expression is influenced by its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28760" y="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lterations of chromosome number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tructure cause some genetic diso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Diagram 2" descr=""/>
          <p:cNvPicPr/>
          <p:nvPr/>
        </p:nvPicPr>
        <p:blipFill>
          <a:blip r:embed="rId1"/>
          <a:stretch/>
        </p:blipFill>
        <p:spPr>
          <a:xfrm>
            <a:off x="30240" y="212760"/>
            <a:ext cx="8905680" cy="6645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)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bnormal Chromosom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837720"/>
            <a:ext cx="8915400" cy="19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- Down syndro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[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euploid cond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n +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somy in autosomes]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ue to three copies of chromosome 21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som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lthough chromosome 21 is the smallest human chromosome, it severely alters an individual’s phenotype in specific way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1066680" y="3352680"/>
            <a:ext cx="7238880" cy="2862360"/>
            <a:chOff x="1066680" y="3352680"/>
            <a:chExt cx="7238880" cy="2862360"/>
          </a:xfrm>
        </p:grpSpPr>
        <p:pic>
          <p:nvPicPr>
            <p:cNvPr id="12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1066680" y="3352680"/>
              <a:ext cx="3761640" cy="2862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1" name="Oval 5"/>
            <p:cNvSpPr/>
            <p:nvPr/>
          </p:nvSpPr>
          <p:spPr>
            <a:xfrm>
              <a:off x="3172320" y="5759640"/>
              <a:ext cx="425520" cy="2491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7" descr=""/>
            <p:cNvPicPr/>
            <p:nvPr/>
          </p:nvPicPr>
          <p:blipFill>
            <a:blip r:embed="rId2"/>
            <a:stretch/>
          </p:blipFill>
          <p:spPr>
            <a:xfrm>
              <a:off x="4898880" y="3352680"/>
              <a:ext cx="3406680" cy="2854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6095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304920" y="985680"/>
            <a:ext cx="5105160" cy="36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isom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erm containing both X and Y combines with an egg containing the X, results in a male child.  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n XXY m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may be feminine characteristics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5772240" y="2860560"/>
            <a:ext cx="312408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s with some development of breast tissue normally seen in fe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le body hair is present, and such person are typically tall, have small tes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tility results from absent sp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e of mental retardatio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or may not be pres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"/>
          <p:cNvGrpSpPr/>
          <p:nvPr/>
        </p:nvGrpSpPr>
        <p:grpSpPr>
          <a:xfrm>
            <a:off x="5772240" y="952560"/>
            <a:ext cx="2971800" cy="1895040"/>
            <a:chOff x="5772240" y="952560"/>
            <a:chExt cx="2971800" cy="1895040"/>
          </a:xfrm>
        </p:grpSpPr>
        <p:pic>
          <p:nvPicPr>
            <p:cNvPr id="129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5772240" y="952560"/>
              <a:ext cx="2971800" cy="1820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30" name="Oval 15"/>
            <p:cNvSpPr/>
            <p:nvPr/>
          </p:nvSpPr>
          <p:spPr>
            <a:xfrm>
              <a:off x="8001000" y="2326320"/>
              <a:ext cx="583560" cy="521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euploidy of Sex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4114440"/>
            <a:ext cx="4495680" cy="2514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648320" y="4038480"/>
            <a:ext cx="411480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4" name="Text Box 6"/>
          <p:cNvSpPr/>
          <p:nvPr/>
        </p:nvSpPr>
        <p:spPr>
          <a:xfrm>
            <a:off x="228600" y="838080"/>
            <a:ext cx="8686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 XYY male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nd to somewhat taller than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 trisomy female (XXX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ccurs once in every 2000 live births, produces healthy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urner’s syndrom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 monosomy fema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once in every 5000 births, produces phenotypic, but immature females </a:t>
            </a:r>
            <a:r>
              <a:rPr b="0" lang="ar-EG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غير ناضجة جنسي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tle 1"/>
          <p:cNvSpPr/>
          <p:nvPr/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euploidy of Sex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orders Caused by Structurally Altered Chromosomes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858000" y="2971800"/>
            <a:ext cx="2135160" cy="2987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comb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1066680"/>
            <a:ext cx="8686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B: Sex Chrom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hromosomal systems of sex deter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-linked genes exhibit unique patterns of inheri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 of X-Linked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X-linked dis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chenne muscular dystro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philia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linked recessive disorder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 blind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tions of chromosome number or structure cause some genetic disor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Chromosom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tions of Chromosom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D0A3-9316-4150-90B8-9EE573BE041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ronic Myelogenous Leukemi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CML).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15364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5DA3-88F6-4B87-82E9-A7C1E0491FB2}" type="slidenum">
              <a:rPr b="0" lang="ar-EG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440" y="1487520"/>
            <a:ext cx="3907080" cy="472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4800600" y="1438200"/>
            <a:ext cx="3886200" cy="38196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35920" cy="6248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3047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76B1-32E3-4366-9CBE-70E39CCE6074}" type="slidenum">
              <a:rPr b="0" lang="ar-SA" sz="10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66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67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69" name="Picture 1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0" name="Picture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1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296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follow the same pattern of inheritance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04920" y="1243080"/>
            <a:ext cx="838188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600200" y="76320"/>
            <a:ext cx="6629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7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320" y="1501920"/>
            <a:ext cx="586728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lor blindnes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ى الألوا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disorder inherited a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cessive sex-linked charact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ffect both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or blind female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may be born to a color blind father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a carrier mother 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Student</cp:lastModifiedBy>
  <dcterms:modified xsi:type="dcterms:W3CDTF">2016-01-24T08:30:04Z</dcterms:modified>
  <cp:revision>1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