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98A3-D96E-43EE-81CE-40EFF02D14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7390-A244-4C57-ACAA-78F8968F11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0D6-419E-4330-B64B-D4FBCE9225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853-6CA0-4896-AC83-3AF54D88FE5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8B33-DC52-4483-82F0-7CAA5F9BA3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2F8-CA11-4E7A-8790-E4B0CF4C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8DA-37EF-4B78-BBE3-7CF4031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C43-08B1-4CC3-8B1B-A5913648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20F-19CF-4C26-9EC9-A9AEE8EF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7E8-C3AF-49E0-9193-981D2ABA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944-A6B2-4AEC-8C42-41A03D08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F80-8CFC-45DA-A1E8-9491E1D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E67-5061-43D2-A76D-56E267F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36D-F1C8-44F3-9709-1D5E2C5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120-7F22-4CD9-8960-E9BD926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AFC-FB3B-4F2B-94D4-3765ED9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4A8-BFE7-4E04-9142-BF440C0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A70-68A6-49D3-8AAD-A3A1A690A3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29DD-E4A5-429A-BE99-9EF2D52F0A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4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romosom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457200" y="12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3" descr=""/>
          <p:cNvPicPr/>
          <p:nvPr/>
        </p:nvPicPr>
        <p:blipFill>
          <a:blip r:embed="rId1"/>
          <a:stretch/>
        </p:blipFill>
        <p:spPr>
          <a:xfrm>
            <a:off x="85680" y="1359000"/>
            <a:ext cx="9204480" cy="5286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1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48484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57200" y="12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643040"/>
            <a:ext cx="906768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ploid embryo that is homozygous for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letion or male with a large deletion to its singl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omosome is usually missing many essential genes and this leads to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hal out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ions and translocations are very harm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ocation or inversion can alter phenotype because a gene’s expression is influenced by its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28760" y="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iagram 2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8905680" cy="664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)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normal Chromosom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837720"/>
            <a:ext cx="8915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- Down syndr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euploid 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n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omy in autosomes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ue to three copies of chromosome 21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om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lthough chromosome 21 is the smallest human chromosome, it severely alters an individual’s phenotype in specific wa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1066680" y="3352680"/>
            <a:ext cx="7238880" cy="2862360"/>
            <a:chOff x="1066680" y="3352680"/>
            <a:chExt cx="7238880" cy="286236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1066680" y="3352680"/>
              <a:ext cx="3761640" cy="286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1" name="Oval 5"/>
            <p:cNvSpPr/>
            <p:nvPr/>
          </p:nvSpPr>
          <p:spPr>
            <a:xfrm>
              <a:off x="3172320" y="5759640"/>
              <a:ext cx="425520" cy="249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7" descr=""/>
            <p:cNvPicPr/>
            <p:nvPr/>
          </p:nvPicPr>
          <p:blipFill>
            <a:blip r:embed="rId2"/>
            <a:stretch/>
          </p:blipFill>
          <p:spPr>
            <a:xfrm>
              <a:off x="4898880" y="3352680"/>
              <a:ext cx="3406680" cy="2854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304920" y="985680"/>
            <a:ext cx="5105160" cy="36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isom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rm containing both X and Y combines with an egg containing the X, results in a male child.  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n XXY m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feminine characteristics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772240" y="2860560"/>
            <a:ext cx="31240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with some development of breast tissue normally seen in fe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body hair is present, and such person are typically tall, have small te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tility results from absent sp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 of mental retarda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or may not be pres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5772240" y="952560"/>
            <a:ext cx="2971800" cy="1895040"/>
            <a:chOff x="5772240" y="952560"/>
            <a:chExt cx="2971800" cy="1895040"/>
          </a:xfrm>
        </p:grpSpPr>
        <p:pic>
          <p:nvPicPr>
            <p:cNvPr id="129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5772240" y="952560"/>
              <a:ext cx="2971800" cy="1820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30" name="Oval 15"/>
            <p:cNvSpPr/>
            <p:nvPr/>
          </p:nvSpPr>
          <p:spPr>
            <a:xfrm>
              <a:off x="8001000" y="2326320"/>
              <a:ext cx="583560" cy="521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euploidy of 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4495680" cy="2514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648320" y="4038480"/>
            <a:ext cx="411480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228600" y="838080"/>
            <a:ext cx="8686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 XYY mal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 to somewhat taller tha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 trisomy female (XXX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ccurs once in every 2000 live births, produces healthy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urner’s syndrom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monosomy fem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once in every 5000 births, produces phenotypic, but immature females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ير ناضجة جنس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le 1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euploidy of 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orders Caused by Structurally Altered Chromosom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2135160" cy="2987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0666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B: Sex Chrom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hromosomal systems of sex deter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-linked genes exhibit unique patterns of inher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of X-Linked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X-linked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henne muscular dystro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linked recessive disorde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 blind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tions of chromosome number or structure cause some genetic dis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Chromosom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tions of Chromosom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1C4E-9085-4B7E-8CC1-172A86CE7B3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ronic Myelogenous Leukemi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CML).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15E6-7DE2-4CB5-975F-5272A27806F9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4800600" y="1438200"/>
            <a:ext cx="3886200" cy="3819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CBF-F943-4F2F-B32E-8EB574CCEF4E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66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67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69" name="Picture 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296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follow the same pattern of inheritance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04920" y="1243080"/>
            <a:ext cx="838188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600200" y="76320"/>
            <a:ext cx="6629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1501920"/>
            <a:ext cx="586728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lor blindnes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ى الألوا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disorder inherited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essive sex-linked charac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ffect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or blind female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ay be born to a color blind father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a carrier mother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Student</cp:lastModifiedBy>
  <dcterms:modified xsi:type="dcterms:W3CDTF">2016-01-24T08:30:04Z</dcterms:modified>
  <cp:revision>1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