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B2C-A9DB-4B5E-A52A-E5BBBBA8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AAF-3F44-4575-9F95-0B7F335C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F35-3F25-4627-8F7D-5B9AFD50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77A-48AF-4BA3-AC14-C3D7791B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75A-74E3-43C3-9188-9352DE4F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1B5-CE9D-4C3F-A1FC-A01EF5C1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30C-F209-42F9-8C6E-15A19D8E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EB0-751F-4735-B6E4-72F6F9A0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AEC-B3A3-4768-A495-FCC8BBBF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EE1-3FCD-466C-A9D4-22B0FB2C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F8B-614E-4BB3-8A91-2440DE18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74F-67FF-46D5-8014-8DF33A02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6490-BE8D-4D77-8A14-317988F145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0108-E14B-41CE-8F78-0E282E0C04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B2E0-DF05-4DC7-BE65-BFD94FCDF8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62064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723E-3214-4D7F-AB51-D6D745D9B4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1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2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E809-0A07-4FFF-B144-F0AF755EF8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1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1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4800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 functions of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horm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i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endocr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exocr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mino acid-based hormones act on their target cells with how steroid or thyroid hormones act on their targe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the hypothalamus and the pituitary gland in the release of horm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s of the major endocrine glands and horm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 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ocrine glands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1034"/>
          <p:cNvPicPr/>
          <p:nvPr/>
        </p:nvPicPr>
        <p:blipFill>
          <a:blip r:embed="rId1"/>
          <a:stretch/>
        </p:blipFill>
        <p:spPr>
          <a:xfrm>
            <a:off x="6095880" y="1143000"/>
            <a:ext cx="2919600" cy="563868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A2B8-7514-4627-B8B5-18A07A44D5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the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2D10-4876-4DE1-B9E1-EAC9B5ED1D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57200" y="45720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362320"/>
            <a:ext cx="8610480" cy="2133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6971-9E50-422E-855D-22A071AA12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8159-2323-456D-8FAB-1F386743D6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90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100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2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كلية العوم</cp:lastModifiedBy>
  <dcterms:modified xsi:type="dcterms:W3CDTF">2013-01-27T05:18:44Z</dcterms:modified>
  <cp:revision>99</cp:revision>
  <dc:subject/>
  <dc:title>Slide 1</dc:title>
</cp:coreProperties>
</file>