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9.png" ContentType="image/png"/>
  <Override PartName="/ppt/media/image6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75C-9D64-4CAB-B6AA-3FC30F26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AE7-BC46-4336-923B-3CA36C4D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F43A-01ED-4DFA-9C32-C3E6F8E0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139-4229-4F88-9C8D-6D084E03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BEE-D5FD-40E2-9D94-18B9B4F4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593-B60D-426D-B49A-AFC1A9DA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6F0-E3A4-4782-B969-EA0C6865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126-F713-41C0-A5BF-EF602F64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AD0-B88C-4D9E-91CB-B2FE95BE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9E7-A6F8-4101-A3F9-20A4AA9B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BEA-9E17-4CBD-9FBA-8DC48D17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7DD-53DC-448C-A3D8-2475B504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5E3C-F20D-4B6F-94A1-ED0784B35C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9C00-D6F1-42D7-A29B-955AC44EDA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11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2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0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5"/>
          <p:cNvSpPr/>
          <p:nvPr/>
        </p:nvSpPr>
        <p:spPr>
          <a:xfrm>
            <a:off x="1371600" y="533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EF58-4126-4A50-BA2F-2FEA26230C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925200"/>
            <a:ext cx="86868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4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hyroid-stimulating hormone (T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c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yroid g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yroxine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also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 (ACT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drenal cortex secretion of glucocortic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corticoids and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nocyte-stimulating hormone (MS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y play a role in fat metabol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24560" indent="-57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ndorph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 pain perce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8840" indent="-2653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s mimicked by heroin and other opiate dru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381D-5BF9-4414-B98B-081C92579B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9036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nterior pituitary glan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3"/>
          <p:cNvGrpSpPr/>
          <p:nvPr/>
        </p:nvGrpSpPr>
        <p:grpSpPr>
          <a:xfrm>
            <a:off x="228600" y="685800"/>
            <a:ext cx="8763120" cy="6052680"/>
            <a:chOff x="228600" y="685800"/>
            <a:chExt cx="8763120" cy="6052680"/>
          </a:xfrm>
        </p:grpSpPr>
        <p:grpSp>
          <p:nvGrpSpPr>
            <p:cNvPr id="120" name="Group 9"/>
            <p:cNvGrpSpPr/>
            <p:nvPr/>
          </p:nvGrpSpPr>
          <p:grpSpPr>
            <a:xfrm>
              <a:off x="228600" y="685800"/>
              <a:ext cx="8763120" cy="6052680"/>
              <a:chOff x="228600" y="685800"/>
              <a:chExt cx="8763120" cy="6052680"/>
            </a:xfrm>
          </p:grpSpPr>
          <p:pic>
            <p:nvPicPr>
              <p:cNvPr id="121" name="Picture 2" descr=""/>
              <p:cNvPicPr/>
              <p:nvPr/>
            </p:nvPicPr>
            <p:blipFill>
              <a:blip r:embed="rId1"/>
              <a:srcRect l="0" t="0" r="0" b="3707"/>
              <a:stretch/>
            </p:blipFill>
            <p:spPr>
              <a:xfrm>
                <a:off x="228600" y="685800"/>
                <a:ext cx="8763120" cy="548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Text Box 6"/>
              <p:cNvSpPr/>
              <p:nvPr/>
            </p:nvSpPr>
            <p:spPr>
              <a:xfrm>
                <a:off x="3505320" y="6095880"/>
                <a:ext cx="3200400" cy="64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lso called </a:t>
                </a:r>
                <a:r>
                  <a:rPr b="1" lang="en-US" sz="1800" spc="-1" strike="noStrike">
                    <a:solidFill>
                      <a:srgbClr val="00b050"/>
                    </a:solidFill>
                    <a:latin typeface="Arial"/>
                  </a:rPr>
                  <a:t>gonadotropin</a:t>
                </a: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 hormones </a:t>
                </a:r>
                <a:r>
                  <a:rPr b="0" lang="ar-EG" sz="1800" spc="-1" strike="noStrike">
                    <a:solidFill>
                      <a:srgbClr val="000000"/>
                    </a:solidFill>
                    <a:latin typeface="Arial"/>
                  </a:rPr>
                  <a:t>هرمونات المناس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"/>
              <p:cNvSpPr/>
              <p:nvPr/>
            </p:nvSpPr>
            <p:spPr>
              <a:xfrm>
                <a:off x="3962520" y="5638680"/>
                <a:ext cx="68580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"/>
            <p:cNvSpPr/>
            <p:nvPr/>
          </p:nvSpPr>
          <p:spPr>
            <a:xfrm>
              <a:off x="5232240" y="4876920"/>
              <a:ext cx="1981440" cy="307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drenocorticotrop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934320" y="3581280"/>
              <a:ext cx="1981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elanocyte-stimulating H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 flipH="1">
              <a:off x="7391520" y="4038480"/>
              <a:ext cx="30456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A558-F7E8-4A56-B7B1-A790F9D090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)- Pos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Oxytoc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contraction of the uterus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ammary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ntidiuretic hormone (ADH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مُضاد لإدرار البو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tention of                                                                              water b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kidney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(in Kidney tubu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decreases                                                                               urination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regulated by                                                                        water/salt bal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7"/>
          <p:cNvGrpSpPr/>
          <p:nvPr/>
        </p:nvGrpSpPr>
        <p:grpSpPr>
          <a:xfrm>
            <a:off x="4343400" y="2209680"/>
            <a:ext cx="4800600" cy="4496040"/>
            <a:chOff x="4343400" y="2209680"/>
            <a:chExt cx="4800600" cy="4496040"/>
          </a:xfrm>
        </p:grpSpPr>
        <p:pic>
          <p:nvPicPr>
            <p:cNvPr id="130" name="Picture 4" descr=""/>
            <p:cNvPicPr/>
            <p:nvPr/>
          </p:nvPicPr>
          <p:blipFill>
            <a:blip r:embed="rId1"/>
            <a:srcRect l="0" t="0" r="0" b="4164"/>
            <a:stretch/>
          </p:blipFill>
          <p:spPr>
            <a:xfrm>
              <a:off x="4343400" y="2209680"/>
              <a:ext cx="480060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6"/>
            <p:cNvSpPr/>
            <p:nvPr/>
          </p:nvSpPr>
          <p:spPr>
            <a:xfrm>
              <a:off x="6143400" y="5546880"/>
              <a:ext cx="107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</a:rPr>
                <a:t>Antidiuretic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mmary of Hormones Secreted by the Pituitary G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p248"/>
          <p:cNvPicPr/>
          <p:nvPr/>
        </p:nvPicPr>
        <p:blipFill>
          <a:blip r:embed="rId2"/>
          <a:srcRect l="0" t="0" r="847" b="0"/>
          <a:stretch/>
        </p:blipFill>
        <p:spPr>
          <a:xfrm>
            <a:off x="152280" y="9144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80880" y="152280"/>
            <a:ext cx="807732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2- Pineal gl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ة الصنوبر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mall mass of tissue near the center of the mammalian brain and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lved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rhythm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ineal gland secretes the hormone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melaton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ed in biological rhythms associated with repro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light/dark cy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2207880" y="3843360"/>
            <a:ext cx="5233680" cy="2938320"/>
            <a:chOff x="2207880" y="3843360"/>
            <a:chExt cx="5233680" cy="2938320"/>
          </a:xfrm>
        </p:grpSpPr>
        <p:pic>
          <p:nvPicPr>
            <p:cNvPr id="140" name="Picture 11" descr=""/>
            <p:cNvPicPr/>
            <p:nvPr/>
          </p:nvPicPr>
          <p:blipFill>
            <a:blip r:embed="rId1"/>
            <a:stretch/>
          </p:blipFill>
          <p:spPr>
            <a:xfrm>
              <a:off x="3352680" y="3843360"/>
              <a:ext cx="297180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21"/>
            <p:cNvSpPr/>
            <p:nvPr/>
          </p:nvSpPr>
          <p:spPr>
            <a:xfrm>
              <a:off x="2207880" y="414792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neal 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3429000" y="4300200"/>
              <a:ext cx="990720" cy="8380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3"/>
            <p:cNvSpPr/>
            <p:nvPr/>
          </p:nvSpPr>
          <p:spPr>
            <a:xfrm>
              <a:off x="5636160" y="5646600"/>
              <a:ext cx="180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ituitary horm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5181480" y="5595840"/>
              <a:ext cx="457200" cy="228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unction and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mone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substances secreted by cells that act to regulate the activity of other cells 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affect all cells in the body and are made and secreted by end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ductless organs that secret hormones either into the bloodstream or the fluid aroun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ocrine glands can be found through out the body and are collectively known as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ocrine glands, such as the pancreas, can also be exocrine g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ocrine gl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715000" y="1447920"/>
            <a:ext cx="33526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ous and endocrine systems are the main internal communication and regula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imal hormone-secreting cells constitute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secreting organ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ductless glands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غدد الصم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Whi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ocrine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rete substances through ducts to specific locations inside and outside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 is a chemical signal secreted into blood stream and regulates communicating messages within the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cell is the site that is reached by the hormone to which it resp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changes in the body is regulated by hormones (e.g. metamorphosis in insec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hormones are [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peptide H., Amino acid derivatives H or Steroid H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FC84-3AA2-4C76-9831-D860EE2D94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1800" b="58108"/>
          <a:stretch/>
        </p:blipFill>
        <p:spPr>
          <a:xfrm>
            <a:off x="457200" y="4800600"/>
            <a:ext cx="8305920" cy="1905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315200" y="4267080"/>
            <a:ext cx="8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228600" y="3733920"/>
            <a:ext cx="792468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: Protein hormo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nd to a receptor protein on the surface of the target cell which</a:t>
            </a:r>
            <a:br>
              <a:rPr sz="1600"/>
            </a:b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rigge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28600" y="1219320"/>
            <a:ext cx="8763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mones can be grouped into two types based on their structure. Hormones can either be amino acid-based hormones or ste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mino acid based-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rotein hormones) are made of amino acids, either a single modified amino acid or a protein made of 3-200 amino acids, and are water sol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teroid horm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lipid hormones that body makes from cholesterol and are fat solu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lar to steroid hormones are thyroid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D826-C3DA-487B-9C87-51CB1B1CE1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324080"/>
            <a:ext cx="830592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Steroid hormon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trate the cell and bind to a receptor prote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side the targ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ell. This also will trigge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al transduction pathw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or triggering mRNA transcription for synthesizing a specific prote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0" t="48668" r="0" b="9449"/>
          <a:stretch/>
        </p:blipFill>
        <p:spPr>
          <a:xfrm>
            <a:off x="228600" y="2895480"/>
            <a:ext cx="8610480" cy="2133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9"/>
          <p:cNvSpPr/>
          <p:nvPr/>
        </p:nvSpPr>
        <p:spPr>
          <a:xfrm>
            <a:off x="152280" y="5257800"/>
            <a:ext cx="8686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ogen, progesterone, vitamin D and 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Usually, the intracellular receptor activated by a hormone is a transcription fa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1447920" y="152280"/>
            <a:ext cx="6553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ypes of Hormones and Mechanism of chemical signa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EFFC-243A-4734-B780-25687DC5DD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ات المحفزة (المنبهة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other endocrine glands and are important to understanding chemical coord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endocrine organs contain specialized nerve cell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urosecretory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secret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rmone epinephrine has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hormone of the endocri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signal in the nervous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back is common in regulation of the activity of both endocrine and nervous systems (homeostasis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itonin and parathyroid hormones play an important role in maintaining the concentration of the blood calcium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ecreted from thyroid and parathyroid glands respi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mones regulate the development of                                              invertebrates (e.g. insects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376E-C028-4D42-8632-38A451F850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560" y="1344240"/>
            <a:ext cx="3886200" cy="473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ropic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Times New Roman"/>
              </a:rPr>
              <a:t>الهرمون المنبه للغدد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get oth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endocrine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gl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a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ortant to understand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coord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65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h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endocrine gland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Vertebrate Endocri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54812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5.5, Page 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089240" y="1066680"/>
            <a:ext cx="5054400" cy="5791320"/>
            <a:chOff x="4089240" y="1066680"/>
            <a:chExt cx="5054400" cy="5791320"/>
          </a:xfrm>
        </p:grpSpPr>
        <p:pic>
          <p:nvPicPr>
            <p:cNvPr id="89" name="Picture 6" descr=""/>
            <p:cNvPicPr/>
            <p:nvPr/>
          </p:nvPicPr>
          <p:blipFill>
            <a:blip r:embed="rId1"/>
            <a:srcRect l="0" t="0" r="0" b="3846"/>
            <a:stretch/>
          </p:blipFill>
          <p:spPr>
            <a:xfrm>
              <a:off x="4508280" y="1066680"/>
              <a:ext cx="463536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8"/>
            <p:cNvSpPr/>
            <p:nvPr/>
          </p:nvSpPr>
          <p:spPr>
            <a:xfrm>
              <a:off x="4254120" y="1400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صنوب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228920" y="171612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نخام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0"/>
            <p:cNvSpPr/>
            <p:nvPr/>
          </p:nvSpPr>
          <p:spPr>
            <a:xfrm>
              <a:off x="4089240" y="21679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درق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1"/>
            <p:cNvSpPr/>
            <p:nvPr/>
          </p:nvSpPr>
          <p:spPr>
            <a:xfrm>
              <a:off x="4165200" y="35661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ظر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360" y="1154160"/>
            <a:ext cx="579132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pothalam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tui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nd, control the initial release of many hormones for the endocrin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ypothalam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area of the brain that coordinates many activities of the nervous and endocrin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tuit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land has two parts, anterior and posterior, and stores and releases hormones produced by the hypothal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2970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urosecretory cells of the hypothalamus produc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eleas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timulate the anterior pituitary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enohypoph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to secrete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2811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hibiting hormo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revent the anterior pituitary from secreting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142640" y="162000"/>
            <a:ext cx="71629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hypothalamus and pituitary integrate many functions of the vertebrate 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8"/>
          <p:cNvGrpSpPr/>
          <p:nvPr/>
        </p:nvGrpSpPr>
        <p:grpSpPr>
          <a:xfrm>
            <a:off x="5867280" y="1143000"/>
            <a:ext cx="3276720" cy="5714640"/>
            <a:chOff x="5867280" y="1143000"/>
            <a:chExt cx="3276720" cy="5714640"/>
          </a:xfrm>
        </p:grpSpPr>
        <p:pic>
          <p:nvPicPr>
            <p:cNvPr id="99" name="Picture 8" descr=""/>
            <p:cNvPicPr/>
            <p:nvPr/>
          </p:nvPicPr>
          <p:blipFill>
            <a:blip r:embed="rId1"/>
            <a:stretch/>
          </p:blipFill>
          <p:spPr>
            <a:xfrm>
              <a:off x="5867280" y="1143000"/>
              <a:ext cx="2971800" cy="28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"/>
            <p:cNvPicPr/>
            <p:nvPr/>
          </p:nvPicPr>
          <p:blipFill>
            <a:blip r:embed="rId2"/>
            <a:stretch/>
          </p:blipFill>
          <p:spPr>
            <a:xfrm>
              <a:off x="6323040" y="4157280"/>
              <a:ext cx="2820960" cy="27003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1" name="Rectangle 10"/>
            <p:cNvSpPr/>
            <p:nvPr/>
          </p:nvSpPr>
          <p:spPr>
            <a:xfrm>
              <a:off x="7467480" y="2517480"/>
              <a:ext cx="381240" cy="447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1"/>
            <p:cNvSpPr/>
            <p:nvPr/>
          </p:nvSpPr>
          <p:spPr>
            <a:xfrm flipH="1">
              <a:off x="6324120" y="2964600"/>
              <a:ext cx="114300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>
              <a:off x="7848720" y="2964600"/>
              <a:ext cx="1295280" cy="1192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086960" y="4380840"/>
              <a:ext cx="123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ypothalam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6324480" y="54990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s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8229600" y="534996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tuit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 flipH="1">
              <a:off x="8229600" y="5722920"/>
              <a:ext cx="457200" cy="44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7086600" y="5797080"/>
              <a:ext cx="30492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52280" y="1341360"/>
            <a:ext cx="88394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)- Anterior pituitary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hormone (GH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rowth and metabo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s directly on tissues or a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growth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Giganti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ملق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xcessive GH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cromega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excessive GH production during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dult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ypopituitary dwarf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زم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childhood GH deficienc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lactin (PRL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milk production and secretion from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mammary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غدد اللبن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This secretion is regulated by hypothalamic horm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Gonadotropin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otrop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محفز للمناس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lyo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Follicle-stimulating hormone (FS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production of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per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300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Luteinizing hormone (LH)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ُحفز لتكوين الجسم الأصف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ovaries and tes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09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hypothalamic horm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371600" y="1522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)- Pituitary gland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rets 9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 7 hormones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terior part and 2 hormones by the posterior pa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18:23:22Z</dcterms:created>
  <dc:creator>User</dc:creator>
  <dc:description/>
  <dc:language>en-US</dc:language>
  <cp:lastModifiedBy>HP</cp:lastModifiedBy>
  <dcterms:modified xsi:type="dcterms:W3CDTF">2014-01-07T17:18:23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E40E83F-5537-44BE-A9E7-5F8DDE89FD60</vt:lpwstr>
  </property>
  <property fmtid="{D5CDD505-2E9C-101B-9397-08002B2CF9AE}" pid="3" name="ArticulatePath">
    <vt:lpwstr>Lecture 25</vt:lpwstr>
  </property>
</Properties>
</file>