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D95-8504-4DAA-BEE7-FCBDCF6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B2E-440B-4931-9BFC-D34DB41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015-D405-494C-8DB2-FC858E88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35D-6BFD-4E5A-9973-D052C27C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DA9-7E57-409B-8726-EE8CC6E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A79-E51C-4DB4-AA08-4148D2EF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406-D0C6-4F74-B266-D60A87B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8C9-FFCD-47B2-B4C1-644B3B8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D24-1024-4206-BA51-22B3463F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BB7-8E6C-400F-B233-F16578DE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153-2169-4DAE-9F5C-CB489AB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9E9-8434-4693-87A4-D7B3070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28A0-13B5-41AD-A12F-BDC2F7D68E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7CC-3EFB-4756-AD50-2D92E947A2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45C-06EC-4307-A348-236A1AD902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62064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CE3D-D9AD-40E0-82C1-1923C79B48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17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18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368-1456-4A5C-AAC3-07F5F3241A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27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37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 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ocrine glands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1034"/>
          <p:cNvPicPr/>
          <p:nvPr/>
        </p:nvPicPr>
        <p:blipFill>
          <a:blip r:embed="rId1"/>
          <a:stretch/>
        </p:blipFill>
        <p:spPr>
          <a:xfrm>
            <a:off x="6095880" y="1143000"/>
            <a:ext cx="29196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9C0-336F-40E3-9F6F-79541333EB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2CC-889D-4ECF-80A8-23D859A99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45720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362320"/>
            <a:ext cx="86104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83F6-74E1-46CE-8B7A-4BA9CA669B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70C-A3CC-4F76-972C-BDB05A4EDB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6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98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User</cp:lastModifiedBy>
  <dcterms:modified xsi:type="dcterms:W3CDTF">2014-12-14T23:33:50Z</dcterms:modified>
  <cp:revision>103</cp:revision>
  <dc:subject/>
  <dc:title>Slide 1</dc:title>
</cp:coreProperties>
</file>