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904-7A36-4B5A-821D-5CE6333A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A40-CC04-4988-9AEA-8C2C732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B6A-08D2-4BDE-B58F-32FF4A84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C23-9B66-4AF1-959E-329CF072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6F3-72C5-4672-B6A3-B5B9473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318-B7AC-42FC-A46A-4399FDF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15C-58A4-44D8-894A-E3F9BE5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7A-A5DD-490C-A2EE-7C9BED6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039-2C2F-45A6-BCBE-74E2223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0D5-FC91-43DF-9EDD-5111FEA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193-90DC-4540-BA4F-BE5FEFD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6FB-6BC2-4283-9ED2-72E331E6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A17-E3B5-470C-BE2B-85505A73F7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F16-2DEF-4F86-A88F-B894C02EAF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AE97-68FE-412A-AFFF-0286AA5E40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62064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E65-831C-48F8-8888-5AEA464579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17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18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6EBA-7B19-4624-8C96-924BD3BA6F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27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37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 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ocrine glands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1034"/>
          <p:cNvPicPr/>
          <p:nvPr/>
        </p:nvPicPr>
        <p:blipFill>
          <a:blip r:embed="rId1"/>
          <a:stretch/>
        </p:blipFill>
        <p:spPr>
          <a:xfrm>
            <a:off x="6095880" y="1143000"/>
            <a:ext cx="29196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8CD4-FD3D-43D9-BEAF-2FBFC0ED45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52C-DF22-4369-AD02-97FA0E8E01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45720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362320"/>
            <a:ext cx="86104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285-C6E3-481C-97C5-8518D0C13F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3D8-303B-439D-AD64-152E335ECE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6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98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User</cp:lastModifiedBy>
  <dcterms:modified xsi:type="dcterms:W3CDTF">2014-12-14T23:33:50Z</dcterms:modified>
  <cp:revision>103</cp:revision>
  <dc:subject/>
  <dc:title>Slide 1</dc:title>
</cp:coreProperties>
</file>