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3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9.png" ContentType="image/png"/>
  <Override PartName="/ppt/media/image6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2F7-E8A4-4BFC-82FE-3D354AEF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7212-A038-481C-A1B4-40DA5F1A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9713-6A93-4633-830B-0E22E1A8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CC93-63E9-4BA1-BF36-0306F54D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C98-58E2-44CA-BF29-0C976BE6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F4E-8465-4348-95CC-340B5600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9FCB-0633-4211-91D6-8174AFAE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4A3E-7E24-4C32-834A-AA3ADDDA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99F-B4E6-4083-8B49-91F3B6D1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AA99-B5B5-4BB2-B12B-F3AAEC82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B19-8E67-4155-B683-A4FE32DE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D648-40C3-4C7D-80D4-F253BA0B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6E9E-F021-4A47-B1FB-DF9AA6577B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F71A-05AA-42D0-846B-07D70D83BE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11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2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8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9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0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5"/>
          <p:cNvSpPr/>
          <p:nvPr/>
        </p:nvSpPr>
        <p:spPr>
          <a:xfrm>
            <a:off x="1371600" y="5335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7123-8828-4D38-A567-1702CF86A9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925200"/>
            <a:ext cx="86868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hyroid-stimulating hormone (T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co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yroid g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yroxine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also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 (ACT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drenal cortex secretion of glucocortic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corticoids and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nocyte-stimulating hormone (M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y play a role in fat metabol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7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ndorph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 pain perce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s mimicked by heroin and other opiate dru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9416-415D-4D8A-A6B9-791CDAFDE0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90720" y="9036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nterior pituitary gland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228600" y="685800"/>
            <a:ext cx="8763120" cy="6052680"/>
            <a:chOff x="228600" y="685800"/>
            <a:chExt cx="8763120" cy="6052680"/>
          </a:xfrm>
        </p:grpSpPr>
        <p:grpSp>
          <p:nvGrpSpPr>
            <p:cNvPr id="120" name="Group 9"/>
            <p:cNvGrpSpPr/>
            <p:nvPr/>
          </p:nvGrpSpPr>
          <p:grpSpPr>
            <a:xfrm>
              <a:off x="228600" y="685800"/>
              <a:ext cx="8763120" cy="6052680"/>
              <a:chOff x="228600" y="685800"/>
              <a:chExt cx="8763120" cy="6052680"/>
            </a:xfrm>
          </p:grpSpPr>
          <p:pic>
            <p:nvPicPr>
              <p:cNvPr id="121" name="Picture 2" descr=""/>
              <p:cNvPicPr/>
              <p:nvPr/>
            </p:nvPicPr>
            <p:blipFill>
              <a:blip r:embed="rId1"/>
              <a:srcRect l="0" t="0" r="0" b="3707"/>
              <a:stretch/>
            </p:blipFill>
            <p:spPr>
              <a:xfrm>
                <a:off x="228600" y="685800"/>
                <a:ext cx="8763120" cy="54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Text Box 6"/>
              <p:cNvSpPr/>
              <p:nvPr/>
            </p:nvSpPr>
            <p:spPr>
              <a:xfrm>
                <a:off x="3505320" y="6095880"/>
                <a:ext cx="320040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lso called </a:t>
                </a:r>
                <a:r>
                  <a:rPr b="1" lang="en-US" sz="1800" spc="-1" strike="noStrike">
                    <a:solidFill>
                      <a:srgbClr val="00b050"/>
                    </a:solidFill>
                    <a:latin typeface="Arial"/>
                  </a:rPr>
                  <a:t>gonadotropin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 hormones </a:t>
                </a:r>
                <a:r>
                  <a:rPr b="0" lang="ar-EG" sz="1800" spc="-1" strike="noStrike">
                    <a:solidFill>
                      <a:srgbClr val="000000"/>
                    </a:solidFill>
                    <a:latin typeface="Arial"/>
                  </a:rPr>
                  <a:t>هرمونات المناس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7"/>
              <p:cNvSpPr/>
              <p:nvPr/>
            </p:nvSpPr>
            <p:spPr>
              <a:xfrm>
                <a:off x="3962520" y="5638680"/>
                <a:ext cx="68580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 Box 10"/>
            <p:cNvSpPr/>
            <p:nvPr/>
          </p:nvSpPr>
          <p:spPr>
            <a:xfrm>
              <a:off x="5232240" y="4876920"/>
              <a:ext cx="1981440" cy="307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Adrenocorticotrop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6934320" y="3581280"/>
              <a:ext cx="198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elanocyte-stimulating H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 flipH="1">
              <a:off x="7391520" y="4038480"/>
              <a:ext cx="304560" cy="45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627D-C621-47A7-BF45-86B9D5ED72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)- Posterior pituitary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Oxytoc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contraction of the uterus an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ammary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ntidiuretic hormone (AD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ُضاد لإدرار البو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tention of                                                                              water by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kidne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(in Kidney tubu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gh level decreases                                                                               urination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                                                                       water/salt bal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7"/>
          <p:cNvGrpSpPr/>
          <p:nvPr/>
        </p:nvGrpSpPr>
        <p:grpSpPr>
          <a:xfrm>
            <a:off x="4343400" y="2209680"/>
            <a:ext cx="4800600" cy="4496040"/>
            <a:chOff x="4343400" y="2209680"/>
            <a:chExt cx="4800600" cy="4496040"/>
          </a:xfrm>
        </p:grpSpPr>
        <p:pic>
          <p:nvPicPr>
            <p:cNvPr id="130" name="Picture 4" descr=""/>
            <p:cNvPicPr/>
            <p:nvPr/>
          </p:nvPicPr>
          <p:blipFill>
            <a:blip r:embed="rId1"/>
            <a:srcRect l="0" t="0" r="0" b="4164"/>
            <a:stretch/>
          </p:blipFill>
          <p:spPr>
            <a:xfrm>
              <a:off x="4343400" y="2209680"/>
              <a:ext cx="480060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6"/>
            <p:cNvSpPr/>
            <p:nvPr/>
          </p:nvSpPr>
          <p:spPr>
            <a:xfrm>
              <a:off x="6143400" y="5546880"/>
              <a:ext cx="107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Antidiuretic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mmary of Hormones Secreted by the Pituitary 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p248"/>
          <p:cNvPicPr/>
          <p:nvPr/>
        </p:nvPicPr>
        <p:blipFill>
          <a:blip r:embed="rId2"/>
          <a:srcRect l="0" t="0" r="847" b="0"/>
          <a:stretch/>
        </p:blipFill>
        <p:spPr>
          <a:xfrm>
            <a:off x="152280" y="914400"/>
            <a:ext cx="89154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80880" y="152280"/>
            <a:ext cx="807732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2- Pineal glan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ة الصنوب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 small mass of tissue near the center of the mammalian brain and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lved i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iorhyth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ineal gland secretes the hormone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ton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d in biological rhythms associated with re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light/dark cy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5"/>
          <p:cNvGrpSpPr/>
          <p:nvPr/>
        </p:nvGrpSpPr>
        <p:grpSpPr>
          <a:xfrm>
            <a:off x="2207880" y="3843360"/>
            <a:ext cx="5233680" cy="2938320"/>
            <a:chOff x="2207880" y="3843360"/>
            <a:chExt cx="5233680" cy="2938320"/>
          </a:xfrm>
        </p:grpSpPr>
        <p:pic>
          <p:nvPicPr>
            <p:cNvPr id="140" name="Picture 11" descr=""/>
            <p:cNvPicPr/>
            <p:nvPr/>
          </p:nvPicPr>
          <p:blipFill>
            <a:blip r:embed="rId1"/>
            <a:stretch/>
          </p:blipFill>
          <p:spPr>
            <a:xfrm>
              <a:off x="3352680" y="3843360"/>
              <a:ext cx="297180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21"/>
            <p:cNvSpPr/>
            <p:nvPr/>
          </p:nvSpPr>
          <p:spPr>
            <a:xfrm>
              <a:off x="2207880" y="4147920"/>
              <a:ext cx="123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neal gl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3429000" y="4300200"/>
              <a:ext cx="990720" cy="838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3"/>
            <p:cNvSpPr/>
            <p:nvPr/>
          </p:nvSpPr>
          <p:spPr>
            <a:xfrm>
              <a:off x="5636160" y="5646600"/>
              <a:ext cx="180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tuitary horm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5181480" y="5595840"/>
              <a:ext cx="457200" cy="228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unction and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rmone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substances secreted by cells that act to regulate the activity of other cells 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affect all cells in the body and are made and secreted by end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ductless organs that secret hormones either into the bloodstream or the fluid aroun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ocrine glands can be found through out the body and are collectively known as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crine glands, such as the pancreas, can also be ex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ocrine gland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715000" y="1447920"/>
            <a:ext cx="33526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vous and endocrine systems are the main internal communication and regulation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imal hormone-secreting cells constitute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secreting organs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uctless glands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Whil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is a chemical signal secreted into blood stream and regulates communicating messages with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 cell is the site that is reached by the hormone to which it resp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changes in the body is regulated by hormones (e.g. metamorphosis in insec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hormones are [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peptide H., Amino acid derivatives H or Steroid H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3335-AB6C-4643-BC38-95A244A699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1800" b="58108"/>
          <a:stretch/>
        </p:blipFill>
        <p:spPr>
          <a:xfrm>
            <a:off x="457200" y="4800600"/>
            <a:ext cx="8305920" cy="1905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315200" y="4267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28600" y="3733920"/>
            <a:ext cx="792468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: Protein hormo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d to a receptor protein on the surface of the target cell which</a:t>
            </a:r>
            <a:br>
              <a:rPr sz="1600"/>
            </a:b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trigge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228600" y="1219320"/>
            <a:ext cx="8763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mones can be grouped into two types based on their structure. Hormones can either be amino acid-based hormones or ste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mino acid based-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protein hormones) are made of amino acids, either a single modified amino acid or a protein made of 3-200 amino acids, and are water sol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eroid 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lipid hormones that body makes from cholesterol and are fat solu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lar to steroid hormones are thy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0AC4-FC46-437A-9EDD-27BE750FD5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57200" y="1324080"/>
            <a:ext cx="830592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Steroid hormon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etrate the cell and bind to a receptor prote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side the tar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ll. This also will trigge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or triggering mRNA transcription for synthesizing a specific prote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0" t="48668" r="0" b="9449"/>
          <a:stretch/>
        </p:blipFill>
        <p:spPr>
          <a:xfrm>
            <a:off x="228600" y="2895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152280" y="5257800"/>
            <a:ext cx="8686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ogen, progesterone, vitamin D and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Usually, the intracellular receptor activated by a hormone is a transcription f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2FAB-895C-491C-9860-FD77321C44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ات المحفزة (المنبهة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other endocrine glands and are important to understanding chemical coord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endocrine organs contain specialized nerve cell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urosecretory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secret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rmone epinephrine has two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hormone of the endocrin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signal in the nervous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back is common in regulation of the activity of both endocrine and nervous systems (homeostasis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tonin and parathyroid hormones play an important role in maintaining the concentration of the blood calcium cons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 secreted from thyroid and parathyroid glands respi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regulate the development of                                              invertebrates (e.g. insects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8F94-B630-46DF-B641-7617230E74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560" y="1344240"/>
            <a:ext cx="3886200" cy="473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 المنبه للغدد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get othe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endocrine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gl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a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to understand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coord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65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h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 endocrine glan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Vertebrate Endocri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7548120" y="649116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5.5, Page 9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2"/>
          <p:cNvGrpSpPr/>
          <p:nvPr/>
        </p:nvGrpSpPr>
        <p:grpSpPr>
          <a:xfrm>
            <a:off x="4089240" y="1066680"/>
            <a:ext cx="5054400" cy="5791320"/>
            <a:chOff x="4089240" y="1066680"/>
            <a:chExt cx="5054400" cy="5791320"/>
          </a:xfrm>
        </p:grpSpPr>
        <p:pic>
          <p:nvPicPr>
            <p:cNvPr id="89" name="Picture 6" descr=""/>
            <p:cNvPicPr/>
            <p:nvPr/>
          </p:nvPicPr>
          <p:blipFill>
            <a:blip r:embed="rId1"/>
            <a:srcRect l="0" t="0" r="0" b="3846"/>
            <a:stretch/>
          </p:blipFill>
          <p:spPr>
            <a:xfrm>
              <a:off x="4508280" y="1066680"/>
              <a:ext cx="46353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8"/>
            <p:cNvSpPr/>
            <p:nvPr/>
          </p:nvSpPr>
          <p:spPr>
            <a:xfrm>
              <a:off x="4254120" y="14007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صنوب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4228920" y="171612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نخام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4089240" y="21679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درق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1"/>
            <p:cNvSpPr/>
            <p:nvPr/>
          </p:nvSpPr>
          <p:spPr>
            <a:xfrm>
              <a:off x="4165200" y="35661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ظ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360" y="1154160"/>
            <a:ext cx="579132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pothalam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tui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land, control the initial release of many hormones for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ypothala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rea of the brain that coordinates many activities of the nervous and endocri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ituit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land has two parts, anterior and posterior, and stores and releases hormones produced by the hypothal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urosecretory cells of the hypothalamus produc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eleas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timulate the anterior pituitar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enohypoph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to secret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hibit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event the anterior pituitary from secreting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142640" y="162000"/>
            <a:ext cx="71629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hypothalamus and pituitary integrate many functions of the vertebrate endocri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8"/>
          <p:cNvGrpSpPr/>
          <p:nvPr/>
        </p:nvGrpSpPr>
        <p:grpSpPr>
          <a:xfrm>
            <a:off x="5867280" y="1143000"/>
            <a:ext cx="3276720" cy="5714640"/>
            <a:chOff x="5867280" y="1143000"/>
            <a:chExt cx="3276720" cy="5714640"/>
          </a:xfrm>
        </p:grpSpPr>
        <p:pic>
          <p:nvPicPr>
            <p:cNvPr id="99" name="Picture 8" descr=""/>
            <p:cNvPicPr/>
            <p:nvPr/>
          </p:nvPicPr>
          <p:blipFill>
            <a:blip r:embed="rId1"/>
            <a:stretch/>
          </p:blipFill>
          <p:spPr>
            <a:xfrm>
              <a:off x="5867280" y="1143000"/>
              <a:ext cx="2971800" cy="28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"/>
            <p:cNvPicPr/>
            <p:nvPr/>
          </p:nvPicPr>
          <p:blipFill>
            <a:blip r:embed="rId2"/>
            <a:stretch/>
          </p:blipFill>
          <p:spPr>
            <a:xfrm>
              <a:off x="6323040" y="4157280"/>
              <a:ext cx="2820960" cy="27003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1" name="Rectangle 10"/>
            <p:cNvSpPr/>
            <p:nvPr/>
          </p:nvSpPr>
          <p:spPr>
            <a:xfrm>
              <a:off x="7467480" y="2517480"/>
              <a:ext cx="381240" cy="447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 flipH="1">
              <a:off x="6324120" y="2964600"/>
              <a:ext cx="114300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>
              <a:off x="7848720" y="2964600"/>
              <a:ext cx="129528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"/>
            <p:cNvSpPr/>
            <p:nvPr/>
          </p:nvSpPr>
          <p:spPr>
            <a:xfrm>
              <a:off x="7086960" y="4380840"/>
              <a:ext cx="123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pothalam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4"/>
            <p:cNvSpPr/>
            <p:nvPr/>
          </p:nvSpPr>
          <p:spPr>
            <a:xfrm>
              <a:off x="6324480" y="54990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5"/>
            <p:cNvSpPr/>
            <p:nvPr/>
          </p:nvSpPr>
          <p:spPr>
            <a:xfrm>
              <a:off x="8229600" y="534996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 flipH="1">
              <a:off x="8229600" y="5722920"/>
              <a:ext cx="45720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7086600" y="5797080"/>
              <a:ext cx="30492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1341360"/>
            <a:ext cx="883944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)- Anterior pituitary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hormone (GH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rowth and metabolis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ts directly on tissues or ac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igantis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ملق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cessive GH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cromega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excessive GH production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dulthoo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ypopituitary dwarfism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زم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childhood GH defici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lactin (PRL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milk production and secretion from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ammary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د اللبن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This secretion is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Gonadotropin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otrop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محفز للمناس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)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oco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Follicle-stimulating hormone (FS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production of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pe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Luteinizing hormone (LH)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ُحفز لتكوين الجسم الأصف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ovaries and tes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371600" y="152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)- Pituitary gland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rets 9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 7 hormones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terior part and 2 hormones by the posterior pa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8:23:22Z</dcterms:created>
  <dc:creator>User</dc:creator>
  <dc:description/>
  <dc:language>en-US</dc:language>
  <cp:lastModifiedBy>HP</cp:lastModifiedBy>
  <dcterms:modified xsi:type="dcterms:W3CDTF">2014-01-07T17:18:23Z</dcterms:modified>
  <cp:revision>1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E40E83F-5537-44BE-A9E7-5F8DDE89FD60</vt:lpwstr>
  </property>
  <property fmtid="{D5CDD505-2E9C-101B-9397-08002B2CF9AE}" pid="3" name="ArticulatePath">
    <vt:lpwstr>Lecture 25</vt:lpwstr>
  </property>
</Properties>
</file>