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3.wmf" ContentType="image/x-wmf"/>
  <Override PartName="/ppt/media/image5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9.png" ContentType="image/png"/>
  <Override PartName="/ppt/media/image6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3B3D-0892-4AA3-89C2-A6CD6EB7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5681-AEE5-4F18-9A89-B8784333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F976-E0AB-4C13-BA87-A8A8BEAB7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9AFB-83A9-495B-9E9B-5806AA85A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D5A2-0DFA-469D-8624-3C8FA063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EB03-1D8A-419B-977B-8572564E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CF21-0531-430C-AC95-025B152C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D82B-5C19-4559-974D-255371DC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C1F6-CA26-428C-9D35-D2931F04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2A22-3CCA-46C4-9C8A-E1E92196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E891-5B79-4BB1-AF52-1681168C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AA92-0AB9-49F4-892C-E3873203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9382-5B6D-4522-8198-F331CA622D5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661E-F99B-44E4-80F6-8F5A3F7B61D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4572000" y="6324480"/>
            <a:ext cx="2209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5170320" y="1727280"/>
            <a:ext cx="37450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Picture 11" descr=""/>
          <p:cNvPicPr/>
          <p:nvPr/>
        </p:nvPicPr>
        <p:blipFill>
          <a:blip r:embed="rId3"/>
          <a:srcRect l="0" t="0" r="0" b="3863"/>
          <a:stretch/>
        </p:blipFill>
        <p:spPr>
          <a:xfrm>
            <a:off x="228600" y="1752480"/>
            <a:ext cx="468648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Rectangle 2"/>
          <p:cNvSpPr/>
          <p:nvPr/>
        </p:nvSpPr>
        <p:spPr>
          <a:xfrm>
            <a:off x="101520" y="1614600"/>
            <a:ext cx="8915400" cy="50292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5" descr="egg500"/>
          <p:cNvPicPr/>
          <p:nvPr/>
        </p:nvPicPr>
        <p:blipFill>
          <a:blip r:embed="rId4"/>
          <a:stretch/>
        </p:blipFill>
        <p:spPr>
          <a:xfrm>
            <a:off x="76320" y="4946760"/>
            <a:ext cx="838080" cy="815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larva500"/>
          <p:cNvPicPr/>
          <p:nvPr/>
        </p:nvPicPr>
        <p:blipFill>
          <a:blip r:embed="rId5"/>
          <a:stretch/>
        </p:blipFill>
        <p:spPr>
          <a:xfrm>
            <a:off x="990720" y="4840200"/>
            <a:ext cx="1199880" cy="94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anim2"/>
          <p:cNvPicPr/>
          <p:nvPr/>
        </p:nvPicPr>
        <p:blipFill>
          <a:blip r:embed="rId6"/>
          <a:stretch/>
        </p:blipFill>
        <p:spPr>
          <a:xfrm rot="358800">
            <a:off x="3433680" y="4495680"/>
            <a:ext cx="1911600" cy="1494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8"/>
          <p:cNvSpPr/>
          <p:nvPr/>
        </p:nvSpPr>
        <p:spPr>
          <a:xfrm>
            <a:off x="7621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9"/>
          <p:cNvSpPr/>
          <p:nvPr/>
        </p:nvSpPr>
        <p:spPr>
          <a:xfrm>
            <a:off x="1981080" y="578484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0"/>
          <p:cNvSpPr/>
          <p:nvPr/>
        </p:nvSpPr>
        <p:spPr>
          <a:xfrm>
            <a:off x="32767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152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1295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3"/>
          <p:cNvSpPr/>
          <p:nvPr/>
        </p:nvSpPr>
        <p:spPr>
          <a:xfrm>
            <a:off x="259092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40384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chrysalis500"/>
          <p:cNvPicPr/>
          <p:nvPr/>
        </p:nvPicPr>
        <p:blipFill>
          <a:blip r:embed="rId7"/>
          <a:stretch/>
        </p:blipFill>
        <p:spPr>
          <a:xfrm>
            <a:off x="2468520" y="4794120"/>
            <a:ext cx="960480" cy="1067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5"/>
          <p:cNvSpPr/>
          <p:nvPr/>
        </p:nvSpPr>
        <p:spPr>
          <a:xfrm>
            <a:off x="1371600" y="5335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CAL SIGNALS IN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4" descr=""/>
          <p:cNvPicPr/>
          <p:nvPr/>
        </p:nvPicPr>
        <p:blipFill>
          <a:blip r:embed="rId8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5FA6-90E2-4274-A511-3E19FA71F01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28600" y="925200"/>
            <a:ext cx="86868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4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hyroid-stimulating hormone (TS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glycoprote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thyroid gl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thyroxine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also regulated by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5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drenocorticotropic hormone (ACT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drenal cortex secretion of glucocortico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glucocorticoids and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6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Melanocyte-stimulating hormone (MS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y play a role in fat metabolis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7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Endorph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hibit pain perce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s mimicked by heroin and other opiate dru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DF7C-6286-405C-A399-59060EBB72B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990720" y="9036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anterior pituitary gland 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3"/>
          <p:cNvGrpSpPr/>
          <p:nvPr/>
        </p:nvGrpSpPr>
        <p:grpSpPr>
          <a:xfrm>
            <a:off x="228600" y="685800"/>
            <a:ext cx="8763120" cy="6052680"/>
            <a:chOff x="228600" y="685800"/>
            <a:chExt cx="8763120" cy="6052680"/>
          </a:xfrm>
        </p:grpSpPr>
        <p:grpSp>
          <p:nvGrpSpPr>
            <p:cNvPr id="120" name="Group 9"/>
            <p:cNvGrpSpPr/>
            <p:nvPr/>
          </p:nvGrpSpPr>
          <p:grpSpPr>
            <a:xfrm>
              <a:off x="228600" y="685800"/>
              <a:ext cx="8763120" cy="6052680"/>
              <a:chOff x="228600" y="685800"/>
              <a:chExt cx="8763120" cy="6052680"/>
            </a:xfrm>
          </p:grpSpPr>
          <p:pic>
            <p:nvPicPr>
              <p:cNvPr id="121" name="Picture 2" descr=""/>
              <p:cNvPicPr/>
              <p:nvPr/>
            </p:nvPicPr>
            <p:blipFill>
              <a:blip r:embed="rId1"/>
              <a:srcRect l="0" t="0" r="0" b="3707"/>
              <a:stretch/>
            </p:blipFill>
            <p:spPr>
              <a:xfrm>
                <a:off x="228600" y="685800"/>
                <a:ext cx="8763120" cy="548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Text Box 6"/>
              <p:cNvSpPr/>
              <p:nvPr/>
            </p:nvSpPr>
            <p:spPr>
              <a:xfrm>
                <a:off x="3505320" y="6095880"/>
                <a:ext cx="3200400" cy="642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Also called </a:t>
                </a:r>
                <a:r>
                  <a:rPr b="1" lang="en-US" sz="1800" spc="-1" strike="noStrike">
                    <a:solidFill>
                      <a:srgbClr val="00b050"/>
                    </a:solidFill>
                    <a:latin typeface="Arial"/>
                  </a:rPr>
                  <a:t>gonadotropin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 hormones </a:t>
                </a:r>
                <a:r>
                  <a:rPr b="0" lang="ar-EG" sz="1800" spc="-1" strike="noStrike">
                    <a:solidFill>
                      <a:srgbClr val="000000"/>
                    </a:solidFill>
                    <a:latin typeface="Arial"/>
                  </a:rPr>
                  <a:t>هرمونات المناس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7"/>
              <p:cNvSpPr/>
              <p:nvPr/>
            </p:nvSpPr>
            <p:spPr>
              <a:xfrm>
                <a:off x="3962520" y="5638680"/>
                <a:ext cx="68580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Text Box 10"/>
            <p:cNvSpPr/>
            <p:nvPr/>
          </p:nvSpPr>
          <p:spPr>
            <a:xfrm>
              <a:off x="5232240" y="4876920"/>
              <a:ext cx="1981440" cy="307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Adrenocorticotrop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1"/>
            <p:cNvSpPr/>
            <p:nvPr/>
          </p:nvSpPr>
          <p:spPr>
            <a:xfrm>
              <a:off x="6934320" y="3581280"/>
              <a:ext cx="198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Melanocyte-stimulating H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2"/>
            <p:cNvSpPr/>
            <p:nvPr/>
          </p:nvSpPr>
          <p:spPr>
            <a:xfrm flipH="1">
              <a:off x="7391520" y="4038480"/>
              <a:ext cx="304560" cy="457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C5B9-BCD1-4B8C-A1FB-63F71CDF257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)- Posterior pituitary horm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Oxytoc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a 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contraction of the uterus and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mammary g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the nervou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ntidiuretic hormone (AD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مُضاد لإدرار البو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retention of                                                                              water by th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kidney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(in Kidney tubu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igh level decreases                                                                               urination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i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rs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regulated by                                                                        water/salt bal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7"/>
          <p:cNvGrpSpPr/>
          <p:nvPr/>
        </p:nvGrpSpPr>
        <p:grpSpPr>
          <a:xfrm>
            <a:off x="4343400" y="2209680"/>
            <a:ext cx="4800600" cy="4496040"/>
            <a:chOff x="4343400" y="2209680"/>
            <a:chExt cx="4800600" cy="4496040"/>
          </a:xfrm>
        </p:grpSpPr>
        <p:pic>
          <p:nvPicPr>
            <p:cNvPr id="130" name="Picture 4" descr=""/>
            <p:cNvPicPr/>
            <p:nvPr/>
          </p:nvPicPr>
          <p:blipFill>
            <a:blip r:embed="rId1"/>
            <a:srcRect l="0" t="0" r="0" b="4164"/>
            <a:stretch/>
          </p:blipFill>
          <p:spPr>
            <a:xfrm>
              <a:off x="4343400" y="2209680"/>
              <a:ext cx="4800600" cy="449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6"/>
            <p:cNvSpPr/>
            <p:nvPr/>
          </p:nvSpPr>
          <p:spPr>
            <a:xfrm>
              <a:off x="6143400" y="5546880"/>
              <a:ext cx="107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Antidiuretic 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ummary of Hormones Secreted by the Pituitary G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p248"/>
          <p:cNvPicPr/>
          <p:nvPr/>
        </p:nvPicPr>
        <p:blipFill>
          <a:blip r:embed="rId2"/>
          <a:srcRect l="0" t="0" r="847" b="0"/>
          <a:stretch/>
        </p:blipFill>
        <p:spPr>
          <a:xfrm>
            <a:off x="152280" y="914400"/>
            <a:ext cx="89154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380880" y="152280"/>
            <a:ext cx="8077320" cy="34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2- Pineal gland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الغدة الصنوبر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 small mass of tissue near the center of the mammalian brain and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olved i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iorhyth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pineal gland secretes the hormone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melaton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volved in biological rhythms associated with re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light/dark cy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5"/>
          <p:cNvGrpSpPr/>
          <p:nvPr/>
        </p:nvGrpSpPr>
        <p:grpSpPr>
          <a:xfrm>
            <a:off x="2207880" y="3843360"/>
            <a:ext cx="5233680" cy="2938320"/>
            <a:chOff x="2207880" y="3843360"/>
            <a:chExt cx="5233680" cy="2938320"/>
          </a:xfrm>
        </p:grpSpPr>
        <p:pic>
          <p:nvPicPr>
            <p:cNvPr id="140" name="Picture 11" descr=""/>
            <p:cNvPicPr/>
            <p:nvPr/>
          </p:nvPicPr>
          <p:blipFill>
            <a:blip r:embed="rId1"/>
            <a:stretch/>
          </p:blipFill>
          <p:spPr>
            <a:xfrm>
              <a:off x="3352680" y="3843360"/>
              <a:ext cx="2971800" cy="29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21"/>
            <p:cNvSpPr/>
            <p:nvPr/>
          </p:nvSpPr>
          <p:spPr>
            <a:xfrm>
              <a:off x="2207880" y="4147920"/>
              <a:ext cx="123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ineal gl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2"/>
            <p:cNvSpPr/>
            <p:nvPr/>
          </p:nvSpPr>
          <p:spPr>
            <a:xfrm>
              <a:off x="3429000" y="4300200"/>
              <a:ext cx="990720" cy="838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3"/>
            <p:cNvSpPr/>
            <p:nvPr/>
          </p:nvSpPr>
          <p:spPr>
            <a:xfrm>
              <a:off x="5636160" y="5646600"/>
              <a:ext cx="180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ituitary horm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5181480" y="5595840"/>
              <a:ext cx="457200" cy="2282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7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unction and Se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5715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rmone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substances secreted by cells that act to regulate the activity of other cells in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s affect all cells in the body and are made and secreted by endocrine gl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docrine gland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ductless organs that secret hormones either into the bloodstream or the fluid aroun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docrine glands can be found through out the body and are collectively known as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ocrine glands, such as the pancreas, can also be exocrine gl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ocrine gland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crete substances through ducts to specific locations inside and outside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5715000" y="1447920"/>
            <a:ext cx="33526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rvous and endocrine systems are the main internal communication and regulation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nimal hormone-secreting cells constitute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 secreting organs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docrine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ductless glands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غدد الصماء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 Whil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ocrine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crete substances through ducts to specific locations inside and outside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 is a chemical signal secreted into blood stream and regulates communicating messages within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 cell is the site that is reached by the hormone to which it respo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changes in the body is regulated by hormones (e.g. metamorphosis in insect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s of hormones are [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lypeptide H., Amino acid derivatives H or Steroid H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42C9-6545-4220-AFD5-4A980732B0B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rcRect l="0" t="0" r="1800" b="58108"/>
          <a:stretch/>
        </p:blipFill>
        <p:spPr>
          <a:xfrm>
            <a:off x="457200" y="4800600"/>
            <a:ext cx="8305920" cy="19051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315200" y="4267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228600" y="3733920"/>
            <a:ext cx="7924680" cy="10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): Protein hormon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nd to a receptor protein on the surface of the target cell which</a:t>
            </a:r>
            <a:br>
              <a:rPr sz="1600"/>
            </a:b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ll trigger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ignal transduction pathwa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1447920" y="152280"/>
            <a:ext cx="6553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ypes of Hormones and Mechanism of chemical signa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228600" y="1219320"/>
            <a:ext cx="87631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rmones can be grouped into two types based on their structure. Hormones can either be amino acid-based hormones or steroid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mino acid based-hormo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protein hormones) are made of amino acids, either a single modified amino acid or a protein made of 3-200 amino acids, and are water solu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teroid hormo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lipid hormones that body makes from cholesterol and are fat solu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ilar to steroid hormones are thyroid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9F6D-0F83-4DD6-8FB9-04D45DF11EB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457200" y="1324080"/>
            <a:ext cx="830592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 Steroid hormone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etrate the cell and bind to a receptor protei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side the targ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ell. This also will trigge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gnal transduction pathw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for triggering mRNA transcription for synthesizing a specific prote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rcRect l="0" t="48668" r="0" b="9449"/>
          <a:stretch/>
        </p:blipFill>
        <p:spPr>
          <a:xfrm>
            <a:off x="228600" y="2895480"/>
            <a:ext cx="8610480" cy="21337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9"/>
          <p:cNvSpPr/>
          <p:nvPr/>
        </p:nvSpPr>
        <p:spPr>
          <a:xfrm>
            <a:off x="152280" y="5257800"/>
            <a:ext cx="86868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rogen, progesterone, vitamin D and 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Usually, the intracellular receptor activated by a hormone is a transcription fa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1447920" y="152280"/>
            <a:ext cx="6553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ypes of Hormones and Mechanism of chemical signa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359D-0F32-44E7-895D-75A93B3BF34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Tropic hormone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هرمونات المحفزة (المنبهة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arget other endocrine glands and are important to understanding chemical coord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endocrine organs contain specialized nerve cell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urosecretory cel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secret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hormone epinephrine has two f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hormone of the endocrin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signal in the nervous syst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back is common in regulation of the activity of both endocrine and nervous systems (homeostasis)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itonin and parathyroid hormones play an important role in maintaining the concentration of the blood calcium cons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are secreted from thyroid and parathyroid glands respictiv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s regulate the development of                                              invertebrates (e.g. insects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BB14-0D4A-491A-8771-2B8F61BC7E2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4560" y="1344240"/>
            <a:ext cx="3886200" cy="473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Tropic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الهرمون المنبه للغدد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rget othe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endocrine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gla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ar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ortant to understand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emical coord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65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ha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9 endocrine gland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Vertebrate Endocrin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7548120" y="649116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45.5, Page 9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2"/>
          <p:cNvGrpSpPr/>
          <p:nvPr/>
        </p:nvGrpSpPr>
        <p:grpSpPr>
          <a:xfrm>
            <a:off x="4089240" y="1066680"/>
            <a:ext cx="5054400" cy="5791320"/>
            <a:chOff x="4089240" y="1066680"/>
            <a:chExt cx="5054400" cy="5791320"/>
          </a:xfrm>
        </p:grpSpPr>
        <p:pic>
          <p:nvPicPr>
            <p:cNvPr id="89" name="Picture 6" descr=""/>
            <p:cNvPicPr/>
            <p:nvPr/>
          </p:nvPicPr>
          <p:blipFill>
            <a:blip r:embed="rId1"/>
            <a:srcRect l="0" t="0" r="0" b="3846"/>
            <a:stretch/>
          </p:blipFill>
          <p:spPr>
            <a:xfrm>
              <a:off x="4508280" y="1066680"/>
              <a:ext cx="463536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8"/>
            <p:cNvSpPr/>
            <p:nvPr/>
          </p:nvSpPr>
          <p:spPr>
            <a:xfrm>
              <a:off x="4254120" y="14007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صنوبر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9"/>
            <p:cNvSpPr/>
            <p:nvPr/>
          </p:nvSpPr>
          <p:spPr>
            <a:xfrm>
              <a:off x="4228920" y="171612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نخام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0"/>
            <p:cNvSpPr/>
            <p:nvPr/>
          </p:nvSpPr>
          <p:spPr>
            <a:xfrm>
              <a:off x="4089240" y="21679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درق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1"/>
            <p:cNvSpPr/>
            <p:nvPr/>
          </p:nvSpPr>
          <p:spPr>
            <a:xfrm>
              <a:off x="4165200" y="35661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كظر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-360" y="1154160"/>
            <a:ext cx="5791320" cy="57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pothalam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ituit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land, control the initial release of many hormones for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297000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ypothalam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area of the brain that coordinates many activities of the nervous and endocrin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2970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ituit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land has two parts, anterior and posterior, and stores and releases hormones produced by the hypothala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2970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urosecretory cells of the hypothalamus produce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2811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Releasing horm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timulate the anterior pituitary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enohypophy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to secrete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2811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Inhibiting horm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revent the anterior pituitary from secreting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142640" y="162000"/>
            <a:ext cx="716292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The hypothalamus and pituitary integrate many functions of the vertebrate endocrin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8"/>
          <p:cNvGrpSpPr/>
          <p:nvPr/>
        </p:nvGrpSpPr>
        <p:grpSpPr>
          <a:xfrm>
            <a:off x="5867280" y="1143000"/>
            <a:ext cx="3276720" cy="5714640"/>
            <a:chOff x="5867280" y="1143000"/>
            <a:chExt cx="3276720" cy="5714640"/>
          </a:xfrm>
        </p:grpSpPr>
        <p:pic>
          <p:nvPicPr>
            <p:cNvPr id="99" name="Picture 8" descr=""/>
            <p:cNvPicPr/>
            <p:nvPr/>
          </p:nvPicPr>
          <p:blipFill>
            <a:blip r:embed="rId1"/>
            <a:stretch/>
          </p:blipFill>
          <p:spPr>
            <a:xfrm>
              <a:off x="5867280" y="1143000"/>
              <a:ext cx="2971800" cy="28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9" descr=""/>
            <p:cNvPicPr/>
            <p:nvPr/>
          </p:nvPicPr>
          <p:blipFill>
            <a:blip r:embed="rId2"/>
            <a:stretch/>
          </p:blipFill>
          <p:spPr>
            <a:xfrm>
              <a:off x="6323040" y="4157280"/>
              <a:ext cx="2820960" cy="27003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01" name="Rectangle 10"/>
            <p:cNvSpPr/>
            <p:nvPr/>
          </p:nvSpPr>
          <p:spPr>
            <a:xfrm>
              <a:off x="7467480" y="2517480"/>
              <a:ext cx="381240" cy="4471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1"/>
            <p:cNvSpPr/>
            <p:nvPr/>
          </p:nvSpPr>
          <p:spPr>
            <a:xfrm flipH="1">
              <a:off x="6324120" y="2964600"/>
              <a:ext cx="1143000" cy="11926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2"/>
            <p:cNvSpPr/>
            <p:nvPr/>
          </p:nvSpPr>
          <p:spPr>
            <a:xfrm>
              <a:off x="7848720" y="2964600"/>
              <a:ext cx="1295280" cy="11926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3"/>
            <p:cNvSpPr/>
            <p:nvPr/>
          </p:nvSpPr>
          <p:spPr>
            <a:xfrm>
              <a:off x="7086960" y="4380840"/>
              <a:ext cx="123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ypothalam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4"/>
            <p:cNvSpPr/>
            <p:nvPr/>
          </p:nvSpPr>
          <p:spPr>
            <a:xfrm>
              <a:off x="6324480" y="549900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st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tuit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5"/>
            <p:cNvSpPr/>
            <p:nvPr/>
          </p:nvSpPr>
          <p:spPr>
            <a:xfrm>
              <a:off x="8229600" y="534996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tuit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6"/>
            <p:cNvSpPr/>
            <p:nvPr/>
          </p:nvSpPr>
          <p:spPr>
            <a:xfrm flipH="1">
              <a:off x="8229600" y="5722920"/>
              <a:ext cx="457200" cy="44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7"/>
            <p:cNvSpPr/>
            <p:nvPr/>
          </p:nvSpPr>
          <p:spPr>
            <a:xfrm>
              <a:off x="7086600" y="5797080"/>
              <a:ext cx="30492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0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52280" y="1341360"/>
            <a:ext cx="883944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)- Anterior pituitary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Growth hormone (GH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growth and metabolis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ts directly on tissues or act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growth facto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Gigantis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عملق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cessive GH during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cromegal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excessive GH production during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dulthoo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ypopituitary dwarfism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قزم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childhood GH deficien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rolactin (PRL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rote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milk production and secretion from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mammary gl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غدد اللبن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This secretion is regulated by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Gonadotropin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onotropic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محفز للمناس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)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glyoco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Follicle-stimulating hormone (FS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production of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pe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v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Luteinizing hormone (LH)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مُحفز لتكوين الجسم الأصفر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ovaries and tes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371600" y="152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1)- Pituitary gland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rets 9 horm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 7 hormones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nterior part and 2 hormones by the posterior par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18:23:22Z</dcterms:created>
  <dc:creator>User</dc:creator>
  <dc:description/>
  <dc:language>en-US</dc:language>
  <cp:lastModifiedBy>HP</cp:lastModifiedBy>
  <dcterms:modified xsi:type="dcterms:W3CDTF">2014-01-07T17:18:23Z</dcterms:modified>
  <cp:revision>1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E40E83F-5537-44BE-A9E7-5F8DDE89FD60</vt:lpwstr>
  </property>
  <property fmtid="{D5CDD505-2E9C-101B-9397-08002B2CF9AE}" pid="3" name="ArticulatePath">
    <vt:lpwstr>Lecture 25</vt:lpwstr>
  </property>
</Properties>
</file>