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DD6-E8DC-4856-ACE3-86AF3939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97D-CD8C-4AC6-BD2B-867640E2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38F-AA2C-4567-8614-78951D6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F20-4179-47AB-A288-8EC779D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999-B731-4C42-B098-18ACA7A0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ECB-B798-4246-9A27-1835B562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746-163B-4E1F-8E8B-83ACA60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26E-B8FC-452F-A0A7-C619981A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8AE-353D-493D-BD56-EA737B0C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49F-2E8A-47DE-A500-478121D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B29-008E-4882-897A-B031DEB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124-8CDE-433A-AC96-D0E2F35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0E2-0007-4B6D-B7BB-2E30CE9287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4"/>
          <p:cNvGraphicFramePr/>
          <p:nvPr/>
        </p:nvGraphicFramePr>
        <p:xfrm>
          <a:off x="3429000" y="2057400"/>
          <a:ext cx="54864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54864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28600" y="1523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ection A: An Overview Of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rain.WMV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مستطيل 10"/>
          <p:cNvSpPr/>
          <p:nvPr/>
        </p:nvSpPr>
        <p:spPr>
          <a:xfrm>
            <a:off x="3101760" y="61722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743200" y="76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Nervous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285640" y="701640"/>
            <a:ext cx="5181840" cy="990360"/>
            <a:chOff x="2285640" y="701640"/>
            <a:chExt cx="5181840" cy="990360"/>
          </a:xfrm>
        </p:grpSpPr>
        <p:sp>
          <p:nvSpPr>
            <p:cNvPr id="53" name="Line 4"/>
            <p:cNvSpPr/>
            <p:nvPr/>
          </p:nvSpPr>
          <p:spPr>
            <a:xfrm>
              <a:off x="480024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 flipH="1">
              <a:off x="228564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746748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228600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8"/>
          <p:cNvSpPr/>
          <p:nvPr/>
        </p:nvSpPr>
        <p:spPr>
          <a:xfrm>
            <a:off x="6324480" y="1768320"/>
            <a:ext cx="27432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entral N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85800" y="1768320"/>
            <a:ext cx="27432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eripheral N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coard"/>
          <p:cNvPicPr/>
          <p:nvPr/>
        </p:nvPicPr>
        <p:blipFill>
          <a:blip r:embed="rId1"/>
          <a:stretch/>
        </p:blipFill>
        <p:spPr>
          <a:xfrm>
            <a:off x="708660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60" name="Picture 11" descr="braiin"/>
          <p:cNvPicPr/>
          <p:nvPr/>
        </p:nvPicPr>
        <p:blipFill>
          <a:blip r:embed="rId2"/>
          <a:stretch/>
        </p:blipFill>
        <p:spPr>
          <a:xfrm>
            <a:off x="357336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61" name="Group 12"/>
          <p:cNvGrpSpPr/>
          <p:nvPr/>
        </p:nvGrpSpPr>
        <p:grpSpPr>
          <a:xfrm>
            <a:off x="838080" y="2819520"/>
            <a:ext cx="2217600" cy="3886200"/>
            <a:chOff x="838080" y="2819520"/>
            <a:chExt cx="2217600" cy="3886200"/>
          </a:xfrm>
        </p:grpSpPr>
        <p:pic>
          <p:nvPicPr>
            <p:cNvPr id="62" name="Picture 13" descr="nerv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63" name="Oval 14"/>
            <p:cNvSpPr/>
            <p:nvPr/>
          </p:nvSpPr>
          <p:spPr>
            <a:xfrm>
              <a:off x="229392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5"/>
          <p:cNvSpPr/>
          <p:nvPr/>
        </p:nvSpPr>
        <p:spPr>
          <a:xfrm>
            <a:off x="643572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NS) 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8580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NS) composed of peripheral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17"/>
          <p:cNvSpPr/>
          <p:nvPr/>
        </p:nvSpPr>
        <p:spPr>
          <a:xfrm>
            <a:off x="27432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0" t="0" r="0" b="3760"/>
          <a:stretch/>
        </p:blipFill>
        <p:spPr>
          <a:xfrm>
            <a:off x="152280" y="936720"/>
            <a:ext cx="8763120" cy="5769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2480" y="648504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, Page 10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rain2.WMV" descr=""/>
          <p:cNvPicPr/>
          <p:nvPr/>
        </p:nvPicPr>
        <p:blipFill>
          <a:blip r:embed="rId2"/>
          <a:stretch/>
        </p:blipFill>
        <p:spPr>
          <a:xfrm>
            <a:off x="2666880" y="2305080"/>
            <a:ext cx="2514600" cy="18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152280" y="752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rvous systems perform three overlapping functions (sensory input, integration and motor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عنصر نائب للتذييل 6"/>
          <p:cNvSpPr/>
          <p:nvPr/>
        </p:nvSpPr>
        <p:spPr>
          <a:xfrm>
            <a:off x="11430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uron Structure and Syna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شابكات العصب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the structural and functional unit of the nervou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impulses are conducted along a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rite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ell body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xon hillock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axons are protected b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on endings are calle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ynaptic termin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onta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urotransmit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وصلات العصب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nduct a signal across a syn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ynaps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junction between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synap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stsynap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u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ynaptic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s the transmitting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stsynaptic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s the targe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12528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of neurons build connections to form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neuron2"/>
          <p:cNvPicPr/>
          <p:nvPr/>
        </p:nvPicPr>
        <p:blipFill>
          <a:blip r:embed="rId1"/>
          <a:stretch/>
        </p:blipFill>
        <p:spPr>
          <a:xfrm>
            <a:off x="6400800" y="2217600"/>
            <a:ext cx="2666880" cy="2278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76" name="Group 11"/>
          <p:cNvGrpSpPr/>
          <p:nvPr/>
        </p:nvGrpSpPr>
        <p:grpSpPr>
          <a:xfrm>
            <a:off x="6311880" y="5105520"/>
            <a:ext cx="2743200" cy="1670040"/>
            <a:chOff x="6311880" y="5105520"/>
            <a:chExt cx="2743200" cy="1670040"/>
          </a:xfrm>
        </p:grpSpPr>
        <p:pic>
          <p:nvPicPr>
            <p:cNvPr id="77" name="Picture 7" descr=""/>
            <p:cNvPicPr/>
            <p:nvPr/>
          </p:nvPicPr>
          <p:blipFill>
            <a:blip r:embed="rId2"/>
            <a:stretch/>
          </p:blipFill>
          <p:spPr>
            <a:xfrm>
              <a:off x="6311880" y="5105520"/>
              <a:ext cx="2743200" cy="16333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78" name="Text Box 8"/>
            <p:cNvSpPr/>
            <p:nvPr/>
          </p:nvSpPr>
          <p:spPr>
            <a:xfrm>
              <a:off x="6985080" y="514836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قبل 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7924680" y="63165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بعد 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6400800" y="6286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عنصر نائب للتذييل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0" t="0" r="-1616" b="4157"/>
          <a:stretch/>
        </p:blipFill>
        <p:spPr>
          <a:xfrm>
            <a:off x="0" y="0"/>
            <a:ext cx="8915400" cy="5497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75686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2, Page 10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Neuro.WMV" descr=""/>
          <p:cNvPicPr/>
          <p:nvPr/>
        </p:nvPicPr>
        <p:blipFill>
          <a:blip r:embed="rId2"/>
          <a:stretch/>
        </p:blipFill>
        <p:spPr>
          <a:xfrm>
            <a:off x="1219320" y="4844880"/>
            <a:ext cx="2666880" cy="2000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5" name="Rectangle 7"/>
          <p:cNvSpPr/>
          <p:nvPr/>
        </p:nvSpPr>
        <p:spPr>
          <a:xfrm>
            <a:off x="5334120" y="5156280"/>
            <a:ext cx="1143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2600" y="4495680"/>
            <a:ext cx="11430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5181480" y="2895480"/>
            <a:ext cx="3124440" cy="205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438280" y="3049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ff"/>
                </a:solidFill>
                <a:latin typeface="Arial"/>
              </a:rPr>
              <a:t>تفرعات شجر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23880" y="44578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ff"/>
                </a:solidFill>
                <a:latin typeface="Arial"/>
              </a:rPr>
              <a:t>الغمد العصب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10"/>
          <p:cNvSpPr/>
          <p:nvPr/>
        </p:nvSpPr>
        <p:spPr>
          <a:xfrm>
            <a:off x="411480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966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nsory rece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ستقبلات الحس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a responsive to external and internal stimu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sensory input is convey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ration cen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NS) in which the input is interpreted and associated with a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nsory neur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ية الحس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s information from the sensory receptor (e.g. eye) and passes it to the motor neu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tor 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onduc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وصي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ignals from integration centers (CNS)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ffector cell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muscular cel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ffecto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 neur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out the body’s response to a stimu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terneuro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خلية العصبية البيني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intermediate cell between the sensory and motor neuro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ists in spinal cor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بل الشوك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لتذييل 3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1:21:51Z</dcterms:created>
  <dc:creator>User</dc:creator>
  <dc:description/>
  <dc:language>en-US</dc:language>
  <cp:lastModifiedBy>DELL</cp:lastModifiedBy>
  <dcterms:modified xsi:type="dcterms:W3CDTF">2015-01-16T21:47:28Z</dcterms:modified>
  <cp:revision>170</cp:revision>
  <dc:subject/>
  <dc:title>Slide 1</dc:title>
</cp:coreProperties>
</file>