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660-B91C-4F1A-87F5-D2C10941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14CF-0E64-4B63-9D49-B9756C29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E19-7A84-4760-B2EF-01D6AA34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EC5-4F98-42EB-B10D-0AC5B81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B5A-CCF9-4EBC-8F24-AF47BCB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1D02-E480-4F22-935E-AD2A6BFC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21F-F875-43C0-A235-63C6F7AC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1E2-CABF-4D62-B392-4735676A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B51A-5F7A-4D81-96D3-13BCD9C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FDFA-26F8-45AE-B86A-95CC1EC5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74F9-890C-4A16-B8DD-D7CF94B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79EB-812A-4354-9523-79CBA781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CF97-BBE0-4A9E-92D4-D589BB9EB2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14"/>
          <p:cNvGraphicFramePr/>
          <p:nvPr/>
        </p:nvGraphicFramePr>
        <p:xfrm>
          <a:off x="3429000" y="2057400"/>
          <a:ext cx="5486400" cy="470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5486400" cy="47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4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00f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50760" y="4284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7729560" y="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752480" y="1522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RVOUS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101520" y="1523880"/>
            <a:ext cx="8915400" cy="52578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228600" y="1523880"/>
            <a:ext cx="876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ection A: An Overview Of Nervous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Brain.WMV" descr=""/>
          <p:cNvPicPr/>
          <p:nvPr/>
        </p:nvPicPr>
        <p:blipFill>
          <a:blip r:embed="rId5"/>
          <a:stretch/>
        </p:blipFill>
        <p:spPr>
          <a:xfrm>
            <a:off x="228600" y="4343400"/>
            <a:ext cx="3048120" cy="22860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50" name="مستطيل 10"/>
          <p:cNvSpPr/>
          <p:nvPr/>
        </p:nvSpPr>
        <p:spPr>
          <a:xfrm>
            <a:off x="3101760" y="617220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00000"/>
                </a:solidFill>
                <a:latin typeface="Andalus"/>
                <a:ea typeface="Andalus"/>
              </a:rPr>
              <a:t>Dr. Hesham Sha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2743200" y="763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Nervous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285640" y="701640"/>
            <a:ext cx="5181840" cy="990360"/>
            <a:chOff x="2285640" y="701640"/>
            <a:chExt cx="5181840" cy="990360"/>
          </a:xfrm>
        </p:grpSpPr>
        <p:sp>
          <p:nvSpPr>
            <p:cNvPr id="53" name="Line 4"/>
            <p:cNvSpPr/>
            <p:nvPr/>
          </p:nvSpPr>
          <p:spPr>
            <a:xfrm>
              <a:off x="4800240" y="70164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 flipH="1">
              <a:off x="2285640" y="1463400"/>
              <a:ext cx="5181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746748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2286000" y="146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8"/>
          <p:cNvSpPr/>
          <p:nvPr/>
        </p:nvSpPr>
        <p:spPr>
          <a:xfrm>
            <a:off x="6324480" y="1768320"/>
            <a:ext cx="27432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entral N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85800" y="1768320"/>
            <a:ext cx="274320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eripheral N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coard"/>
          <p:cNvPicPr/>
          <p:nvPr/>
        </p:nvPicPr>
        <p:blipFill>
          <a:blip r:embed="rId1"/>
          <a:stretch/>
        </p:blipFill>
        <p:spPr>
          <a:xfrm>
            <a:off x="7086600" y="3019320"/>
            <a:ext cx="1295280" cy="3800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60" name="Picture 11" descr="braiin"/>
          <p:cNvPicPr/>
          <p:nvPr/>
        </p:nvPicPr>
        <p:blipFill>
          <a:blip r:embed="rId2"/>
          <a:stretch/>
        </p:blipFill>
        <p:spPr>
          <a:xfrm>
            <a:off x="3573360" y="1523880"/>
            <a:ext cx="2716200" cy="50292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grpSp>
        <p:nvGrpSpPr>
          <p:cNvPr id="61" name="Group 12"/>
          <p:cNvGrpSpPr/>
          <p:nvPr/>
        </p:nvGrpSpPr>
        <p:grpSpPr>
          <a:xfrm>
            <a:off x="838080" y="2819520"/>
            <a:ext cx="2217600" cy="3886200"/>
            <a:chOff x="838080" y="2819520"/>
            <a:chExt cx="2217600" cy="3886200"/>
          </a:xfrm>
        </p:grpSpPr>
        <p:pic>
          <p:nvPicPr>
            <p:cNvPr id="62" name="Picture 13" descr="nerv"/>
            <p:cNvPicPr/>
            <p:nvPr/>
          </p:nvPicPr>
          <p:blipFill>
            <a:blip r:embed="rId3"/>
            <a:stretch/>
          </p:blipFill>
          <p:spPr>
            <a:xfrm>
              <a:off x="838080" y="2819520"/>
              <a:ext cx="2217600" cy="3886200"/>
            </a:xfrm>
            <a:prstGeom prst="rect">
              <a:avLst/>
            </a:prstGeom>
            <a:ln w="9360">
              <a:solidFill>
                <a:srgbClr val="ff3300"/>
              </a:solidFill>
              <a:miter/>
            </a:ln>
          </p:spPr>
        </p:pic>
        <p:sp>
          <p:nvSpPr>
            <p:cNvPr id="63" name="Oval 14"/>
            <p:cNvSpPr/>
            <p:nvPr/>
          </p:nvSpPr>
          <p:spPr>
            <a:xfrm>
              <a:off x="2293920" y="4789440"/>
              <a:ext cx="22860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Rectangle 15"/>
          <p:cNvSpPr/>
          <p:nvPr/>
        </p:nvSpPr>
        <p:spPr>
          <a:xfrm>
            <a:off x="6435720" y="2286000"/>
            <a:ext cx="25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NS) composed of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responsible for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685800" y="2301840"/>
            <a:ext cx="25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NS) composed of peripheral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لتذييل 17"/>
          <p:cNvSpPr/>
          <p:nvPr/>
        </p:nvSpPr>
        <p:spPr>
          <a:xfrm>
            <a:off x="27432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0" t="0" r="0" b="3760"/>
          <a:stretch/>
        </p:blipFill>
        <p:spPr>
          <a:xfrm>
            <a:off x="152280" y="936720"/>
            <a:ext cx="8763120" cy="5769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42480" y="648504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1, Page 10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rain2.WMV" descr=""/>
          <p:cNvPicPr/>
          <p:nvPr/>
        </p:nvPicPr>
        <p:blipFill>
          <a:blip r:embed="rId2"/>
          <a:stretch/>
        </p:blipFill>
        <p:spPr>
          <a:xfrm>
            <a:off x="2666880" y="2305080"/>
            <a:ext cx="2514600" cy="188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0" name="Rectangle 8"/>
          <p:cNvSpPr/>
          <p:nvPr/>
        </p:nvSpPr>
        <p:spPr>
          <a:xfrm>
            <a:off x="152280" y="7524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rvous systems perform three overlapping functions (sensory input, integration and motor out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عنصر نائب للتذييل 6"/>
          <p:cNvSpPr/>
          <p:nvPr/>
        </p:nvSpPr>
        <p:spPr>
          <a:xfrm>
            <a:off x="1143000" y="6620040"/>
            <a:ext cx="2895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euron Structure and Syna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تشابكات العصب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c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the structural and functional unit of the nervou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ve impulses are conducted along a neur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ntrite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ell body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xon hillock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ax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axons are protected by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yelin shea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on endings are calle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ynaptic termina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contai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urotransmitt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موصلات العصبي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ch conduct a signal across a synap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Synaps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junction between 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resynap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stsynap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ur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esynaptic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s the transmitting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stsynaptic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s the target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228600" y="125280"/>
            <a:ext cx="87631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Networks of neurons build connections to form nervou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neuron2"/>
          <p:cNvPicPr/>
          <p:nvPr/>
        </p:nvPicPr>
        <p:blipFill>
          <a:blip r:embed="rId1"/>
          <a:stretch/>
        </p:blipFill>
        <p:spPr>
          <a:xfrm>
            <a:off x="6400800" y="2217600"/>
            <a:ext cx="2666880" cy="22780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grpSp>
        <p:nvGrpSpPr>
          <p:cNvPr id="76" name="Group 11"/>
          <p:cNvGrpSpPr/>
          <p:nvPr/>
        </p:nvGrpSpPr>
        <p:grpSpPr>
          <a:xfrm>
            <a:off x="6311880" y="5105520"/>
            <a:ext cx="2743200" cy="1670040"/>
            <a:chOff x="6311880" y="5105520"/>
            <a:chExt cx="2743200" cy="1670040"/>
          </a:xfrm>
        </p:grpSpPr>
        <p:pic>
          <p:nvPicPr>
            <p:cNvPr id="77" name="Picture 7" descr=""/>
            <p:cNvPicPr/>
            <p:nvPr/>
          </p:nvPicPr>
          <p:blipFill>
            <a:blip r:embed="rId2"/>
            <a:stretch/>
          </p:blipFill>
          <p:spPr>
            <a:xfrm>
              <a:off x="6311880" y="5105520"/>
              <a:ext cx="2743200" cy="1633320"/>
            </a:xfrm>
            <a:prstGeom prst="rect">
              <a:avLst/>
            </a:prstGeom>
            <a:ln w="9360">
              <a:solidFill>
                <a:srgbClr val="ff0000"/>
              </a:solidFill>
              <a:miter/>
            </a:ln>
          </p:spPr>
        </p:pic>
        <p:sp>
          <p:nvSpPr>
            <p:cNvPr id="78" name="Text Box 8"/>
            <p:cNvSpPr/>
            <p:nvPr/>
          </p:nvSpPr>
          <p:spPr>
            <a:xfrm>
              <a:off x="6985080" y="5148360"/>
              <a:ext cx="99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قبل 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9"/>
            <p:cNvSpPr/>
            <p:nvPr/>
          </p:nvSpPr>
          <p:spPr>
            <a:xfrm>
              <a:off x="7924680" y="6316560"/>
              <a:ext cx="990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بعد 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6400800" y="6286680"/>
              <a:ext cx="99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200" spc="-1" strike="noStrike">
                  <a:solidFill>
                    <a:srgbClr val="0000ff"/>
                  </a:solidFill>
                  <a:latin typeface="Arial"/>
                </a:rPr>
                <a:t>التشابكا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عنصر نائب للتذييل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rcRect l="0" t="0" r="-1616" b="4157"/>
          <a:stretch/>
        </p:blipFill>
        <p:spPr>
          <a:xfrm>
            <a:off x="0" y="0"/>
            <a:ext cx="8915400" cy="5497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7568640" y="6567480"/>
            <a:ext cx="157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48.2, Page 102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Neuro.WMV" descr=""/>
          <p:cNvPicPr/>
          <p:nvPr/>
        </p:nvPicPr>
        <p:blipFill>
          <a:blip r:embed="rId2"/>
          <a:stretch/>
        </p:blipFill>
        <p:spPr>
          <a:xfrm>
            <a:off x="1219320" y="4844880"/>
            <a:ext cx="2666880" cy="2000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5" name="Rectangle 7"/>
          <p:cNvSpPr/>
          <p:nvPr/>
        </p:nvSpPr>
        <p:spPr>
          <a:xfrm>
            <a:off x="5334120" y="5156280"/>
            <a:ext cx="11430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2600" y="4495680"/>
            <a:ext cx="114300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5181480" y="2895480"/>
            <a:ext cx="3124440" cy="205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2438280" y="30492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200" spc="-1" strike="noStrike">
                <a:solidFill>
                  <a:srgbClr val="0000ff"/>
                </a:solidFill>
                <a:latin typeface="Arial"/>
              </a:rPr>
              <a:t>تفرعات شجر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23880" y="44578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ff"/>
                </a:solidFill>
                <a:latin typeface="Arial"/>
              </a:rPr>
              <a:t>الغمد العصب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عنصر نائب للتذييل 10"/>
          <p:cNvSpPr/>
          <p:nvPr/>
        </p:nvSpPr>
        <p:spPr>
          <a:xfrm>
            <a:off x="411480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19666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nsory recep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مستقبلات الحس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a responsive to external and internal stimu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sensory input is conveyed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gration cen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NS) in which the input is interpreted and associated with a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Sensory neur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خلية الحسي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ives information from the sensory receptor (e.g. eye) and passes it to the motor neu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Motor out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conductio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وصي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signals from integration centers (CNS) 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ffector cells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 muscular cell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ffector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tor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) neur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ries out the body’s response to a stimu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terneuron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خلية العصبية البينية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intermediate cell between the sensory and motor neuron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xists in spinal cor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حبل الشوكى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لتذييل 3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. Hesham Shar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21:21:51Z</dcterms:created>
  <dc:creator>User</dc:creator>
  <dc:description/>
  <dc:language>en-US</dc:language>
  <cp:lastModifiedBy>DELL</cp:lastModifiedBy>
  <dcterms:modified xsi:type="dcterms:W3CDTF">2015-01-16T21:47:28Z</dcterms:modified>
  <cp:revision>170</cp:revision>
  <dc:subject/>
  <dc:title>Slide 1</dc:title>
</cp:coreProperties>
</file>