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68D-A601-4A22-AB8F-E5D3666F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E13-9071-4F6F-A5D7-0C1440A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5C9-E083-40D9-9904-8D3A2827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FD0-C1FF-4A23-A882-552117F2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AB6-F97E-4734-9C5C-14411F9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827-3788-4FB0-A5DD-C60DB4E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E60-C9C8-43E3-9A8C-C9C8C77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7FE-BCCD-49CD-B44A-22419E4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195-5565-457A-9FE5-A7659E89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AE1-08CA-466D-AF6B-9C9F1AF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795-CB9B-47D4-9EC6-1650FDF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7E6-8CF2-4650-B0FD-1B977CA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97B-203C-4365-9ABB-3E4E4DE13C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Book%20CD/C4EWIN95.EX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4"/>
          <p:cNvGraphicFramePr/>
          <p:nvPr/>
        </p:nvGraphicFramePr>
        <p:xfrm>
          <a:off x="3429000" y="2057400"/>
          <a:ext cx="54864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54864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28600" y="1523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ection A: An Overview Of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rain.WMV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مستطيل 10"/>
          <p:cNvSpPr/>
          <p:nvPr/>
        </p:nvSpPr>
        <p:spPr>
          <a:xfrm>
            <a:off x="3101760" y="61722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83908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ngl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قدة 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clust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جم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erve cell bodies within the P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cluster of nerve cell bodies within the C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ايا ال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 in both function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1295280" y="1398600"/>
            <a:ext cx="6494760" cy="4797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6537240"/>
            <a:ext cx="175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4, Page 10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5867280"/>
            <a:ext cx="14479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368960" y="5715000"/>
            <a:ext cx="1193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248520" y="5867280"/>
            <a:ext cx="1447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53416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rve Circu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رة 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flex Ar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قوس الإنعكاس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flex is an autonomic (automatic)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جابة عصبية ذات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3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3, Page 10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836640"/>
            <a:ext cx="8991720" cy="6315480"/>
            <a:chOff x="0" y="836640"/>
            <a:chExt cx="8991720" cy="631548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rcRect l="0" t="0" r="0" b="4715"/>
            <a:stretch/>
          </p:blipFill>
          <p:spPr>
            <a:xfrm>
              <a:off x="0" y="836640"/>
              <a:ext cx="8991720" cy="60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"/>
            <p:cNvSpPr/>
            <p:nvPr/>
          </p:nvSpPr>
          <p:spPr>
            <a:xfrm>
              <a:off x="7861320" y="5816520"/>
              <a:ext cx="939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سـ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7886880" y="613080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رك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7772400" y="64483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وسي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7327800" y="2095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ff"/>
                  </a:solidFill>
                  <a:latin typeface="Arial"/>
                </a:rPr>
                <a:t>خلية عصبية بين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1447920" y="876240"/>
              <a:ext cx="93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سـ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1"/>
            <p:cNvSpPr/>
            <p:nvPr/>
          </p:nvSpPr>
          <p:spPr>
            <a:xfrm>
              <a:off x="3657600" y="5257800"/>
              <a:ext cx="93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رك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3"/>
          <p:cNvSpPr/>
          <p:nvPr/>
        </p:nvSpPr>
        <p:spPr>
          <a:xfrm>
            <a:off x="2819520" y="6324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ee-jerk re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لتذييل 13"/>
          <p:cNvSpPr/>
          <p:nvPr/>
        </p:nvSpPr>
        <p:spPr>
          <a:xfrm>
            <a:off x="-38088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24480" y="3724200"/>
            <a:ext cx="4619520" cy="2752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ypes of Nerve Circuit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ائر العصب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3 patterns of organization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gle presynaptic neur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everal postsynaptic neuro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information from a single source (e.g. eye) to several parts of the b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Several presynaptic neuron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ingle postsynaptic neur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information from several sour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vision, touch and hearing) to a single postsynaptic neuron in the b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rcular path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flows from one                                                                        neuron to another and then                                                                           back to its sourc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                                                                          memory stored inform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لتذييل 4"/>
          <p:cNvSpPr/>
          <p:nvPr/>
        </p:nvSpPr>
        <p:spPr>
          <a:xfrm>
            <a:off x="6094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0" t="0" r="0" b="6803"/>
          <a:stretch/>
        </p:blipFill>
        <p:spPr>
          <a:xfrm>
            <a:off x="0" y="3868560"/>
            <a:ext cx="9144000" cy="298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76320"/>
            <a:ext cx="88390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upporting Cells (Glia)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خلايا الغراء العصبى المدعِمة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 a supportive rule, and include the following types of glia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خلايا الغراء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strocyt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provide structural and metabolic support as well as forming of tight junctions to help form the blood-brain barrier. They also communicate with one an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emical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ligodendrocyt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orm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غمد العاز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insulating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chwann cel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the axon of each neu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insulating ax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352680" y="6491160"/>
            <a:ext cx="1676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Fig. 48.5, Page 10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65440" y="6083280"/>
            <a:ext cx="8380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587920" y="5803920"/>
            <a:ext cx="91440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2"/>
          </p:cNvPr>
          <p:cNvSpPr/>
          <p:nvPr/>
        </p:nvSpPr>
        <p:spPr>
          <a:xfrm>
            <a:off x="7924680" y="76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76520" y="64897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غمد العصب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9"/>
          <p:cNvSpPr/>
          <p:nvPr/>
        </p:nvSpPr>
        <p:spPr>
          <a:xfrm>
            <a:off x="68580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"/>
          <p:cNvPicPr/>
          <p:nvPr/>
        </p:nvPicPr>
        <p:blipFill>
          <a:blip r:embed="rId1"/>
          <a:srcRect l="0" t="0" r="0" b="6079"/>
          <a:stretch/>
        </p:blipFill>
        <p:spPr>
          <a:xfrm>
            <a:off x="4495680" y="2471760"/>
            <a:ext cx="4622760" cy="368604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>
            <a:off x="152280" y="838080"/>
            <a:ext cx="83059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tion B1: The Nature Of Nerv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28600" y="990720"/>
            <a:ext cx="8763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ry cell has a voltage, or membrane potential, across its 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960" y="1974600"/>
            <a:ext cx="8762760" cy="19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mbrane pot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هد الكهربائى للغش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localized electrical gradient across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more concentrated                                                                        within a cell (e.g. protein mo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more concentrated                                                                               in the extracellular fluid (e.g.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2280" y="4210200"/>
            <a:ext cx="40388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 Potentials is Measu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unstimulated cell usually have a resting potential of    -70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6868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 Cell Maintains a Membrane Pot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principal intracellular 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principal extracellular 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amino acids, sulfate, and phosphate are the principal intracellular an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incipal extracellular a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0" t="0" r="0" b="4474"/>
          <a:stretch/>
        </p:blipFill>
        <p:spPr>
          <a:xfrm>
            <a:off x="3581280" y="3471840"/>
            <a:ext cx="5562720" cy="3081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7548120" y="65530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7, Page 10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3124080"/>
            <a:ext cx="86868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gat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فتو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on channel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ions to diffuse across the plasma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ff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es not                                                                                          achieve an equilibrium                                                                                             since sodium-potassium                                                                                            pump transports these                                                                                               ions against their                                                                                                concentration gradi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see lecture 15 slid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لتذييل 6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 Excited state of the cell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حالة الإثارة فى الخلية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s have the ability to generate large changes in their membrane pot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ted ion chann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n or close in response to stimuli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ؤثر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ing diffusion of ions leads to a change in the membran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in the membrane potential of a neuron give rise to nerve impuls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شارات 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6320" y="4267080"/>
            <a:ext cx="90676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ypes of gated ions chann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emically-g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on channels open or close in response to a chemical stimu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oltage-gat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n channels open or close in response to a change in membran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لتذييل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8686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raded Potent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ت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هد الكهرب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changes in membrane potenti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following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1430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polariz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ستقطاب المرتف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annels op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ffu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 of the c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membrane potential becom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ore negativ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 in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209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polariz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قـْد الإستقط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annels op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ffu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 the c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membrane potential becom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less negativ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rease in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4419720" y="3657600"/>
            <a:ext cx="4572000" cy="1981080"/>
            <a:chOff x="4419720" y="3657600"/>
            <a:chExt cx="4572000" cy="1981080"/>
          </a:xfrm>
        </p:grpSpPr>
        <p:sp>
          <p:nvSpPr>
            <p:cNvPr id="102" name="Rectangle 9"/>
            <p:cNvSpPr/>
            <p:nvPr/>
          </p:nvSpPr>
          <p:spPr>
            <a:xfrm>
              <a:off x="4496040" y="365760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"/>
            <p:cNvSpPr/>
            <p:nvPr/>
          </p:nvSpPr>
          <p:spPr>
            <a:xfrm>
              <a:off x="6019920" y="373356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7696440" y="419076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248520" y="400680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19720" y="48006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496040" y="403848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324840" y="472428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4495680" y="365760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5867280" y="426708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6095880" y="50292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5627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486400" y="3657600"/>
            <a:ext cx="1295280" cy="609480"/>
            <a:chOff x="5486400" y="3657600"/>
            <a:chExt cx="1295280" cy="609480"/>
          </a:xfrm>
        </p:grpSpPr>
        <p:sp>
          <p:nvSpPr>
            <p:cNvPr id="114" name="Text Box 21"/>
            <p:cNvSpPr/>
            <p:nvPr/>
          </p:nvSpPr>
          <p:spPr>
            <a:xfrm>
              <a:off x="5486400" y="36576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6095880" y="3962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3"/>
          <p:cNvSpPr/>
          <p:nvPr/>
        </p:nvSpPr>
        <p:spPr>
          <a:xfrm>
            <a:off x="0" y="3276720"/>
            <a:ext cx="4419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Action Potential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in the Axon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graded potentials reached 55mV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reshold pot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ستوى الجهد الأمث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riggers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tion potenti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ng impul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152280" y="571500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 Resting state of the cell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a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nels are closed and the membrane’s resting potential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7924680" y="60958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23"/>
          <p:cNvSpPr/>
          <p:nvPr/>
        </p:nvSpPr>
        <p:spPr>
          <a:xfrm>
            <a:off x="327672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1:21:51Z</dcterms:created>
  <dc:creator>User</dc:creator>
  <dc:description/>
  <dc:language>en-US</dc:language>
  <cp:lastModifiedBy>DELL</cp:lastModifiedBy>
  <dcterms:modified xsi:type="dcterms:W3CDTF">2015-01-16T21:48:24Z</dcterms:modified>
  <cp:revision>170</cp:revision>
  <dc:subject/>
  <dc:title>Slide 1</dc:title>
</cp:coreProperties>
</file>