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B6D-09F0-425B-A5EF-13EC26CF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E140-D242-40FE-B72B-2002F51A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CB46-8772-40C8-857C-6176BC1B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CB9-519A-463D-8DB3-A7292A1D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7417-C473-427D-827F-6D5C75FE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0F2-7E0B-405B-979C-EF55E0E6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470-680F-470D-A5EA-11AE9B714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2F5F-0B81-448C-86A4-7E752AEA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DB6-3064-4A51-B99B-FF67734E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11A-D053-4A82-BD7D-CFD8191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553-6FE3-48C9-AB3D-6B8CC42A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387-913E-45B6-8C8D-195C1F7D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6F20-1556-4B3A-92A4-6BEA9BC814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../Book%20CD/C4EWIN95.EXE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14"/>
          <p:cNvGraphicFramePr/>
          <p:nvPr/>
        </p:nvGraphicFramePr>
        <p:xfrm>
          <a:off x="3429000" y="2057400"/>
          <a:ext cx="548640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057400"/>
                    <a:ext cx="548640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4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0760" y="428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1752480" y="1522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VOUS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101520" y="1523880"/>
            <a:ext cx="8915400" cy="52578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228600" y="15238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ection A: An Overview Of Nervous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Brain.WMV" descr=""/>
          <p:cNvPicPr/>
          <p:nvPr/>
        </p:nvPicPr>
        <p:blipFill>
          <a:blip r:embed="rId5"/>
          <a:stretch/>
        </p:blipFill>
        <p:spPr>
          <a:xfrm>
            <a:off x="228600" y="4343400"/>
            <a:ext cx="3048120" cy="228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0" name="مستطيل 10"/>
          <p:cNvSpPr/>
          <p:nvPr/>
        </p:nvSpPr>
        <p:spPr>
          <a:xfrm>
            <a:off x="3101760" y="617220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ndalus"/>
                <a:ea typeface="Andalus"/>
              </a:rPr>
              <a:t>Dr. Hesham Sha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83908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angl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قدة عصب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 clust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جم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erve cell bodies within the P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 cluster of nerve cell bodies within the C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ur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خلايا العصب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 in both function and sha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1295280" y="1398600"/>
            <a:ext cx="6494760" cy="4797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0" y="6537240"/>
            <a:ext cx="1752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4, Page 10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600200" y="5867280"/>
            <a:ext cx="14479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4368960" y="5715000"/>
            <a:ext cx="11937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248520" y="5867280"/>
            <a:ext cx="1447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75960"/>
            <a:ext cx="8534160" cy="103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mp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rve Circu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رة عصب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flex Arc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قوس الإنعكاس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flex is an autonomic (automatic) respon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ستجابة عصبية ذات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320" y="656100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3, Page 102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2"/>
          <p:cNvGrpSpPr/>
          <p:nvPr/>
        </p:nvGrpSpPr>
        <p:grpSpPr>
          <a:xfrm>
            <a:off x="0" y="836640"/>
            <a:ext cx="8991720" cy="6315480"/>
            <a:chOff x="0" y="836640"/>
            <a:chExt cx="8991720" cy="6315480"/>
          </a:xfrm>
        </p:grpSpPr>
        <p:pic>
          <p:nvPicPr>
            <p:cNvPr id="61" name="Picture 4" descr=""/>
            <p:cNvPicPr/>
            <p:nvPr/>
          </p:nvPicPr>
          <p:blipFill>
            <a:blip r:embed="rId1"/>
            <a:srcRect l="0" t="0" r="0" b="4715"/>
            <a:stretch/>
          </p:blipFill>
          <p:spPr>
            <a:xfrm>
              <a:off x="0" y="836640"/>
              <a:ext cx="8991720" cy="60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6"/>
            <p:cNvSpPr/>
            <p:nvPr/>
          </p:nvSpPr>
          <p:spPr>
            <a:xfrm>
              <a:off x="7861320" y="5816520"/>
              <a:ext cx="939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ff"/>
                  </a:solidFill>
                  <a:latin typeface="Arial"/>
                </a:rPr>
                <a:t>حسـ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7"/>
            <p:cNvSpPr/>
            <p:nvPr/>
          </p:nvSpPr>
          <p:spPr>
            <a:xfrm>
              <a:off x="7886880" y="6130800"/>
              <a:ext cx="91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ff"/>
                  </a:solidFill>
                  <a:latin typeface="Arial"/>
                </a:rPr>
                <a:t>حرك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8"/>
            <p:cNvSpPr/>
            <p:nvPr/>
          </p:nvSpPr>
          <p:spPr>
            <a:xfrm>
              <a:off x="7772400" y="6448320"/>
              <a:ext cx="99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ff"/>
                  </a:solidFill>
                  <a:latin typeface="Arial"/>
                </a:rPr>
                <a:t>وسيط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9"/>
            <p:cNvSpPr/>
            <p:nvPr/>
          </p:nvSpPr>
          <p:spPr>
            <a:xfrm>
              <a:off x="7327800" y="2095560"/>
              <a:ext cx="162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0000ff"/>
                  </a:solidFill>
                  <a:latin typeface="Arial"/>
                </a:rPr>
                <a:t>خلية عصبية بين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0"/>
            <p:cNvSpPr/>
            <p:nvPr/>
          </p:nvSpPr>
          <p:spPr>
            <a:xfrm>
              <a:off x="1447920" y="876240"/>
              <a:ext cx="93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ff"/>
                  </a:solidFill>
                  <a:latin typeface="Arial"/>
                </a:rPr>
                <a:t>حسـ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1"/>
            <p:cNvSpPr/>
            <p:nvPr/>
          </p:nvSpPr>
          <p:spPr>
            <a:xfrm>
              <a:off x="3657600" y="5257800"/>
              <a:ext cx="93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ff"/>
                  </a:solidFill>
                  <a:latin typeface="Arial"/>
                </a:rPr>
                <a:t>حرك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13"/>
          <p:cNvSpPr/>
          <p:nvPr/>
        </p:nvSpPr>
        <p:spPr>
          <a:xfrm>
            <a:off x="2819520" y="6324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ee-jerk ref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عنصر نائب للتذييل 13"/>
          <p:cNvSpPr/>
          <p:nvPr/>
        </p:nvSpPr>
        <p:spPr>
          <a:xfrm>
            <a:off x="-380880" y="61722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524480" y="3724200"/>
            <a:ext cx="4619520" cy="27529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ypes of Nerve Circuit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دوائر العصب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3 patterns of organization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ngle presynaptic neur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several postsynaptic neuron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s information from a single source (e.g. eye) to several parts of the br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Several presynaptic neuron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single postsynaptic neur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s information from several sour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 vision, touch and hearing) to a single postsynaptic neuron in the br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ircular path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flows from one                                                                        neuron to another and then                                                                           back to its source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                                                                           memory stored inform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عنصر نائب للتذييل 4"/>
          <p:cNvSpPr/>
          <p:nvPr/>
        </p:nvSpPr>
        <p:spPr>
          <a:xfrm>
            <a:off x="6094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rcRect l="0" t="0" r="0" b="6803"/>
          <a:stretch/>
        </p:blipFill>
        <p:spPr>
          <a:xfrm>
            <a:off x="0" y="3868560"/>
            <a:ext cx="9144000" cy="29894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5960" y="76320"/>
            <a:ext cx="883908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 algn="ctr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upporting Cells (Glia)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خلايا الغراء العصبى المدعِمة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0" algn="ctr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y a supportive rule, and include the following types of glia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خلايا الغراء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5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strocyt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found with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provide structural and metabolic support as well as forming of tight junctions to help form the blood-brain barrier. They also communicate with one ano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emical sign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51"/>
              </a:spcBef>
              <a:buClr>
                <a:srgbClr val="ff0000"/>
              </a:buClr>
              <a:buFont typeface="Arial"/>
              <a:buAutoNum type="arabi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ligodendrocyt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found with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orm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yelin shea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غمد العاز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insulating ax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35000" indent="-577800">
              <a:spcBef>
                <a:spcPts val="451"/>
              </a:spcBef>
              <a:buClr>
                <a:srgbClr val="ff0000"/>
              </a:buClr>
              <a:buFont typeface="Arial"/>
              <a:buAutoNum type="arabicParenR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chwann cel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found with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the axon of each neur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yelin shea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insulating ax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352680" y="6491160"/>
            <a:ext cx="1676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Times New Roman"/>
              </a:rPr>
              <a:t>Fig. 48.5, Page 102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765440" y="6083280"/>
            <a:ext cx="83808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5587920" y="5803920"/>
            <a:ext cx="914400" cy="4572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>
            <a:hlinkClick r:id="rId2"/>
          </p:cNvPr>
          <p:cNvSpPr/>
          <p:nvPr/>
        </p:nvSpPr>
        <p:spPr>
          <a:xfrm>
            <a:off x="7924680" y="763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it 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676520" y="64897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غمد العصب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عنصر نائب للتذييل 9"/>
          <p:cNvSpPr/>
          <p:nvPr/>
        </p:nvSpPr>
        <p:spPr>
          <a:xfrm>
            <a:off x="6858000" y="6620040"/>
            <a:ext cx="2895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"/>
          <p:cNvPicPr/>
          <p:nvPr/>
        </p:nvPicPr>
        <p:blipFill>
          <a:blip r:embed="rId1"/>
          <a:srcRect l="0" t="0" r="0" b="6079"/>
          <a:stretch/>
        </p:blipFill>
        <p:spPr>
          <a:xfrm>
            <a:off x="4495680" y="2471760"/>
            <a:ext cx="4622760" cy="3686040"/>
          </a:xfrm>
          <a:prstGeom prst="rect">
            <a:avLst/>
          </a:prstGeom>
          <a:ln w="0">
            <a:noFill/>
          </a:ln>
        </p:spPr>
      </p:pic>
      <p:sp>
        <p:nvSpPr>
          <p:cNvPr id="82" name="Line 3"/>
          <p:cNvSpPr/>
          <p:nvPr/>
        </p:nvSpPr>
        <p:spPr>
          <a:xfrm>
            <a:off x="152280" y="838080"/>
            <a:ext cx="830592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28600" y="152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ction B1: The Nature Of Nerve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228600" y="990720"/>
            <a:ext cx="87631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ery cell has a voltage, or membrane potential, across its plasma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5960" y="1974600"/>
            <a:ext cx="8762760" cy="19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embrane potenti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هد الكهربائى للغشا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localized electrical gradient across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n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more concentrated                                                                        within a cell (e.g. protein mol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more concentrated                                                                               in the extracellular fluid (e.g. N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52280" y="4210200"/>
            <a:ext cx="403884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rane Potentials is Measur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unstimulated cell usually have a resting potential of    -70 m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عنصر نائب للتذييل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320" y="152280"/>
            <a:ext cx="868680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 Cell Maintains a Membrane Pot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principal intracellular 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principal extracellular 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n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ins, amino acids, sulfate, and phosphate are the principal intracellular an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principal extracellular an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rcRect l="0" t="0" r="0" b="4474"/>
          <a:stretch/>
        </p:blipFill>
        <p:spPr>
          <a:xfrm>
            <a:off x="3581280" y="3471840"/>
            <a:ext cx="5562720" cy="30812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7548120" y="65530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7, Page 102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52280" y="3124080"/>
            <a:ext cx="868680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gat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فتو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on channel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ions to diffuse across the plasma membra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iffu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oes not                                                                                          achieve an equilibrium                                                                                             since sodium-potassium                                                                                            pump transports these                                                                                               ions against their                                                                                                concentration gradi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see lecture 15 slide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عنصر نائب للتذييل 6"/>
          <p:cNvSpPr/>
          <p:nvPr/>
        </p:nvSpPr>
        <p:spPr>
          <a:xfrm>
            <a:off x="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87631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 Excited state of the cell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حالة الإثارة فى الخلية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rons have the ability to generate large changes in their membrane potent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ated ion chann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pen or close in response to stimuli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ؤثر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ing diffusion of ions leads to a change in the membrane potent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nges in the membrane potential of a neuron give rise to nerve impuls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شارات العصب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76320" y="4267080"/>
            <a:ext cx="906768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ypes of gated ions chann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emically-g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on channels open or close in response to a chemical stimul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Voltage-gate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on channels open or close in response to a change in membrane potent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عنصر نائب للتذييل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6320" y="304560"/>
            <a:ext cx="868680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raded Potenti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ت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هد الكهربائ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he changes in membrane potentia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following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1143000"/>
            <a:ext cx="906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yperpolariz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إستقطاب المرتف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t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K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hannels op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K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ffus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ut of the c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membrane potential becom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more negativ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rease in membran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220968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epolariz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فقـْد الإستقطا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t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hannels ope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ffus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o the c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membrane potential become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less negativ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crease in membran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8"/>
          <p:cNvGrpSpPr/>
          <p:nvPr/>
        </p:nvGrpSpPr>
        <p:grpSpPr>
          <a:xfrm>
            <a:off x="4419720" y="3657600"/>
            <a:ext cx="4572000" cy="1981080"/>
            <a:chOff x="4419720" y="3657600"/>
            <a:chExt cx="4572000" cy="1981080"/>
          </a:xfrm>
        </p:grpSpPr>
        <p:sp>
          <p:nvSpPr>
            <p:cNvPr id="102" name="Rectangle 9"/>
            <p:cNvSpPr/>
            <p:nvPr/>
          </p:nvSpPr>
          <p:spPr>
            <a:xfrm>
              <a:off x="4496040" y="3657600"/>
              <a:ext cx="4495680" cy="1981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"/>
            <p:cNvSpPr/>
            <p:nvPr/>
          </p:nvSpPr>
          <p:spPr>
            <a:xfrm>
              <a:off x="6019920" y="3733560"/>
              <a:ext cx="2971800" cy="17528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1"/>
            <p:cNvSpPr/>
            <p:nvPr/>
          </p:nvSpPr>
          <p:spPr>
            <a:xfrm>
              <a:off x="7696440" y="4190760"/>
              <a:ext cx="914400" cy="7621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6248520" y="4006800"/>
              <a:ext cx="129564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ahoma"/>
                </a:rPr>
                <a:t>High conc.     of</a:t>
              </a:r>
              <a:r>
                <a:rPr b="1" lang="en-GB" sz="16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</a:rPr>
                <a:t>K</a:t>
              </a:r>
              <a:r>
                <a:rPr b="1" lang="en-GB" sz="2800" spc="-1" strike="noStrike" baseline="30000">
                  <a:solidFill>
                    <a:srgbClr val="ff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3"/>
            <p:cNvSpPr/>
            <p:nvPr/>
          </p:nvSpPr>
          <p:spPr>
            <a:xfrm>
              <a:off x="4419720" y="4800600"/>
              <a:ext cx="14479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High conc.       of</a:t>
              </a: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Na</a:t>
              </a:r>
              <a:r>
                <a:rPr b="1" lang="en-GB" sz="28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496040" y="4038480"/>
              <a:ext cx="12952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Tahoma"/>
                </a:rPr>
                <a:t>Low conc.     of</a:t>
              </a:r>
              <a:r>
                <a:rPr b="1" lang="en-GB" sz="16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GB" sz="2000" spc="-1" strike="noStrike">
                  <a:solidFill>
                    <a:srgbClr val="ff0000"/>
                  </a:solidFill>
                  <a:latin typeface="Tahoma"/>
                </a:rPr>
                <a:t>K</a:t>
              </a:r>
              <a:r>
                <a:rPr b="1" lang="en-GB" sz="2800" spc="-1" strike="noStrike" baseline="30000">
                  <a:solidFill>
                    <a:srgbClr val="ff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6324840" y="4724280"/>
              <a:ext cx="14479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ahoma"/>
                </a:rPr>
                <a:t>Low conc.       of</a:t>
              </a:r>
              <a:r>
                <a:rPr b="1" lang="en-GB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Na</a:t>
              </a:r>
              <a:r>
                <a:rPr b="1" lang="en-GB" sz="28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6"/>
          <p:cNvSpPr/>
          <p:nvPr/>
        </p:nvSpPr>
        <p:spPr>
          <a:xfrm>
            <a:off x="4495680" y="3657600"/>
            <a:ext cx="6858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7"/>
          <p:cNvSpPr/>
          <p:nvPr/>
        </p:nvSpPr>
        <p:spPr>
          <a:xfrm>
            <a:off x="5867280" y="4267080"/>
            <a:ext cx="533520" cy="990720"/>
          </a:xfrm>
          <a:prstGeom prst="ellipse">
            <a:avLst/>
          </a:prstGeom>
          <a:solidFill>
            <a:srgbClr val="cc0099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6095880" y="5029200"/>
            <a:ext cx="457200" cy="304920"/>
          </a:xfrm>
          <a:prstGeom prst="leftArrow">
            <a:avLst>
              <a:gd name="adj1" fmla="val 50000"/>
              <a:gd name="adj2" fmla="val 3748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562720" y="4343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5486400" y="3657600"/>
            <a:ext cx="1295280" cy="609480"/>
            <a:chOff x="5486400" y="3657600"/>
            <a:chExt cx="1295280" cy="609480"/>
          </a:xfrm>
        </p:grpSpPr>
        <p:sp>
          <p:nvSpPr>
            <p:cNvPr id="114" name="Text Box 21"/>
            <p:cNvSpPr/>
            <p:nvPr/>
          </p:nvSpPr>
          <p:spPr>
            <a:xfrm>
              <a:off x="5486400" y="36576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. prot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>
              <a:off x="6095880" y="39621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23"/>
          <p:cNvSpPr/>
          <p:nvPr/>
        </p:nvSpPr>
        <p:spPr>
          <a:xfrm>
            <a:off x="0" y="3276720"/>
            <a:ext cx="4419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Action Potential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urs in the Axons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graded potentials reached 55mV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reshold potent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ستوى الجهد الأمث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achie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triggers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tion potenti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ng impuls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4"/>
          <p:cNvSpPr/>
          <p:nvPr/>
        </p:nvSpPr>
        <p:spPr>
          <a:xfrm>
            <a:off x="152280" y="5715000"/>
            <a:ext cx="784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 Resting state of the cell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a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annels are closed and the membrane’s resting potential is mainta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7924680" y="60958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 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عنصر نائب للتذييل 23"/>
          <p:cNvSpPr/>
          <p:nvPr/>
        </p:nvSpPr>
        <p:spPr>
          <a:xfrm>
            <a:off x="3276720" y="6620040"/>
            <a:ext cx="2895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042E-008 L 0.06666 5.55042E-008 E">
                                      <p:cBhvr>
                                        <p:cTn id="54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6244E-006 L -0.075 2.56244E-006 E">
                                      <p:cBhvr>
                                        <p:cTn id="62" dur="1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21:21:51Z</dcterms:created>
  <dc:creator>User</dc:creator>
  <dc:description/>
  <dc:language>en-US</dc:language>
  <cp:lastModifiedBy>DELL</cp:lastModifiedBy>
  <dcterms:modified xsi:type="dcterms:W3CDTF">2015-01-16T21:48:24Z</dcterms:modified>
  <cp:revision>170</cp:revision>
  <dc:subject/>
  <dc:title>Slide 1</dc:title>
</cp:coreProperties>
</file>