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3028-A5A9-4AA9-A1C1-D9F971A5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E7C-6E83-49E7-A11B-B00710C3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8BE-D6A6-44A2-9405-6096CF4B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542-83DC-42A5-9241-B5C2F510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3865-C17D-4D48-BAA2-68158A30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241-5595-443C-85EB-0C12E922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B31-8C5C-419A-97C8-4C898D21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C2D-8E0A-45AD-834F-0566E3DE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11E-3745-4D3C-A475-1E1039F1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B7CF-CE53-4A79-965C-2D639114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340-D103-4AB8-8A15-150F8506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C8E-4D5E-401E-B10C-5E4DBA64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8884-838E-4A55-AD38-723E03564E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9164-6EE4-4BAF-A571-F643A6D472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9656-DC3D-4F4B-B715-4CC03B2A05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are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1B99-72EB-4B62-9898-5649024AB7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e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533E-A44A-4E73-A46E-B562BF8337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E78E-032B-44F5-8244-C19653D0E4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06F2-A8AA-40E6-9F0E-B2FCC085C0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and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F483-294E-4411-8F67-5CA9A931D3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is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610E-8385-47E5-B23B-D3409F8C7E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1538-87BD-4040-923A-4AC2784229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84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d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is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8F52-2A93-43E4-BE0E-6F395AB922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2872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58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ralajmi</cp:lastModifiedBy>
  <dcterms:modified xsi:type="dcterms:W3CDTF">2014-02-02T04:51:05Z</dcterms:modified>
  <cp:revision>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C814410-03CA-4A77-8208-58DDCF28CC37</vt:lpwstr>
  </property>
  <property fmtid="{D5CDD505-2E9C-101B-9397-08002B2CF9AE}" pid="3" name="ArticulatePath">
    <vt:lpwstr>Lecture 26</vt:lpwstr>
  </property>
</Properties>
</file>