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DE8-5E81-4BCD-A04E-8DD78EA7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38F-C535-42C4-B0A9-AA6E50D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DBA-2FD0-46BA-BDC3-E969E38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7B9-6048-4E52-96C6-D0FF4D5F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D16-AA0B-43BE-9AA5-1A23E04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EC6-0EA2-4B03-A7E4-CEE02E1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832-D4CC-4706-97EC-5A2336C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303-3101-476D-96F9-1A89E7FC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6BD-02CD-48AC-AD10-979EA00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B6F-3247-4FAF-B558-A069815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740-138D-46FF-86E9-6663F4A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64B-3FE1-48D0-9080-AB18AAF0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6B6-D1E7-44A9-AAA4-4046A4802D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872C-951B-4C9F-A4C9-E4347323FA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07F-27D6-49EC-939F-C7363C89F8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5200-D62D-40B4-BAA9-9F647584D5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i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5BE-BCDA-4635-A8F9-78E1942097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F11-1840-44A2-8312-CB9C7E2F78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6E0B-0FBF-47DE-B77D-F4B3BF77F3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C07D-C045-4C60-B85C-E0283773C3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89A-4830-4B40-8812-BD812B5833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717-8772-4B1D-9050-D2232C4619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3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ocrine function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crine function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511D-79A8-421E-8B41-3B117195EC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كلية العوم</cp:lastModifiedBy>
  <dcterms:modified xsi:type="dcterms:W3CDTF">2013-01-27T05:14:57Z</dcterms:modified>
  <cp:revision>78</cp:revision>
  <dc:subject/>
  <dc:title>Slide 1</dc:title>
</cp:coreProperties>
</file>