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DDE-5A2D-4461-891C-5F2DBEC1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0DA-3082-4BD7-B50A-9FE2CF9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62C-0961-4836-9E0E-428D9359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A2A-13D9-4C7D-AB8B-CF9CC75D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95E-1796-4E8E-B058-D381886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3D9-BFC7-4D0E-8082-59143B2B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D81-ECDC-4EB3-B6F5-856322A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C7E-1898-465D-A990-FD77D66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64E-FA8F-439B-AA53-4732A01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E62-C6A0-4B7E-A831-D195546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8C7-0A9D-47FF-ABC2-76400A1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645-0D9F-4920-AB46-B1FB01B0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A39-A23C-4388-8D19-0349E7159A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E6D4-335C-46BF-AD84-2104B29760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BAE1-21BE-4984-AF13-C7399C048A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1922-EFBF-45C0-9184-90E55CC70F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i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DC7-A9B4-49BA-A9C0-3091654889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97F-32DE-4395-85F6-0DEACC1A59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A8E-AF19-4486-A562-9507B8278A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8D16-4527-4457-AD68-F5785BDC26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D6F-F19A-42F3-A01A-E098081F03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B212-04E9-4E8F-87EC-D1DD02D78F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3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ocrine function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ocrine function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814-1DBE-4CD8-8E53-A8145F5C5B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-70416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52240" indent="-6037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كلية العوم</cp:lastModifiedBy>
  <dcterms:modified xsi:type="dcterms:W3CDTF">2013-01-27T05:14:57Z</dcterms:modified>
  <cp:revision>78</cp:revision>
  <dc:subject/>
  <dc:title>Slide 1</dc:title>
</cp:coreProperties>
</file>