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2.wmf" ContentType="image/x-wm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7320-7774-4485-9123-B34B2F86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8F40-C704-4247-8272-9769F575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A5A7-87C9-4E72-8735-E9A18147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EA6D-782C-4EB9-877D-514E3FBC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3EF8-9B4B-4979-8FCF-078BAA52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999-CF43-4CC9-B815-578D636F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087-A928-48E3-96BC-940A7630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D76-BE53-4B78-8F4B-ABEB85C5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C41C-2DC8-4474-94B4-E01D0983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9311-567A-4D30-AF27-929FBD7B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290B-EE5C-4815-BDAB-7CEDFAAE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65A-539D-426F-A953-27B2CEA2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D4E4-8D94-4435-9CAA-1332F8822F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E70C-32F7-49A0-A556-EAD808F886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4572000" y="6324480"/>
            <a:ext cx="2209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rcRect l="0" t="0" r="0" b="3846"/>
          <a:stretch/>
        </p:blipFill>
        <p:spPr>
          <a:xfrm>
            <a:off x="5170320" y="1727280"/>
            <a:ext cx="374508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Picture 7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228600" y="1752480"/>
            <a:ext cx="468648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Rectangle 8"/>
          <p:cNvSpPr/>
          <p:nvPr/>
        </p:nvSpPr>
        <p:spPr>
          <a:xfrm>
            <a:off x="101520" y="1614600"/>
            <a:ext cx="8915400" cy="50292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egg500"/>
          <p:cNvPicPr/>
          <p:nvPr/>
        </p:nvPicPr>
        <p:blipFill>
          <a:blip r:embed="rId4"/>
          <a:stretch/>
        </p:blipFill>
        <p:spPr>
          <a:xfrm>
            <a:off x="76320" y="4946760"/>
            <a:ext cx="838080" cy="81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larva500"/>
          <p:cNvPicPr/>
          <p:nvPr/>
        </p:nvPicPr>
        <p:blipFill>
          <a:blip r:embed="rId5"/>
          <a:stretch/>
        </p:blipFill>
        <p:spPr>
          <a:xfrm>
            <a:off x="990720" y="4840200"/>
            <a:ext cx="1199880" cy="94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anim2"/>
          <p:cNvPicPr/>
          <p:nvPr/>
        </p:nvPicPr>
        <p:blipFill>
          <a:blip r:embed="rId6"/>
          <a:stretch/>
        </p:blipFill>
        <p:spPr>
          <a:xfrm rot="358800">
            <a:off x="3433680" y="4495680"/>
            <a:ext cx="1911600" cy="149400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2"/>
          <p:cNvSpPr/>
          <p:nvPr/>
        </p:nvSpPr>
        <p:spPr>
          <a:xfrm>
            <a:off x="7621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1981080" y="578484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3276720" y="5784840"/>
            <a:ext cx="761760" cy="304920"/>
          </a:xfrm>
          <a:prstGeom prst="rightArrow">
            <a:avLst>
              <a:gd name="adj1" fmla="val 50000"/>
              <a:gd name="adj2" fmla="val 62456"/>
            </a:avLst>
          </a:pr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152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12952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r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9092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4038480" y="60897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9" descr="chrysalis500"/>
          <p:cNvPicPr/>
          <p:nvPr/>
        </p:nvPicPr>
        <p:blipFill>
          <a:blip r:embed="rId7"/>
          <a:stretch/>
        </p:blipFill>
        <p:spPr>
          <a:xfrm>
            <a:off x="2468520" y="4794120"/>
            <a:ext cx="960480" cy="1067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0"/>
          <p:cNvSpPr/>
          <p:nvPr/>
        </p:nvSpPr>
        <p:spPr>
          <a:xfrm>
            <a:off x="1905120" y="533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SIGNALS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4" descr=""/>
          <p:cNvPicPr/>
          <p:nvPr/>
        </p:nvPicPr>
        <p:blipFill>
          <a:blip r:embed="rId8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569F-625E-4938-92BE-B484AF6D56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7631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I- Adrenal cortex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cts to st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orticostero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a family of steroid hormones) is regulated by the nervous system in response to stress for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Glucocortic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ACTH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Adrenocorticotropic horm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bnormally high doses are administered as medication to suppress the inflammation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Mineralocortico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ample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aldoster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which affects salt and water bal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re-absorp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Na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excretion of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kidn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ir secretion regulated by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K</a:t>
            </a:r>
            <a:r>
              <a:rPr b="1" lang="en-US" sz="18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152280" y="5156280"/>
            <a:ext cx="838224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)  Sex hormo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rogens are secreted by the adrenal cortex may account for the female sex dr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cortex also secretes small amounts of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320" y="1523520"/>
            <a:ext cx="8991360" cy="498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Tes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esto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s sperm 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va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Estrog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development and maintenance of female sex characteris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01680">
              <a:spcBef>
                <a:spcPts val="499"/>
              </a:spcBef>
              <a:buClr>
                <a:srgbClr val="0000ff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rogester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stero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s uterine lining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1040" indent="-16956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FSH and L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95280" y="76320"/>
            <a:ext cx="647712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7.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Tests &amp; 8. ovaries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onadal steroids regulate growth, development, reproductive cycles, and sexu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1EFF-DC77-4BF7-8050-447713947F5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274320"/>
            <a:ext cx="5410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9- Thymus gland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2860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e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ymos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peptide.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stimulates T lymphocy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648320"/>
            <a:ext cx="678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990720" y="3429000"/>
            <a:ext cx="7238880" cy="947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 hormones affect target cell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on the membrane protei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990720" y="4616280"/>
            <a:ext cx="7315200" cy="1373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eroid hormones enter the target cells and trigger protein synthesi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ia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receptors in the nucle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BBA9-5E64-41CE-8036-A10A4CA57C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0" b="3163"/>
          <a:stretch/>
        </p:blipFill>
        <p:spPr>
          <a:xfrm>
            <a:off x="152280" y="76320"/>
            <a:ext cx="8763120" cy="6172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76320" y="6477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9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7F2B-481E-4BAE-BFFA-132555981E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0" t="0" r="0" b="3877"/>
          <a:stretch/>
        </p:blipFill>
        <p:spPr>
          <a:xfrm>
            <a:off x="228600" y="76320"/>
            <a:ext cx="868680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0" y="6537240"/>
            <a:ext cx="2209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Table 45.1 (continue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4D18-76A8-4391-B1AD-422F8D0A55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rcRect l="0" t="0" r="0" b="3124"/>
          <a:stretch/>
        </p:blipFill>
        <p:spPr>
          <a:xfrm>
            <a:off x="5181480" y="1157400"/>
            <a:ext cx="3826080" cy="541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638680" y="23004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releas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264440" y="41450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yroid stimulating 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6832080" y="6516360"/>
            <a:ext cx="686160" cy="152640"/>
            <a:chOff x="6832080" y="6516360"/>
            <a:chExt cx="686160" cy="152640"/>
          </a:xfrm>
        </p:grpSpPr>
        <p:sp>
          <p:nvSpPr>
            <p:cNvPr id="66" name="Line 11"/>
            <p:cNvSpPr/>
            <p:nvPr/>
          </p:nvSpPr>
          <p:spPr>
            <a:xfrm>
              <a:off x="7518240" y="651672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2"/>
            <p:cNvSpPr/>
            <p:nvPr/>
          </p:nvSpPr>
          <p:spPr>
            <a:xfrm flipH="1">
              <a:off x="6832080" y="6669000"/>
              <a:ext cx="685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3"/>
            <p:cNvSpPr/>
            <p:nvPr/>
          </p:nvSpPr>
          <p:spPr>
            <a:xfrm flipV="1">
              <a:off x="6832440" y="6516360"/>
              <a:ext cx="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1294920"/>
            <a:ext cx="5257800" cy="51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3769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hyroid gl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f mammals consists of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wo lob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ocated on the ventral surface of the trachea.  It contains 4 small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Parathyroid g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It plays role in maintaining normal blood pressure, heart rate and digestion ..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3360" indent="-3769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yroid glands secretes 3 horm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ri-iodothyronine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Thyroxi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tom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]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 deriv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nd maintain metabolic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3596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S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ormon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533160" y="-60480"/>
            <a:ext cx="8305560" cy="109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3. Thyroid gland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 help in development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bioenergetics, and homeostas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ثبات البيئة الفسيولو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ـية الداخ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F31E-AB0E-42F0-84BD-5CBA71F40F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31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er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ecretion of thyroid hormones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ody temperature, sweating, weight loss, Irritability, high blood press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Hypothyroidis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nsuffic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قلي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mount of thyroid hormon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because deficiency of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in human diet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causes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Goiter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fants: cretinism.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دمام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ults: weight gain, lethargy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خم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cold  intoler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00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oiter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تضخم الغد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often is associated with iodine                                                       deficienc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" y="152280"/>
            <a:ext cx="8610480" cy="11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2880" indent="-812880">
              <a:spcBef>
                <a:spcPts val="499"/>
              </a:spcBef>
              <a:buClr>
                <a:srgbClr val="0000ff"/>
              </a:buClr>
              <a:buFont typeface="Arial"/>
              <a:buAutoNum type="romanU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Calcitonin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eptid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s secretion regulated by calcium in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rcRect l="0" t="10003" r="0" b="0"/>
          <a:stretch/>
        </p:blipFill>
        <p:spPr>
          <a:xfrm>
            <a:off x="6553080" y="3657600"/>
            <a:ext cx="251460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2971800" y="4311720"/>
            <a:ext cx="3352680" cy="2352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4786-5FB3-4CF5-9611-37A05E21A8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68680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PTH is secreted b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u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arathyroid gla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which are embedded in the surface of the thyroid gland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t functions a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calcium in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steoclas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فقد الكالسي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break down bone, releasing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to the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the kidneys to reabsorb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عيد إمتص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kidneys to convert vitamin D to its active form, which stimulate intestine to absorb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PTH and calciton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antagonis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متضاد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rmones. Th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TH and calcitonin regulate blood calcium level (important role in homeosta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Hypoparathyoid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(tetany)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ck of PTH which cau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a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2+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ls in the blood dr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vulsive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شنج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tractions of the                                                skeletal mus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447560" y="139680"/>
            <a:ext cx="65530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- Parathyroid gland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es Parathyroid hormon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(PTH)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 peptid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imagesCA84CF1U"/>
          <p:cNvPicPr/>
          <p:nvPr/>
        </p:nvPicPr>
        <p:blipFill>
          <a:blip r:embed="rId1"/>
          <a:stretch/>
        </p:blipFill>
        <p:spPr>
          <a:xfrm>
            <a:off x="6248520" y="4821120"/>
            <a:ext cx="2819160" cy="19605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4267080" y="5257800"/>
            <a:ext cx="190512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04FC-8296-41C0-925A-1798B38321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0" t="0" r="0" b="3263"/>
          <a:stretch/>
        </p:blipFill>
        <p:spPr>
          <a:xfrm>
            <a:off x="762120" y="1219320"/>
            <a:ext cx="7848360" cy="5638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lcium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1403280"/>
            <a:ext cx="8915400" cy="55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840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The pancreas has both endocrine and exocrin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secretion of bicarbonate ions and digestive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ndocrin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sul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glucag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re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ell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slets of Langerha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جيوب لانجران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649"/>
              </a:spcBef>
              <a:buClr>
                <a:srgbClr val="0000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nsuli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beta cell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wers blood glucose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all body cells (except brain cells) to take up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w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بطىء 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a source of gluco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2682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ts gluconeogen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يوقف تكوين الجلوكو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e feedb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04920">
              <a:spcBef>
                <a:spcPts val="524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Arial"/>
                <a:ea typeface="Times New Roman"/>
              </a:rPr>
              <a:t>Hypoinsulinism: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diabetes mellitus </a:t>
            </a:r>
            <a:r>
              <a:rPr b="0" lang="ar-EG" sz="1700" spc="-1" strike="noStrike">
                <a:solidFill>
                  <a:srgbClr val="000000"/>
                </a:solidFill>
                <a:latin typeface="Arial"/>
                <a:cs typeface="Times New Roman"/>
              </a:rPr>
              <a:t>نقص الإنسولين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ereditary factor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عامل وراث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play a role in its develop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blood sugar level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ugar is excreted in the ur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280800">
              <a:spcBef>
                <a:spcPts val="4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mptoms: excessive urination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كثرة التبو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d excessive thirs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Times New Roman"/>
              </a:rPr>
              <a:t>العط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294920" y="-14400"/>
            <a:ext cx="70866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5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Pancrea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: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docrine tissues of the pancreas secrete insulin a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lucagon, antagonistic hormones that regulate blood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90D2-14EE-40DC-B27C-7EB6126488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6320" y="522360"/>
            <a:ext cx="89913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toimmune dis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appears in childhoo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طفو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reatment: insulin inj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Ty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iabetes melli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non-insulin-dependent diab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due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arget cel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aving a decrease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sponsive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insul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قلة الإستجابة للإنسول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occurs after age 4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risk increases with 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counts for over 90% of diabetes c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Glucagon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protein secre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alpha cel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51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imulates glycogen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تحلل الجليكوج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liver and skeletal muscle to produce gluco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spcBef>
                <a:spcPts val="400"/>
              </a:spcBef>
              <a:buClr>
                <a:srgbClr val="339933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cretion is regulated by glucose in blood (negative feedback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0" t="0" r="0" b="3465"/>
          <a:stretch/>
        </p:blipFill>
        <p:spPr>
          <a:xfrm>
            <a:off x="685800" y="1146240"/>
            <a:ext cx="7848720" cy="56354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198108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rmonal contro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eostasis in mammals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1095120"/>
            <a:ext cx="86868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5880" indent="-2872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renal glands are located adjacent to the kidne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corte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قش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out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drenal medu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inner por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58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I- Adrenal medull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المركز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mentally and functionally related to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produc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llowing hormon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response to st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in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Times New Roman"/>
              </a:rPr>
              <a:t>هرمون القل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363600">
              <a:spcBef>
                <a:spcPts val="451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Norepinephr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radrena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y are amino acid derivatives (synthesized from tyrosine) and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ses blood glucose level and blood fatty acid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heart rate and stroke volume and dilates bronchi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67000" indent="-6098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unts blood away from skin, digestive organs, and kidneys, and increases blood flow to heart, brain, and skeletal mus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066320" y="76320"/>
            <a:ext cx="807732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6.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The adrenal gland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renal medulla and adrenal cortex help the body manage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20:26:14Z</dcterms:created>
  <dc:creator>User</dc:creator>
  <dc:description/>
  <dc:language>en-US</dc:language>
  <cp:lastModifiedBy>HP</cp:lastModifiedBy>
  <dcterms:modified xsi:type="dcterms:W3CDTF">2014-01-07T17:22:52Z</dcterms:modified>
  <cp:revision>8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C814410-03CA-4A77-8208-58DDCF28CC37</vt:lpwstr>
  </property>
  <property fmtid="{D5CDD505-2E9C-101B-9397-08002B2CF9AE}" pid="3" name="ArticulatePath">
    <vt:lpwstr>Lecture 26</vt:lpwstr>
  </property>
</Properties>
</file>