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C4B-01A7-4C54-B604-ADC60D53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A25-58B2-404F-9D90-AF95A7A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3C5-12E1-4DDC-B6C9-3ABFB24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40E-28BE-4180-B968-3BD8A9D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0A8-6A9D-40AB-BC3D-720707B7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5B7-9FFC-4530-8AA5-C4D22DF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A1E-9A48-4FE1-B488-504D0E6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E6E-CA08-44CB-A562-D69E9B9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DB8-8E8A-4371-B6E5-2CD06AF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7F8-68EF-4E43-8886-8F0F1FA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E51-3A18-4BDF-98CA-D183859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67B-A2F2-48F0-A60A-4829206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CB9C-65D3-4132-B876-56CFE03D0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0272-5D14-4AB6-BE35-F44A26A066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A29-1F5B-4FA3-A1E1-7D97327D6D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9B7-E9B5-4F63-9DE3-57A2DFC9C6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781C-1B2F-4D85-88AD-FBB5875022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6A1-77A0-4767-8CB9-41C3566DD6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D1E-8624-4C02-9FC6-AC83A80AA8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F6B-AA9E-4452-984C-69ADD94865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C0DB-AA39-4E4C-988F-5A55EF8EC0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E85-5D63-4A04-B76A-9FE5C458FE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ocrine function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crine function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B745-A90A-436A-91B5-1B0B056544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User</cp:lastModifiedBy>
  <dcterms:modified xsi:type="dcterms:W3CDTF">2014-01-04T13:54:28Z</dcterms:modified>
  <cp:revision>80</cp:revision>
  <dc:subject/>
  <dc:title>Slide 1</dc:title>
</cp:coreProperties>
</file>