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FA8-9459-4585-8FFB-3A95BC18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557-AF7A-4DB8-922A-283A1361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42EA-393C-4EDB-91D7-C9AD5B7F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7F8-6523-4AD3-9839-CCB14A7C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1CA-11BB-4658-9050-0E009632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7D1-B62A-4ECE-91DB-05CC1081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678-F3B1-4E0A-9657-83CB62DF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6B05-1E74-4A68-A3D6-9229662B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9A6-055A-40CE-AB11-5D6EA83B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74E-2E85-4D98-B5A6-BCB590F9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ABF-DD3A-4848-8425-0FCC6657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215-A603-4764-BE12-20FEDAD1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8FD3-AEC4-4B65-8C74-0BC7BE6567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F594-62A7-490C-84E8-75D6418067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8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1905120" y="533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07EB-38E1-4A70-AE13-7CE6E3EF9B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I- Adrenal cortex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reacts to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rtico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a family of steroid hormones) is regulated by the nervous system in response to stress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Glucocortic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ACTH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normally high doses are administered as medication to suppress the inflammation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ineralocortico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ldoster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affects salt and water bal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-absorp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Na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excre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kidn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ir secretion regulated by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2280" y="5156280"/>
            <a:ext cx="838224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)  Sex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rogens are secreted by the adrenal cortex may account for the female sex dr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cortex also secretes small amounts of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1523520"/>
            <a:ext cx="8991360" cy="498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es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esto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s sperm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va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fe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95280" y="76320"/>
            <a:ext cx="64771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7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Tests &amp; 8. ovaries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adal steroids regulate growth, development, reproductive cycles, and sexu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D06F-1023-42B6-80E5-AFAFB38ED7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410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- Thymus gland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e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ymo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eptide.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timulates T lymphoc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3429000"/>
            <a:ext cx="7238880" cy="947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 hormones affect target cell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on the membrane prote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90720" y="4616280"/>
            <a:ext cx="7315200" cy="1373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roid hormones enter the target cells and trigger protein synthes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in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9276-D036-4662-A391-DCF328F997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3163"/>
          <a:stretch/>
        </p:blipFill>
        <p:spPr>
          <a:xfrm>
            <a:off x="152280" y="76320"/>
            <a:ext cx="876312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7632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9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C49F-781C-4A66-A821-59D093694F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0" t="0" r="0" b="3877"/>
          <a:stretch/>
        </p:blipFill>
        <p:spPr>
          <a:xfrm>
            <a:off x="228600" y="7632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0" y="6537240"/>
            <a:ext cx="2209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able 45.1 (continue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2B7E-B38D-4F79-9D90-42AB45D70C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rcRect l="0" t="0" r="0" b="3124"/>
          <a:stretch/>
        </p:blipFill>
        <p:spPr>
          <a:xfrm>
            <a:off x="5181480" y="1157400"/>
            <a:ext cx="38260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638680" y="2300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releas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264440" y="41450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stimulat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832080" y="6516360"/>
            <a:ext cx="686160" cy="152640"/>
            <a:chOff x="6832080" y="6516360"/>
            <a:chExt cx="686160" cy="152640"/>
          </a:xfrm>
        </p:grpSpPr>
        <p:sp>
          <p:nvSpPr>
            <p:cNvPr id="66" name="Line 11"/>
            <p:cNvSpPr/>
            <p:nvPr/>
          </p:nvSpPr>
          <p:spPr>
            <a:xfrm>
              <a:off x="7518240" y="651672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 flipH="1">
              <a:off x="6832080" y="666900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6832440" y="651636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5257800" cy="51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hyroid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mmals consists of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wo lob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cated on the ventral surface of the trachea.  It contains 4 small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Parathyroid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It plays role in maintaining normal blood pressure, heart rate and digestion ..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yroid glands secretes 3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ri-iodothyronine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hyroxi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nd maintain metabolic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160" y="-60480"/>
            <a:ext cx="8305560" cy="109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 Thyroid gland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 help in development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bioenergetics, and homeostas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ثبات البيئة الفسيولو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ـية الداخ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2A6D-0E92-42C8-90B5-484AB4EEDE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er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cretion of thyroid hormones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ody temperature, sweating, weight loss, Irritability, high blood pres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o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su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قلي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 of thyroid hormon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because deficiency of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in human diet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auses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oiter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s: cretinism.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دمام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ults: weight gain, lethargy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خم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cold  intoler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oiter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تضخم الغد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often is associated with iodine                                                       deficienc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" y="152280"/>
            <a:ext cx="861048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spcBef>
                <a:spcPts val="499"/>
              </a:spcBef>
              <a:buClr>
                <a:srgbClr val="0000ff"/>
              </a:buClr>
              <a:buFont typeface="Arial"/>
              <a:buAutoNum type="roman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alcitonin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s secretion regulated by calcium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rcRect l="0" t="10003" r="0" b="0"/>
          <a:stretch/>
        </p:blipFill>
        <p:spPr>
          <a:xfrm>
            <a:off x="6553080" y="365760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971800" y="4311720"/>
            <a:ext cx="3352680" cy="2352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C1B5-E150-403C-BF7E-E7540D6A4E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6868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TH is secreted b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u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arathyroid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are embedded in the surface of the thyroid glan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t functions 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calcium in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teocla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فقد الكالسي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break down bone, releas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to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e kidneys to reabsorb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عيد إمتص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kidneys to convert vitamin D to its active form, which stimulate intestine to absorb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TH and calciton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ntagonis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متضاد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. Th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TH and calcitonin regulate blood calcium level (important role in homeosta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Hypoparathyoid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tetany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ck of PTH which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 in the blood dr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ulsive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شنج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ions of the                                                skeletal mus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447560" y="139680"/>
            <a:ext cx="65530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- Parathyroid gland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es Parathyroid hormo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(PTH)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 peptid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imagesCA84CF1U"/>
          <p:cNvPicPr/>
          <p:nvPr/>
        </p:nvPicPr>
        <p:blipFill>
          <a:blip r:embed="rId1"/>
          <a:stretch/>
        </p:blipFill>
        <p:spPr>
          <a:xfrm>
            <a:off x="6248520" y="4821120"/>
            <a:ext cx="2819160" cy="19605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4267080" y="5257800"/>
            <a:ext cx="190512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5692-2117-4F6B-9499-D6DF9D4FA6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3263"/>
          <a:stretch/>
        </p:blipFill>
        <p:spPr>
          <a:xfrm>
            <a:off x="762120" y="1219320"/>
            <a:ext cx="784836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ium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1403280"/>
            <a:ext cx="891540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ancreas has both endocrine and exocrine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ocrine function: secretion of bicarbonate ions and digestive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ocrine function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sul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lucag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ell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slets of Langerha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جيوب لانجران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nsuli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 cel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glucose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ll body cells (except brain cells) to take up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w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بطىء 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 source of gluco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s gluconeogen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وقف تكوين الجلوكو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 feed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24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Hypoinsulinism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iabetes mellitus </a:t>
            </a:r>
            <a:r>
              <a:rPr b="0" lang="ar-EG" sz="17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 الإنسولين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reditary factor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عامل وراث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play a role in its develo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lood sugar level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ugar is excreted in the ur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mptoms: excessive uri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كثرة التب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excessive thirs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ط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94920" y="-144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ancrea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ocrine tissues of the pancreas secrete insulin a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ucagon, antagonistic hormones that regulate blood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E10D-9FE3-4437-953F-560A358FC2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522360"/>
            <a:ext cx="89913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immune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appears in childhoo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طفو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atment: insulin inj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on-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due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rget c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aving a decreas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sponsive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sul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قلة الإستجابة للإنسول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occurs after age 4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isk increases with 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s for over 90% of diabetes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Glucago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liver and skeletal muscle to produce gluco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00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negative feedback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0" t="0" r="0" b="3465"/>
          <a:stretch/>
        </p:blipFill>
        <p:spPr>
          <a:xfrm>
            <a:off x="685800" y="1146240"/>
            <a:ext cx="7848720" cy="563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095120"/>
            <a:ext cx="86868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04600" indent="-804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glands are located adjacent to the kidne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cor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ش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out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medu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inn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- Adrenal medull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رك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ally and functionally related to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produ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hormon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response to st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in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هرمون القل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Nor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radrena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amino acid derivatives (synthesized from tyrosine) and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452240" indent="-6037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 and blood fatty aci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2240" indent="-6037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heart rate and stroke volume and dilates bronchi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2240" indent="-6037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unts blood away from skin, digestive organs, and kidneys, and increases blood flow to heart, brain, and skeletal mus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773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6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The adrenal gland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 medulla and adrenal cortex help the body manage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20:26:14Z</dcterms:created>
  <dc:creator>User</dc:creator>
  <dc:description/>
  <dc:language>en-US</dc:language>
  <cp:lastModifiedBy>User</cp:lastModifiedBy>
  <dcterms:modified xsi:type="dcterms:W3CDTF">2014-01-04T13:54:28Z</dcterms:modified>
  <cp:revision>80</cp:revision>
  <dc:subject/>
  <dc:title>Slide 1</dc:title>
</cp:coreProperties>
</file>