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6.gif" ContentType="image/gif"/>
  <Override PartName="/ppt/media/image12.wmf" ContentType="image/x-wmf"/>
  <Override PartName="/ppt/media/image4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7.png" ContentType="image/pn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B378-52D6-443B-866C-20076A9CD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BB1B-2F04-4D07-8CF5-637B86C58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8F06-DCB9-44B0-BB6B-9E0C71D3E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059B-3420-493A-BFF0-9369D754D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AF26-2CBB-4895-9FD9-FEE698861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1364-D6A6-4CD4-BA72-67528EB69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4EFC-7F76-4E1A-8F08-E65290C40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512D-18D1-4478-AE0E-171DDBA0C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5A48-D17B-4863-BF70-773E610E3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4EBD-78C1-4E34-99A6-EC8F6B110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3B6F-CE3E-4FBA-88CA-BC37726F0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F4E8-FD1E-4B63-BE09-7F8334992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92B8E-01B4-4C22-A843-59FCF24BC96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gif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25398-4C45-4969-9ACC-87F5ACD6604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0" y="12600"/>
            <a:ext cx="9144000" cy="14479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7729560" y="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4572000" y="6324480"/>
            <a:ext cx="2209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2"/>
          <a:srcRect l="0" t="0" r="0" b="3846"/>
          <a:stretch/>
        </p:blipFill>
        <p:spPr>
          <a:xfrm>
            <a:off x="5170320" y="1727280"/>
            <a:ext cx="3745080" cy="480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6" name="Picture 7" descr=""/>
          <p:cNvPicPr/>
          <p:nvPr/>
        </p:nvPicPr>
        <p:blipFill>
          <a:blip r:embed="rId3"/>
          <a:srcRect l="0" t="0" r="0" b="3863"/>
          <a:stretch/>
        </p:blipFill>
        <p:spPr>
          <a:xfrm>
            <a:off x="228600" y="1752480"/>
            <a:ext cx="4686480" cy="274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7" name="Rectangle 8"/>
          <p:cNvSpPr/>
          <p:nvPr/>
        </p:nvSpPr>
        <p:spPr>
          <a:xfrm>
            <a:off x="101520" y="1614600"/>
            <a:ext cx="8915400" cy="50292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egg500"/>
          <p:cNvPicPr/>
          <p:nvPr/>
        </p:nvPicPr>
        <p:blipFill>
          <a:blip r:embed="rId4"/>
          <a:stretch/>
        </p:blipFill>
        <p:spPr>
          <a:xfrm>
            <a:off x="76320" y="4946760"/>
            <a:ext cx="838080" cy="815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larva500"/>
          <p:cNvPicPr/>
          <p:nvPr/>
        </p:nvPicPr>
        <p:blipFill>
          <a:blip r:embed="rId5"/>
          <a:stretch/>
        </p:blipFill>
        <p:spPr>
          <a:xfrm>
            <a:off x="990720" y="4840200"/>
            <a:ext cx="1199880" cy="944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anim2"/>
          <p:cNvPicPr/>
          <p:nvPr/>
        </p:nvPicPr>
        <p:blipFill>
          <a:blip r:embed="rId6"/>
          <a:stretch/>
        </p:blipFill>
        <p:spPr>
          <a:xfrm rot="358800">
            <a:off x="3433680" y="4495680"/>
            <a:ext cx="1911600" cy="149400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12"/>
          <p:cNvSpPr/>
          <p:nvPr/>
        </p:nvSpPr>
        <p:spPr>
          <a:xfrm>
            <a:off x="762120" y="5784840"/>
            <a:ext cx="761760" cy="304920"/>
          </a:xfrm>
          <a:prstGeom prst="rightArrow">
            <a:avLst>
              <a:gd name="adj1" fmla="val 50000"/>
              <a:gd name="adj2" fmla="val 62456"/>
            </a:avLst>
          </a:pr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3"/>
          <p:cNvSpPr/>
          <p:nvPr/>
        </p:nvSpPr>
        <p:spPr>
          <a:xfrm>
            <a:off x="1981080" y="5784840"/>
            <a:ext cx="762120" cy="304920"/>
          </a:xfrm>
          <a:prstGeom prst="rightArrow">
            <a:avLst>
              <a:gd name="adj1" fmla="val 50000"/>
              <a:gd name="adj2" fmla="val 62485"/>
            </a:avLst>
          </a:pr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4"/>
          <p:cNvSpPr/>
          <p:nvPr/>
        </p:nvSpPr>
        <p:spPr>
          <a:xfrm>
            <a:off x="3276720" y="5784840"/>
            <a:ext cx="761760" cy="304920"/>
          </a:xfrm>
          <a:prstGeom prst="rightArrow">
            <a:avLst>
              <a:gd name="adj1" fmla="val 50000"/>
              <a:gd name="adj2" fmla="val 62456"/>
            </a:avLst>
          </a:pr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152280" y="6089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g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1295280" y="6089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ar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7"/>
          <p:cNvSpPr/>
          <p:nvPr/>
        </p:nvSpPr>
        <p:spPr>
          <a:xfrm>
            <a:off x="2590920" y="6089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u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8"/>
          <p:cNvSpPr/>
          <p:nvPr/>
        </p:nvSpPr>
        <p:spPr>
          <a:xfrm>
            <a:off x="4038480" y="6089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d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9" descr="chrysalis500"/>
          <p:cNvPicPr/>
          <p:nvPr/>
        </p:nvPicPr>
        <p:blipFill>
          <a:blip r:embed="rId7"/>
          <a:stretch/>
        </p:blipFill>
        <p:spPr>
          <a:xfrm>
            <a:off x="2468520" y="4794120"/>
            <a:ext cx="960480" cy="10670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20"/>
          <p:cNvSpPr/>
          <p:nvPr/>
        </p:nvSpPr>
        <p:spPr>
          <a:xfrm>
            <a:off x="1905120" y="5335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MICAL SIGNALS IN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4" descr=""/>
          <p:cNvPicPr/>
          <p:nvPr/>
        </p:nvPicPr>
        <p:blipFill>
          <a:blip r:embed="rId8"/>
          <a:srcRect l="18585" t="8074" r="4048" b="0"/>
          <a:stretch/>
        </p:blipFill>
        <p:spPr>
          <a:xfrm>
            <a:off x="22320" y="42840"/>
            <a:ext cx="1279440" cy="14050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8545A-4315-47A3-B4DD-8A20B8FEDD0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52280" y="151920"/>
            <a:ext cx="87631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II- Adrenal cortex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acts to str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of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corticosteroi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a family of steroid hormones) is regulated by the nervous system in response to stress for 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ff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Glucocortico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aises blood glucose lev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ACTH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Adrenocorticotropic hormo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bnormally high doses are administered as medication to suppress the inflammation respon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0000"/>
              </a:buClr>
              <a:buFont typeface="Arial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Mineralocorticoi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ample: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aldostero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which affects salt and water balan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motes re-absorption of </a:t>
            </a:r>
            <a:r>
              <a:rPr b="1" lang="en-US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Na</a:t>
            </a:r>
            <a:r>
              <a:rPr b="1" lang="en-US" sz="1800" spc="-1" strike="noStrike" baseline="30000">
                <a:solidFill>
                  <a:srgbClr val="00b050"/>
                </a:solidFill>
                <a:latin typeface="Arial"/>
                <a:ea typeface="Times New Roman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nd excretion of </a:t>
            </a:r>
            <a:r>
              <a:rPr b="1" lang="en-US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K</a:t>
            </a:r>
            <a:r>
              <a:rPr b="1" lang="en-US" sz="1800" spc="-1" strike="noStrike" baseline="30000">
                <a:solidFill>
                  <a:srgbClr val="00b050"/>
                </a:solidFill>
                <a:latin typeface="Arial"/>
                <a:ea typeface="Times New Roman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in kidney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ir secretion regulated by </a:t>
            </a:r>
            <a:r>
              <a:rPr b="1" lang="en-US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K</a:t>
            </a:r>
            <a:r>
              <a:rPr b="1" lang="en-US" sz="1800" spc="-1" strike="noStrike" baseline="30000">
                <a:solidFill>
                  <a:srgbClr val="00b050"/>
                </a:solidFill>
                <a:latin typeface="Arial"/>
                <a:ea typeface="Times New Roman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in bl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1295280" y="4648320"/>
            <a:ext cx="6782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152280" y="5156280"/>
            <a:ext cx="8382240" cy="14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C)  Sex hormo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ndrogens are secreted by the adrenal cortex may account for the female sex driv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he adrenal cortex also secretes small amounts of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estrogen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progesteron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76320" y="1523520"/>
            <a:ext cx="8991360" cy="498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376920">
              <a:spcBef>
                <a:spcPts val="499"/>
              </a:spcBef>
              <a:buClr>
                <a:srgbClr val="ff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Test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hormo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30168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Testostero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: stero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16956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s sperm for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16956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mote development and maintenance of male sex characteristic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16956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FSH and L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3360" indent="-376920">
              <a:spcBef>
                <a:spcPts val="499"/>
              </a:spcBef>
              <a:buClr>
                <a:srgbClr val="ff0000"/>
              </a:buClr>
              <a:buFont typeface="Arial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Ovari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hormo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301680">
              <a:spcBef>
                <a:spcPts val="499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Estroge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stero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16956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 uterine lining grow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16956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mote development and maintenance of female sex characteristic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16956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FSH and L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301680">
              <a:spcBef>
                <a:spcPts val="499"/>
              </a:spcBef>
              <a:buClr>
                <a:srgbClr val="0000ff"/>
              </a:buClr>
              <a:buFont typeface="Arial"/>
              <a:buAutoNum type="arabi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Progestero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stero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16956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motes uterine lining grow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16956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FSH and L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1295280" y="76320"/>
            <a:ext cx="6477120" cy="97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7.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Tests &amp; 8. ovaries: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onadal steroids regulate growth, development, reproductive cycles, and sexual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8155F-ADBB-4576-BC68-8FE04F3C3B5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5410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9- Thymus gland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228600" y="1523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es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ymos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 peptide.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stimulates T lymphocy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1295280" y="4648320"/>
            <a:ext cx="6782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990720" y="3429000"/>
            <a:ext cx="7238880" cy="9471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otein hormones affect target cells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via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receptors on the membrane protei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990720" y="4616280"/>
            <a:ext cx="7315200" cy="13737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eroid hormones enter the target cells and trigger protein synthesis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via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receptors in the nucle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1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13879-35B1-48FC-9E2E-12DA6988A92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rcRect l="0" t="0" r="0" b="3163"/>
          <a:stretch/>
        </p:blipFill>
        <p:spPr>
          <a:xfrm>
            <a:off x="152280" y="76320"/>
            <a:ext cx="8763120" cy="61722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3"/>
          <p:cNvSpPr/>
          <p:nvPr/>
        </p:nvSpPr>
        <p:spPr>
          <a:xfrm>
            <a:off x="76320" y="64771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ge 96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7FCF8-D101-4F46-9F22-C409C53DAD8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rcRect l="0" t="0" r="0" b="3877"/>
          <a:stretch/>
        </p:blipFill>
        <p:spPr>
          <a:xfrm>
            <a:off x="228600" y="76320"/>
            <a:ext cx="8686800" cy="609588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"/>
          <p:cNvSpPr/>
          <p:nvPr/>
        </p:nvSpPr>
        <p:spPr>
          <a:xfrm>
            <a:off x="0" y="6537240"/>
            <a:ext cx="2209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Table 45.1 (continued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D2D45-EB3A-4A25-AA81-15B9232B4E8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"/>
          <p:cNvPicPr/>
          <p:nvPr/>
        </p:nvPicPr>
        <p:blipFill>
          <a:blip r:embed="rId1"/>
          <a:srcRect l="0" t="0" r="0" b="3124"/>
          <a:stretch/>
        </p:blipFill>
        <p:spPr>
          <a:xfrm>
            <a:off x="5181480" y="1157400"/>
            <a:ext cx="3826080" cy="54100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8"/>
          <p:cNvSpPr/>
          <p:nvPr/>
        </p:nvSpPr>
        <p:spPr>
          <a:xfrm>
            <a:off x="5638680" y="230040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Thyroid releasing H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7264440" y="414504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Thyroid stimulating H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14"/>
          <p:cNvGrpSpPr/>
          <p:nvPr/>
        </p:nvGrpSpPr>
        <p:grpSpPr>
          <a:xfrm>
            <a:off x="6832080" y="6516360"/>
            <a:ext cx="686160" cy="152640"/>
            <a:chOff x="6832080" y="6516360"/>
            <a:chExt cx="686160" cy="152640"/>
          </a:xfrm>
        </p:grpSpPr>
        <p:sp>
          <p:nvSpPr>
            <p:cNvPr id="66" name="Line 11"/>
            <p:cNvSpPr/>
            <p:nvPr/>
          </p:nvSpPr>
          <p:spPr>
            <a:xfrm>
              <a:off x="7518240" y="6516720"/>
              <a:ext cx="0" cy="152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12"/>
            <p:cNvSpPr/>
            <p:nvPr/>
          </p:nvSpPr>
          <p:spPr>
            <a:xfrm flipH="1">
              <a:off x="6832080" y="6669000"/>
              <a:ext cx="6858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13"/>
            <p:cNvSpPr/>
            <p:nvPr/>
          </p:nvSpPr>
          <p:spPr>
            <a:xfrm flipV="1">
              <a:off x="6832440" y="6516360"/>
              <a:ext cx="0" cy="152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-360" y="1294920"/>
            <a:ext cx="5257800" cy="514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37692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thyroid gla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of mammals consists of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two lob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located on the ventral surface of the trachea.  It contains 4 small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Parathyroid glan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It plays role in maintaining normal blood pressure, heart rate and digestion ..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3360" indent="-37692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yroid glands secretes 3 hormo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35964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AutoNum type="roman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Tri-iodothyronine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[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, 3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tom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]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amino acid derivative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35964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Arial"/>
              <a:buAutoNum type="roman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Thyroxine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[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, 4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tom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]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amino acid derivat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3596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and maintain metabolic proce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3596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TS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hormon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533160" y="-60480"/>
            <a:ext cx="8305560" cy="109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3. Thyroid gland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ts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ormones help in development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bioenergetics, and homeostasi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ثبات البيئة الفسيولو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ﭽ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ـية الداخ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438D4-E296-4E39-86CD-7A09ACDF7D1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228240" y="1371600"/>
            <a:ext cx="8915400" cy="31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51"/>
              </a:spcBef>
              <a:buClr>
                <a:srgbClr val="ff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Hyperthyroidism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t is th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xcess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secretion of thyroid hormones cau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04920"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high body temperature, sweating, weight loss, Irritability, high blood pressu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ff0000"/>
              </a:buClr>
              <a:buFont typeface="Arial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Hypothyroidism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t is an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insuffici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قلي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mount of thyroid hormones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because deficiency of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in human diet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causes </a:t>
            </a:r>
            <a:r>
              <a:rPr b="1" lang="en-US" sz="2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Goiter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04920">
              <a:spcBef>
                <a:spcPts val="400"/>
              </a:spcBef>
              <a:buClr>
                <a:srgbClr val="0000ff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fants: cretinism.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دمام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04920">
              <a:spcBef>
                <a:spcPts val="400"/>
              </a:spcBef>
              <a:buClr>
                <a:srgbClr val="0000ff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dults: weight gain, lethargy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الخمول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, cold  intoleran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04920">
              <a:spcBef>
                <a:spcPts val="400"/>
              </a:spcBef>
              <a:buClr>
                <a:srgbClr val="0000ff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Goiter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تضخم الغدة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: often is associated with iodine                                                       deficiency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نقص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228600" y="152280"/>
            <a:ext cx="8610480" cy="11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2880" indent="-812880">
              <a:spcBef>
                <a:spcPts val="499"/>
              </a:spcBef>
              <a:buClr>
                <a:srgbClr val="0000ff"/>
              </a:buClr>
              <a:buFont typeface="Arial"/>
              <a:buAutoNum type="romanUcPeriod" startAt="3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Calcitonin: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peptide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36360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owers bloo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Ca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2+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ve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36360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ts secretion regulated by calcium in bl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"/>
          <p:cNvPicPr/>
          <p:nvPr/>
        </p:nvPicPr>
        <p:blipFill>
          <a:blip r:embed="rId1"/>
          <a:srcRect l="0" t="10003" r="0" b="0"/>
          <a:stretch/>
        </p:blipFill>
        <p:spPr>
          <a:xfrm>
            <a:off x="6553080" y="3657600"/>
            <a:ext cx="2514600" cy="3048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"/>
          <p:cNvPicPr/>
          <p:nvPr/>
        </p:nvPicPr>
        <p:blipFill>
          <a:blip r:embed="rId2"/>
          <a:stretch/>
        </p:blipFill>
        <p:spPr>
          <a:xfrm>
            <a:off x="2971800" y="4311720"/>
            <a:ext cx="3352680" cy="23526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7D4B2-BBAE-4F33-A83D-B42A7065BE6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152280" y="990360"/>
            <a:ext cx="8686800" cy="588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PTH is secreted by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four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parathyroid glan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which are embedded in the surface of the thyroid gland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It functions a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aises bloo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Ca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2+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ve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calcium in the bl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auses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osteoclas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فقد الكالسيو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 break down bone, releasing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Ca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into the bl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the kidneys to reabsorb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تعيد إمتصا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Ca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kidneys to convert vitamin D to its active form, which stimulate intestine to absorb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Ca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PTH and calcitoni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re antagonistic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متضادي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ormones. Thu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TH and calcitonin regulate blood calcium level (important role in homeostasi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Hypoparathyoidis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(tetany)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t is 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lack of PTH which cau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Ca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2+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vels in the blood dro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vulsive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تشنج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tractions of the                                                skeletal musc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1447560" y="139680"/>
            <a:ext cx="655308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4- Parathyroid gland: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br>
              <a:rPr sz="32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es Parathyroid hormone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(PTH)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t i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a peptide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imagesCA84CF1U"/>
          <p:cNvPicPr/>
          <p:nvPr/>
        </p:nvPicPr>
        <p:blipFill>
          <a:blip r:embed="rId1"/>
          <a:stretch/>
        </p:blipFill>
        <p:spPr>
          <a:xfrm>
            <a:off x="6248520" y="4821120"/>
            <a:ext cx="2819160" cy="1960560"/>
          </a:xfrm>
          <a:prstGeom prst="rect">
            <a:avLst/>
          </a:prstGeom>
          <a:ln w="0">
            <a:noFill/>
          </a:ln>
        </p:spPr>
      </p:pic>
      <p:sp>
        <p:nvSpPr>
          <p:cNvPr id="82" name="Line 7"/>
          <p:cNvSpPr/>
          <p:nvPr/>
        </p:nvSpPr>
        <p:spPr>
          <a:xfrm>
            <a:off x="4267080" y="5257800"/>
            <a:ext cx="1905120" cy="152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E3C14-A1E7-424A-81A1-0918DB3F7A9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rcRect l="0" t="0" r="0" b="3263"/>
          <a:stretch/>
        </p:blipFill>
        <p:spPr>
          <a:xfrm>
            <a:off x="762120" y="1219320"/>
            <a:ext cx="7848360" cy="56386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1981080" y="15228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ormonal control 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alcium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omeostasis in mammals bl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75960" y="1403280"/>
            <a:ext cx="8915400" cy="55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3840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The pancreas has both endocrine and exocrine fun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049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xocrine fun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 secretion of bicarbonate ions and digestive enzy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049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ndocrine fun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insuli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glucag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re secreted by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bet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alph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cells of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islets of Langerhan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جيوب لانجران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12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04920">
              <a:spcBef>
                <a:spcPts val="649"/>
              </a:spcBef>
              <a:buClr>
                <a:srgbClr val="0000ff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Insulin: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protein secreted by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beta cell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8080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owers blood glucose lev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26820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all body cells (except brain cells) to take up gluc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26820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lows glycogenolysi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يبطىء تحلل الجليكوجي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a source of glucos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26820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hibits gluconeogenesi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يوقف تكوين الجلوكو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8080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glucose in blood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gative feedbac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04920">
              <a:spcBef>
                <a:spcPts val="524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Arial"/>
                <a:ea typeface="Times New Roman"/>
              </a:rPr>
              <a:t>Hypoinsulinism: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diabetes mellitus </a:t>
            </a:r>
            <a:r>
              <a:rPr b="0" lang="ar-EG" sz="1700" spc="-1" strike="noStrike">
                <a:solidFill>
                  <a:srgbClr val="000000"/>
                </a:solidFill>
                <a:latin typeface="Arial"/>
                <a:cs typeface="Times New Roman"/>
              </a:rPr>
              <a:t>نقص الإنسولين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80800">
              <a:spcBef>
                <a:spcPts val="400"/>
              </a:spcBef>
              <a:buClr>
                <a:srgbClr val="339933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Hereditary factors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عامل وراثى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nd play a role in its develop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80800">
              <a:spcBef>
                <a:spcPts val="400"/>
              </a:spcBef>
              <a:buClr>
                <a:srgbClr val="339933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High blood sugar level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sugar is excreted in the uri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80800">
              <a:spcBef>
                <a:spcPts val="400"/>
              </a:spcBef>
              <a:buClr>
                <a:srgbClr val="339933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ymptoms: excessive urination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كثرة التبول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nd excessive thirst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العطش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1294920" y="-14400"/>
            <a:ext cx="708660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5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Pancrea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: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docrine tissues of the pancreas secrete insulin and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lucagon, antagonistic hormones that regulate blood gluc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7E613-57AE-4453-B8EC-38548A7588F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76320" y="522360"/>
            <a:ext cx="899136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499"/>
              </a:spcBef>
              <a:buClr>
                <a:srgbClr val="0000ff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Type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diabetes mellit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insulin-dependent diabet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utoimmune disor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sually appears in childhood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الطفول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reatment: insulin inje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ff"/>
              </a:buClr>
              <a:buFont typeface="Arial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Type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I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diabetes mellit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non-insulin-dependent diabet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sually due to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target cell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having a decreased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responsiven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to insuli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قلة الإستجابة للإنسولي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sually occurs after age 40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risk increases with 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ccounts for over 90% of diabetes ca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ff"/>
              </a:buClr>
              <a:buFont typeface="Arial"/>
              <a:buAutoNum type="arabi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Glucagon: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protein secreted by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alpha cel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aises blood glucose leve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380880">
              <a:spcBef>
                <a:spcPts val="451"/>
              </a:spcBef>
              <a:buClr>
                <a:srgbClr val="339933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glycogenolysi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تحلل الجليكوجي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 the liver and skeletal muscle to produce glucos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380880">
              <a:spcBef>
                <a:spcPts val="400"/>
              </a:spcBef>
              <a:buClr>
                <a:srgbClr val="339933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glucose in blood (negative feedback)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rcRect l="0" t="0" r="0" b="3465"/>
          <a:stretch/>
        </p:blipFill>
        <p:spPr>
          <a:xfrm>
            <a:off x="685800" y="1146240"/>
            <a:ext cx="7848720" cy="56354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97" name="Text Box 5"/>
          <p:cNvSpPr/>
          <p:nvPr/>
        </p:nvSpPr>
        <p:spPr>
          <a:xfrm>
            <a:off x="1981080" y="15228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ormonal control 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lucose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omeostasis in mammals bl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28600" y="1095120"/>
            <a:ext cx="86868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5880" indent="-2872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adrenal glands are located adjacent to the kidne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36360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adrenal corte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القشر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 the outer por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36360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adrenal medull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is the inner por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158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I- Adrenal medulla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المركز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36360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velopmentally and functionally related to the nervous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36360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t produces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following hormones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 response to st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363600">
              <a:spcBef>
                <a:spcPts val="451"/>
              </a:spcBef>
              <a:buClr>
                <a:srgbClr val="ff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Epinephr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renalin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هرمون القل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363600">
              <a:spcBef>
                <a:spcPts val="451"/>
              </a:spcBef>
              <a:buClr>
                <a:srgbClr val="ff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Norepinephr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oradrena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y are amino acid derivatives (synthesized from tyrosine) and function 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467000" indent="-60984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aises blood glucose level and blood fatty acid lev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67000" indent="-60984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creases heart rate and stroke volume and dilates bronchio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67000" indent="-60984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hunts blood away from skin, digestive organs, and kidneys, and increases blood flow to heart, brain, and skeletal musc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1066320" y="76320"/>
            <a:ext cx="807732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6.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The adrenal gland: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drenal medulla and adrenal cortex help the body manage st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6T20:26:14Z</dcterms:created>
  <dc:creator>User</dc:creator>
  <dc:description/>
  <dc:language>en-US</dc:language>
  <cp:lastModifiedBy>HP</cp:lastModifiedBy>
  <dcterms:modified xsi:type="dcterms:W3CDTF">2014-01-07T17:22:52Z</dcterms:modified>
  <cp:revision>8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DC814410-03CA-4A77-8208-58DDCF28CC37</vt:lpwstr>
  </property>
  <property fmtid="{D5CDD505-2E9C-101B-9397-08002B2CF9AE}" pid="3" name="ArticulatePath">
    <vt:lpwstr>Lecture 26</vt:lpwstr>
  </property>
</Properties>
</file>