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2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F1C2-D95E-4E5C-B6AC-18D9D263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131C-C0B4-44A9-A290-58903F47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2A2-48F4-494A-B07B-37E2BB52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40AB-DB8C-4AF7-9D5C-27604B6B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A801-103D-4512-BF81-199CF479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0855-0E31-48DA-8A34-E0219D2A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E2EA-BC45-4174-B7CB-E77DD9DA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6C8A-1E96-4E09-9C8C-3EC7D481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05FF-EA6D-4707-A7E2-B5CA2F7F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E211-2E89-455A-BB1C-429A1D29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FCB7-5DFA-4A14-8415-77C367EE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BCC5-4F97-4A17-93F4-5C0ABAC7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C21C-5F23-48FC-80B9-A9C379C4DE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88D7-18BC-4FF5-9B9A-B360939649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7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8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0"/>
          <p:cNvSpPr/>
          <p:nvPr/>
        </p:nvSpPr>
        <p:spPr>
          <a:xfrm>
            <a:off x="1905120" y="533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2B7E-867A-4CCB-9292-9B5F4C0857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763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I- Adrenal cortex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cts to 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ortico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a family of steroid hormones) is regulated by the nervous system in response to stress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Glucocortic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ACTH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normally high doses are administered as medication to suppress the inflammation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ineralocortico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aldoster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affects salt and water bal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-absorp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Na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excre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kidn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ir secretion regulated by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52280" y="5156280"/>
            <a:ext cx="838224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)  Sex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rogens are secreted by the adrenal cortex may account for the female sex dr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cortex also secretes small amounts of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320" y="1523520"/>
            <a:ext cx="8991360" cy="498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es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esto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s sperm 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va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fe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95280" y="76320"/>
            <a:ext cx="647712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7.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Tests &amp; 8. ovaries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adal steroids regulate growth, development, reproductive cycles, and sexu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EFC7-13CE-4ED1-A6E0-3A3E168D65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5410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- Thymus gland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286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e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ymos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peptide.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stimulates T lymphocy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990720" y="3429000"/>
            <a:ext cx="7238880" cy="947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 hormones affect target cell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on the membrane protei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90720" y="4616280"/>
            <a:ext cx="7315200" cy="1373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eroid hormones enter the target cells and trigger protein synthesi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in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848A-2885-4927-AEC6-BFC1C2AE37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3163"/>
          <a:stretch/>
        </p:blipFill>
        <p:spPr>
          <a:xfrm>
            <a:off x="152280" y="76320"/>
            <a:ext cx="8763120" cy="6172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76320" y="6477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9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FDB0-6ABB-45A8-A0D0-829B044D4D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0" t="0" r="0" b="3877"/>
          <a:stretch/>
        </p:blipFill>
        <p:spPr>
          <a:xfrm>
            <a:off x="228600" y="76320"/>
            <a:ext cx="868680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0" y="6537240"/>
            <a:ext cx="2209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able 45.1 (continue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E08C-1812-455E-8EE1-2D96023531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rcRect l="0" t="0" r="0" b="3124"/>
          <a:stretch/>
        </p:blipFill>
        <p:spPr>
          <a:xfrm>
            <a:off x="5181480" y="1157400"/>
            <a:ext cx="382608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638680" y="23004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releas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264440" y="41450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stimulat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832080" y="6516360"/>
            <a:ext cx="686160" cy="152640"/>
            <a:chOff x="6832080" y="6516360"/>
            <a:chExt cx="686160" cy="152640"/>
          </a:xfrm>
        </p:grpSpPr>
        <p:sp>
          <p:nvSpPr>
            <p:cNvPr id="66" name="Line 11"/>
            <p:cNvSpPr/>
            <p:nvPr/>
          </p:nvSpPr>
          <p:spPr>
            <a:xfrm>
              <a:off x="7518240" y="651672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 flipH="1">
              <a:off x="6832080" y="6669000"/>
              <a:ext cx="685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 flipV="1">
              <a:off x="6832440" y="651636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1294920"/>
            <a:ext cx="5257800" cy="51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hyroid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f mammals consists of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wo lob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ocated on the ventral surface of the trachea.  It contains 4 small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Parathyroid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It plays role in maintaining normal blood pressure, heart rate and digestion ..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yroid glands secretes 3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ri-iodothyronine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hyroxi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nd maintain metabolic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33160" y="-60480"/>
            <a:ext cx="8305560" cy="109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3. Thyroid gland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 help in development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bioenergetics, and homeostas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ثبات البيئة الفسيولو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ـية الداخ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005E-1ED6-4B47-8FD6-BA9AD73676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er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cretion of thyroid hormones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ody temperature, sweating, weight loss, Irritability, high blood press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o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suffic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قلي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ount of thyroid hormon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because deficiency of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in human diet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auses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Goiter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ants: cretinism.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دمام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ults: weight gain, lethargy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خم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cold  intoler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oiter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تضخم الغد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often is associated with iodine                                                       deficienc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" y="152280"/>
            <a:ext cx="861048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spcBef>
                <a:spcPts val="499"/>
              </a:spcBef>
              <a:buClr>
                <a:srgbClr val="0000ff"/>
              </a:buClr>
              <a:buFont typeface="Arial"/>
              <a:buAutoNum type="roman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alcitonin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s secretion regulated by calcium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rcRect l="0" t="10003" r="0" b="0"/>
          <a:stretch/>
        </p:blipFill>
        <p:spPr>
          <a:xfrm>
            <a:off x="6553080" y="3657600"/>
            <a:ext cx="251460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2971800" y="4311720"/>
            <a:ext cx="3352680" cy="2352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E4D3-54BC-4A22-877B-6EF560B72A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6868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PTH is secreted b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u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arathyroid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which are embedded in the surface of the thyroid glan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t functions a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calcium in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steoclas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فقد الكالسي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break down bone, releasing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to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e kidneys to reabsorb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عيد إمتص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kidneys to convert vitamin D to its active form, which stimulate intestine to absorb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TH and calciton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antagonis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متضاد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. Th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TH and calcitonin regulate blood calcium level (important role in homeosta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Hypoparathyoid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(tetany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ck of PTH which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 in the blood dr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vulsive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شنج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ctions of the                                                skeletal mus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447560" y="139680"/>
            <a:ext cx="65530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- Parathyroid gland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es Parathyroid hormo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(PTH)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 peptid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imagesCA84CF1U"/>
          <p:cNvPicPr/>
          <p:nvPr/>
        </p:nvPicPr>
        <p:blipFill>
          <a:blip r:embed="rId1"/>
          <a:stretch/>
        </p:blipFill>
        <p:spPr>
          <a:xfrm>
            <a:off x="6248520" y="4821120"/>
            <a:ext cx="2819160" cy="19605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4267080" y="5257800"/>
            <a:ext cx="190512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CA0C-A3D7-4FA7-A542-3C4E0C067E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3263"/>
          <a:stretch/>
        </p:blipFill>
        <p:spPr>
          <a:xfrm>
            <a:off x="762120" y="1219320"/>
            <a:ext cx="784836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ium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1403280"/>
            <a:ext cx="891540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840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pancreas has both endocrine and exocrin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secretion of bicarbonate ions and digestive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d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sul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lucag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ell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slets of Langerha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جيوب لانجران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64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nsuli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 cell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glucose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ll body cells (except brain cells) to take up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w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بطىء 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 source of gluco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s gluconeogen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وقف تكوين الجلوكو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e feedb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524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Hypoinsulinism: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iabetes mellitus </a:t>
            </a:r>
            <a:r>
              <a:rPr b="0" lang="ar-EG" sz="17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 الإنسولين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ereditary factor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عامل وراث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play a role in its develop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lood sugar level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ugar is excreted in the ur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mptoms: excessive uri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كثرة التب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excessive thirs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ط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294920" y="-14400"/>
            <a:ext cx="70866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Pancrea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docrine tissues of the pancreas secrete insulin a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lucagon, antagonistic hormones that regulate blood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D71C-DF82-473E-85BA-F423E4D5EB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320" y="522360"/>
            <a:ext cx="89913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immune dis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appears in childhoo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طفو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eatment: insulin inj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non-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due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rget cel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aving a decrease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sponsive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sul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قلة الإستجابة للإنسول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occurs after age 4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isk increases with 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ounts for over 90% of diabetes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Glucago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liver and skeletal muscle to produce gluco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00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negative feedback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0" t="0" r="0" b="3465"/>
          <a:stretch/>
        </p:blipFill>
        <p:spPr>
          <a:xfrm>
            <a:off x="685800" y="1146240"/>
            <a:ext cx="7848720" cy="5635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1095120"/>
            <a:ext cx="8686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2872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glands are located adjacent to the kidne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cort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ش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out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medu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inn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58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- Adrenal medull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ركز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ally and functionally related to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produc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llowing hormon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response to st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in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هرمون القل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Nor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radrena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y are amino acid derivatives (synthesized from tyrosine) and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 and blood fatty acid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heart rate and stroke volume and dilates bronchi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unts blood away from skin, digestive organs, and kidneys, and increases blood flow to heart, brain, and skeletal mus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7732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6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The adrenal gland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 medulla and adrenal cortex help the body manage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20:26:14Z</dcterms:created>
  <dc:creator>User</dc:creator>
  <dc:description/>
  <dc:language>en-US</dc:language>
  <cp:lastModifiedBy>HP</cp:lastModifiedBy>
  <dcterms:modified xsi:type="dcterms:W3CDTF">2014-01-07T17:22:52Z</dcterms:modified>
  <cp:revision>8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C814410-03CA-4A77-8208-58DDCF28CC37</vt:lpwstr>
  </property>
  <property fmtid="{D5CDD505-2E9C-101B-9397-08002B2CF9AE}" pid="3" name="ArticulatePath">
    <vt:lpwstr>Lecture 26</vt:lpwstr>
  </property>
</Properties>
</file>