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CA5-122C-4A14-A332-AD0745FF8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B92-EB0F-4B3E-959B-71CCA1F5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932-DE30-412A-A67B-555E7A4F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9F1-3FDC-4EF3-BE24-71BAAADB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E87-9E64-4368-8402-8B934678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5DF-CFB7-48D3-8867-A341DFFE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8FEE-D331-44DD-8256-932C76E4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618-4C8D-4CF4-BA47-7E62716D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5FC-C617-4982-BB31-80CE0065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C13-DFB2-4515-8748-38CD2F63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2E2-436B-4C8B-93BB-B40A8DD7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1FF-FBAC-42D3-B8DA-9CB96CC0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B7C4-2B5B-470D-987F-41ACCC3432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0760" y="428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752480" y="1522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VOUS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"/>
          <p:cNvPicPr/>
          <p:nvPr/>
        </p:nvPicPr>
        <p:blipFill>
          <a:blip r:embed="rId3"/>
          <a:srcRect l="0" t="0" r="0" b="3863"/>
          <a:stretch/>
        </p:blipFill>
        <p:spPr>
          <a:xfrm>
            <a:off x="3352680" y="2557440"/>
            <a:ext cx="5562720" cy="3462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PICT0001"/>
          <p:cNvPicPr/>
          <p:nvPr/>
        </p:nvPicPr>
        <p:blipFill>
          <a:blip r:embed="rId4"/>
          <a:stretch/>
        </p:blipFill>
        <p:spPr>
          <a:xfrm>
            <a:off x="228600" y="2209680"/>
            <a:ext cx="309888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685800" y="1635120"/>
            <a:ext cx="7696080" cy="550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Section B: Vertebrate Nervous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101520" y="1523880"/>
            <a:ext cx="8915400" cy="52578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ستطيل 10"/>
          <p:cNvSpPr/>
          <p:nvPr/>
        </p:nvSpPr>
        <p:spPr>
          <a:xfrm>
            <a:off x="3503880" y="62485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c00000"/>
                </a:solidFill>
                <a:latin typeface="Andalus"/>
                <a:ea typeface="Andalus"/>
              </a:rPr>
              <a:t>Dr. Hesham Shara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1328400"/>
            <a:ext cx="5562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action potential is repeatedly regenerated along the length of the ax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ction potential achieved at one region of the membrane is sufficient to depolarize a neighboring region above threshold. Thus triggering a new action potential.The refractory period assures that impulse conduction is unidirect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380880" y="222120"/>
            <a:ext cx="556272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rve impulses propag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قـَوٍ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mselves along an ax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152280" y="1143000"/>
            <a:ext cx="55627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6078600" y="76320"/>
            <a:ext cx="2989080" cy="46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8"/>
          <p:cNvSpPr/>
          <p:nvPr/>
        </p:nvSpPr>
        <p:spPr>
          <a:xfrm>
            <a:off x="76320" y="4118040"/>
            <a:ext cx="4647960" cy="24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ltatory conduc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وصيل القفاز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1547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myelinated neurons only, the unmyelinated regions of the               axon depolarize.Thus, the impulse moves faster than                                  in unmyelinated neu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2"/>
          <a:srcRect l="0" t="0" r="0" b="6206"/>
          <a:stretch/>
        </p:blipFill>
        <p:spPr>
          <a:xfrm>
            <a:off x="4114800" y="4809960"/>
            <a:ext cx="497196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Rectangle 7"/>
          <p:cNvSpPr/>
          <p:nvPr/>
        </p:nvSpPr>
        <p:spPr>
          <a:xfrm>
            <a:off x="81720" y="6504120"/>
            <a:ext cx="2242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10 &amp; 48.11, Page 103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4800600" y="3809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n 7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عنصر نائب للتذييل 10"/>
          <p:cNvSpPr/>
          <p:nvPr/>
        </p:nvSpPr>
        <p:spPr>
          <a:xfrm>
            <a:off x="2438280" y="6381720"/>
            <a:ext cx="1676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3"/>
          <p:cNvGrpSpPr/>
          <p:nvPr/>
        </p:nvGrpSpPr>
        <p:grpSpPr>
          <a:xfrm>
            <a:off x="2286000" y="0"/>
            <a:ext cx="6858000" cy="4842000"/>
            <a:chOff x="2286000" y="0"/>
            <a:chExt cx="6858000" cy="4842000"/>
          </a:xfrm>
        </p:grpSpPr>
        <p:pic>
          <p:nvPicPr>
            <p:cNvPr id="60" name="Picture 3" descr=""/>
            <p:cNvPicPr/>
            <p:nvPr/>
          </p:nvPicPr>
          <p:blipFill>
            <a:blip r:embed="rId1"/>
            <a:srcRect l="0" t="0" r="0" b="3592"/>
            <a:stretch/>
          </p:blipFill>
          <p:spPr>
            <a:xfrm>
              <a:off x="2286000" y="0"/>
              <a:ext cx="6858000" cy="484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8"/>
            <p:cNvSpPr/>
            <p:nvPr/>
          </p:nvSpPr>
          <p:spPr>
            <a:xfrm>
              <a:off x="2514600" y="2247840"/>
              <a:ext cx="762120" cy="3812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0"/>
            <p:cNvSpPr/>
            <p:nvPr/>
          </p:nvSpPr>
          <p:spPr>
            <a:xfrm>
              <a:off x="4267080" y="507960"/>
              <a:ext cx="68580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>
              <a:off x="5054760" y="507960"/>
              <a:ext cx="965160" cy="380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4"/>
          <p:cNvSpPr/>
          <p:nvPr/>
        </p:nvSpPr>
        <p:spPr>
          <a:xfrm>
            <a:off x="7486560" y="6553080"/>
            <a:ext cx="165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12, Page 103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147240"/>
            <a:ext cx="2209680" cy="590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ellula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5960" y="3200400"/>
            <a:ext cx="8001000" cy="352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lectrical Synap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potentials travels directly from the                         presynaptic to the postsynaptic cell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gap j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أماكن الإتصا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ess comm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emical Synap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common than electrical synap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synaptic chemically-gated channels exist for ions such a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synaptic clef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ng on which gates open the postsynaptic neuron can depolarize or hyperpolar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52280" y="99072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communication between ce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200400" y="4530600"/>
            <a:ext cx="26668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ad legend of figure 48.12, Page 103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7924680" y="54100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9188" y="3794"/>
                </a:moveTo>
                <a:lnTo>
                  <a:pt x="23201" y="10800"/>
                </a:lnTo>
                <a:lnTo>
                  <a:pt x="9188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 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عنصر نائب للتذييل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90676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same neurotransmitter can produce different effects on different types of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03480"/>
            <a:ext cx="8610480" cy="13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etylcho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itator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حف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skeletal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hibitor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ثب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ardiac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reted by the CNS, PNS, and at vertebrate neuromuscular j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152280" y="2828880"/>
            <a:ext cx="8686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Biogenic Ami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Epinephri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norepinephrin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have excitatory or inhibitory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ed by the CNS and P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reted by the adrenal gl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pulses.WMV" descr=""/>
          <p:cNvPicPr/>
          <p:nvPr/>
        </p:nvPicPr>
        <p:blipFill>
          <a:blip r:embed="rId1"/>
          <a:stretch/>
        </p:blipFill>
        <p:spPr>
          <a:xfrm>
            <a:off x="6400800" y="2971800"/>
            <a:ext cx="2590920" cy="1943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6" name="AutoShape 12"/>
          <p:cNvSpPr/>
          <p:nvPr/>
        </p:nvSpPr>
        <p:spPr>
          <a:xfrm flipH="1" rot="5400000">
            <a:off x="7124040" y="4609800"/>
            <a:ext cx="1143000" cy="213372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2133720"/>
              <a:gd name="textAreaBottom" fmla="*/ 21340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r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u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SIGNALS.WMV" descr=""/>
          <p:cNvPicPr/>
          <p:nvPr/>
        </p:nvPicPr>
        <p:blipFill>
          <a:blip r:embed="rId2"/>
          <a:stretch/>
        </p:blipFill>
        <p:spPr>
          <a:xfrm>
            <a:off x="228600" y="4991040"/>
            <a:ext cx="2286000" cy="1714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8" name="AutoShape 15"/>
          <p:cNvSpPr/>
          <p:nvPr/>
        </p:nvSpPr>
        <p:spPr>
          <a:xfrm flipH="1">
            <a:off x="2590200" y="5486400"/>
            <a:ext cx="2819160" cy="838080"/>
          </a:xfrm>
          <a:custGeom>
            <a:avLst/>
            <a:gdLst>
              <a:gd name="textAreaLeft" fmla="*/ -360 w 2819160"/>
              <a:gd name="textAreaRight" fmla="*/ 2819160 w 28191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Synaptic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عنصر نائب للتذييل 10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PICT0001"/>
          <p:cNvPicPr/>
          <p:nvPr/>
        </p:nvPicPr>
        <p:blipFill>
          <a:blip r:embed="rId1"/>
          <a:stretch/>
        </p:blipFill>
        <p:spPr>
          <a:xfrm>
            <a:off x="6485040" y="2971800"/>
            <a:ext cx="2582640" cy="3809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85320"/>
            <a:ext cx="876312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Vertebrate nervous systems have central and peripheral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29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ntral nervous system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(CN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rain and spinal c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5280" indent="-376920">
              <a:lnSpc>
                <a:spcPct val="80000"/>
              </a:lnSpc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th contain fluid-filled spaces which contain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erebrospinal flu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(CSF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65280" indent="-376920">
              <a:lnSpc>
                <a:spcPct val="8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entral canal of the spinal cord is continuous with the ventricles of the br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 mat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mposed of bundles of myelinated ax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ray mat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sists of unmyelinated ax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ipheral nervous system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(PNS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erything outside the C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152280" y="4122720"/>
            <a:ext cx="6629400" cy="24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ranial nerv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أعصاب الجمجم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ai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: that originate in the brain and innervate the head and upper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pinal nerv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أعصاب شوك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ai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: that originate in the spinal cord and innervate the entire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Gangl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ssociated with the cranial and spinal ner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عنصر نائب للتذييل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5960" y="60480"/>
            <a:ext cx="8839080" cy="3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division of PNS interact in maintaining homeost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680" y="6561000"/>
            <a:ext cx="165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17, Page 104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3"/>
          <p:cNvGrpSpPr/>
          <p:nvPr/>
        </p:nvGrpSpPr>
        <p:grpSpPr>
          <a:xfrm>
            <a:off x="1143000" y="380880"/>
            <a:ext cx="7848720" cy="6427800"/>
            <a:chOff x="1143000" y="380880"/>
            <a:chExt cx="7848720" cy="6427800"/>
          </a:xfrm>
        </p:grpSpPr>
        <p:pic>
          <p:nvPicPr>
            <p:cNvPr id="89" name="Picture 3" descr=""/>
            <p:cNvPicPr/>
            <p:nvPr/>
          </p:nvPicPr>
          <p:blipFill>
            <a:blip r:embed="rId1"/>
            <a:srcRect l="0" t="0" r="0" b="3244"/>
            <a:stretch/>
          </p:blipFill>
          <p:spPr>
            <a:xfrm>
              <a:off x="1371600" y="380880"/>
              <a:ext cx="7010280" cy="619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5"/>
            <p:cNvSpPr/>
            <p:nvPr/>
          </p:nvSpPr>
          <p:spPr>
            <a:xfrm>
              <a:off x="1143000" y="2250720"/>
              <a:ext cx="152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عصاب الحسية (الواردة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6"/>
            <p:cNvSpPr/>
            <p:nvPr/>
          </p:nvSpPr>
          <p:spPr>
            <a:xfrm>
              <a:off x="7391520" y="2250720"/>
              <a:ext cx="152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أعصاب المحركة (الصادرة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5410080" y="4949640"/>
              <a:ext cx="1067040" cy="13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0000ff"/>
                  </a:solidFill>
                  <a:latin typeface="Arial"/>
                </a:rPr>
                <a:t>الذات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ff"/>
                  </a:solidFill>
                  <a:latin typeface="Arial"/>
                </a:rPr>
                <a:t>(</a:t>
              </a:r>
              <a:r>
                <a:rPr b="1" lang="ar-EG" sz="2000" spc="-1" strike="noStrike">
                  <a:solidFill>
                    <a:srgbClr val="0000ff"/>
                  </a:solidFill>
                  <a:latin typeface="Arial"/>
                </a:rPr>
                <a:t>لا إرادى</a:t>
              </a:r>
              <a:r>
                <a:rPr b="1" lang="ar-EG" sz="20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8"/>
            <p:cNvSpPr/>
            <p:nvPr/>
          </p:nvSpPr>
          <p:spPr>
            <a:xfrm>
              <a:off x="8077320" y="59403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السمبثا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2666880" y="5984640"/>
              <a:ext cx="121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جار السمبثاو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0"/>
            <p:cNvSpPr/>
            <p:nvPr/>
          </p:nvSpPr>
          <p:spPr>
            <a:xfrm>
              <a:off x="6858000" y="472104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600" spc="-1" strike="noStrike">
                  <a:solidFill>
                    <a:srgbClr val="0000ff"/>
                  </a:solidFill>
                  <a:latin typeface="Arial"/>
                </a:rPr>
                <a:t>إرادي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11"/>
          <p:cNvSpPr/>
          <p:nvPr/>
        </p:nvSpPr>
        <p:spPr>
          <a:xfrm>
            <a:off x="228600" y="7621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ad, Page 1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733920" y="64771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Uses acetylech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095880" y="64785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Uses norepineph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عنصر نائب للتذييل 15"/>
          <p:cNvSpPr/>
          <p:nvPr/>
        </p:nvSpPr>
        <p:spPr>
          <a:xfrm>
            <a:off x="1219320" y="6620040"/>
            <a:ext cx="2895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2895840" cy="26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oser look at the (often antagonistic) divisions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nomic nervous system (A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680" y="6561000"/>
            <a:ext cx="165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18, Page 104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2895480" y="666720"/>
            <a:ext cx="6096240" cy="6039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7238880" y="3808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السمبثاو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819520" y="3808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ff"/>
                </a:solidFill>
                <a:latin typeface="Arial"/>
              </a:rPr>
              <a:t>جار السمبثاو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عنصر نائب للتذييل 7"/>
          <p:cNvSpPr/>
          <p:nvPr/>
        </p:nvSpPr>
        <p:spPr>
          <a:xfrm>
            <a:off x="0" y="59436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81000" y="6491160"/>
            <a:ext cx="165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20, Page 104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3863"/>
          <a:stretch/>
        </p:blipFill>
        <p:spPr>
          <a:xfrm>
            <a:off x="571680" y="1111320"/>
            <a:ext cx="8001000" cy="4979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495680" y="5378400"/>
            <a:ext cx="990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نخاع المستطي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523880" y="37018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غدة النخامي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3809880" y="5987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مخي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6629400" y="58356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ff"/>
                </a:solidFill>
                <a:latin typeface="Arial"/>
              </a:rPr>
              <a:t>الحبل الشوك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533520" y="1522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Structure of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228600" y="1447920"/>
            <a:ext cx="457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133720" y="4419720"/>
            <a:ext cx="457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1828800" y="5334120"/>
            <a:ext cx="4572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609480" y="1828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المخ الأمام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99072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المخ الأوس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2362320" y="5791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ff0000"/>
                </a:solidFill>
                <a:uFillTx/>
                <a:latin typeface="Arial"/>
              </a:rPr>
              <a:t>المخ الخلف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عنصر نائب للتذييل 15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20:22:30Z</dcterms:created>
  <dc:creator>User</dc:creator>
  <dc:description/>
  <dc:language>en-US</dc:language>
  <cp:lastModifiedBy>COMPAQ</cp:lastModifiedBy>
  <dcterms:modified xsi:type="dcterms:W3CDTF">2009-02-27T19:25:41Z</dcterms:modified>
  <cp:revision>74</cp:revision>
  <dc:subject/>
  <dc:title>Slide 1</dc:title>
</cp:coreProperties>
</file>