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A00-EF63-444B-8254-F116A45F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90D-4C40-4388-8EC7-882A6FF5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884-F433-491C-BDBA-8B41FD31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717-7250-4489-90BB-45D91D3C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C51-237A-4618-AC01-BE14D9C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66D-79B2-4F25-A52D-0F11A485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858-687A-45AA-BDFE-04F89AC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C0D-6AFF-40A2-AB3C-120A5F55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36D-757F-4B57-ACAC-8F992D4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691-F48F-410B-B415-DAF443F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3AB-C9B8-4836-A061-317A325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F88-47F4-4A7E-819B-2340D6D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2D0-B937-439A-9406-AD90D968F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7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7524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3352680" y="2557440"/>
            <a:ext cx="5562720" cy="346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PICT0001"/>
          <p:cNvPicPr/>
          <p:nvPr/>
        </p:nvPicPr>
        <p:blipFill>
          <a:blip r:embed="rId4"/>
          <a:stretch/>
        </p:blipFill>
        <p:spPr>
          <a:xfrm>
            <a:off x="228600" y="2209680"/>
            <a:ext cx="309888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685800" y="1635120"/>
            <a:ext cx="769608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Section B: Vertebrate Nervou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1520" y="1523880"/>
            <a:ext cx="8915400" cy="525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0"/>
          <p:cNvSpPr/>
          <p:nvPr/>
        </p:nvSpPr>
        <p:spPr>
          <a:xfrm>
            <a:off x="3503880" y="62485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00000"/>
                </a:solidFill>
                <a:latin typeface="Andalus"/>
                <a:ea typeface="Andalus"/>
              </a:rPr>
              <a:t>Dr. Hesham Sha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328400"/>
            <a:ext cx="5562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action potential is repeatedly regenerated along the length of the ax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tion potential achieved at one region of the membrane is sufficient to depolarize a neighboring region above threshold. Thus triggering a new action potential.The refractory period assures that impulse conduction is unidirec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222120"/>
            <a:ext cx="55627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rve impulses propag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قـَوٍ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mselves along an a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52280" y="1143000"/>
            <a:ext cx="55627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6078600" y="76320"/>
            <a:ext cx="298908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8"/>
          <p:cNvSpPr/>
          <p:nvPr/>
        </p:nvSpPr>
        <p:spPr>
          <a:xfrm>
            <a:off x="76320" y="4118040"/>
            <a:ext cx="464796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ltatory conduc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وصيل القفا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myelinated neurons only, the unmyelinated regions of the               axon depolarize.Thus, the impulse moves faster than                                  in unmyelinated neu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rcRect l="0" t="0" r="0" b="6206"/>
          <a:stretch/>
        </p:blipFill>
        <p:spPr>
          <a:xfrm>
            <a:off x="4114800" y="4809960"/>
            <a:ext cx="497196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7"/>
          <p:cNvSpPr/>
          <p:nvPr/>
        </p:nvSpPr>
        <p:spPr>
          <a:xfrm>
            <a:off x="81720" y="6504120"/>
            <a:ext cx="224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0 &amp; 48.11, Page 10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800600" y="3809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 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عنصر نائب للتذييل 10"/>
          <p:cNvSpPr/>
          <p:nvPr/>
        </p:nvSpPr>
        <p:spPr>
          <a:xfrm>
            <a:off x="2438280" y="6381720"/>
            <a:ext cx="1676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3"/>
          <p:cNvGrpSpPr/>
          <p:nvPr/>
        </p:nvGrpSpPr>
        <p:grpSpPr>
          <a:xfrm>
            <a:off x="2286000" y="0"/>
            <a:ext cx="6858000" cy="4842000"/>
            <a:chOff x="2286000" y="0"/>
            <a:chExt cx="6858000" cy="484200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rcRect l="0" t="0" r="0" b="3592"/>
            <a:stretch/>
          </p:blipFill>
          <p:spPr>
            <a:xfrm>
              <a:off x="2286000" y="0"/>
              <a:ext cx="6858000" cy="48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8"/>
            <p:cNvSpPr/>
            <p:nvPr/>
          </p:nvSpPr>
          <p:spPr>
            <a:xfrm>
              <a:off x="2514600" y="2247840"/>
              <a:ext cx="762120" cy="38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267080" y="507960"/>
              <a:ext cx="685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5054760" y="507960"/>
              <a:ext cx="96516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4"/>
          <p:cNvSpPr/>
          <p:nvPr/>
        </p:nvSpPr>
        <p:spPr>
          <a:xfrm>
            <a:off x="7486560" y="655308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2, Page 10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147240"/>
            <a:ext cx="2209680" cy="590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3200400"/>
            <a:ext cx="8001000" cy="352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lectrical Synap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potentials travels directly from the                         presynaptic to the postsynaptic ce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gap j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ماكن الإتصا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ss com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emical Synap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mon than electrical syn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 chemically-gated channels exist for ions such 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ynaptic clef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which gates open the postsynaptic neuron can depolarize or hyperpolar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52280" y="9907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communication between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200400" y="4530600"/>
            <a:ext cx="2666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d legend of figure 48.12, Page 10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7924680" y="54100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same neurotransmitter can produce different effects on different types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03480"/>
            <a:ext cx="8610480" cy="13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etylcho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ator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حف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keletal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or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ث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ardiac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ed by the CNS, PNS, and at vertebrate neuromuscular 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52280" y="282888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Biogenic Am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pinephr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orepinephr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have excitatory or inhibitory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d by the CNS and P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d by the adrenal g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pulses.WMV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590920" cy="194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AutoShape 12"/>
          <p:cNvSpPr/>
          <p:nvPr/>
        </p:nvSpPr>
        <p:spPr>
          <a:xfrm flipH="1" rot="5400000">
            <a:off x="7124040" y="4609800"/>
            <a:ext cx="1143000" cy="213372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IGNALS.WMV" descr=""/>
          <p:cNvPicPr/>
          <p:nvPr/>
        </p:nvPicPr>
        <p:blipFill>
          <a:blip r:embed="rId2"/>
          <a:stretch/>
        </p:blipFill>
        <p:spPr>
          <a:xfrm>
            <a:off x="228600" y="4991040"/>
            <a:ext cx="2286000" cy="1714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8" name="AutoShape 15"/>
          <p:cNvSpPr/>
          <p:nvPr/>
        </p:nvSpPr>
        <p:spPr>
          <a:xfrm flipH="1">
            <a:off x="2590200" y="5486400"/>
            <a:ext cx="2819160" cy="838080"/>
          </a:xfrm>
          <a:custGeom>
            <a:avLst/>
            <a:gdLst>
              <a:gd name="textAreaLeft" fmla="*/ -360 w 2819160"/>
              <a:gd name="textAreaRight" fmla="*/ 2819160 w 28191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ynaptic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لتذييل 10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ICT0001"/>
          <p:cNvPicPr/>
          <p:nvPr/>
        </p:nvPicPr>
        <p:blipFill>
          <a:blip r:embed="rId1"/>
          <a:stretch/>
        </p:blipFill>
        <p:spPr>
          <a:xfrm>
            <a:off x="6485040" y="2971800"/>
            <a:ext cx="2582640" cy="380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85320"/>
            <a:ext cx="87631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rtebrate nervous systems have central and peripher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29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ntral nervous system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C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rain and spinal 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h contain fluid-filled spaces which contain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erebrospinal flu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CS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entral canal of the spinal cord is continuous with the ventricles of the b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 mat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mposed of bundles of myelinated ax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ray mat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sists of unmyelinated ax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ipheral nervous syste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PNS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ything outside the C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52280" y="4122720"/>
            <a:ext cx="66294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ranial nerv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أعصاب الجمجم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a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: that originate in the brain and innervate the head and uppe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pinal nerv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أعصاب شوك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a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: that originate in the spinal cord and innervate the entire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angl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sociated with the cranial and spin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لتذييل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960" y="60480"/>
            <a:ext cx="883908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division of PNS interact in maintaining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0" y="656100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7, Page 10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3"/>
          <p:cNvGrpSpPr/>
          <p:nvPr/>
        </p:nvGrpSpPr>
        <p:grpSpPr>
          <a:xfrm>
            <a:off x="1143000" y="380880"/>
            <a:ext cx="7848720" cy="6427800"/>
            <a:chOff x="1143000" y="380880"/>
            <a:chExt cx="7848720" cy="6427800"/>
          </a:xfrm>
        </p:grpSpPr>
        <p:pic>
          <p:nvPicPr>
            <p:cNvPr id="89" name="Picture 3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1371600" y="380880"/>
              <a:ext cx="7010280" cy="619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5"/>
            <p:cNvSpPr/>
            <p:nvPr/>
          </p:nvSpPr>
          <p:spPr>
            <a:xfrm>
              <a:off x="1143000" y="22507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عصاب الحسية (الواردة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7391520" y="22507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عصاب المحركة (الصادرة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5410080" y="4949640"/>
              <a:ext cx="1067040" cy="13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الذات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لا إرادى</a:t>
              </a: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8077320" y="59403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سمبثا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2666880" y="598464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جار السمبثا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6858000" y="47210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إراد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1"/>
          <p:cNvSpPr/>
          <p:nvPr/>
        </p:nvSpPr>
        <p:spPr>
          <a:xfrm>
            <a:off x="2286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ad, Page 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733920" y="6477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s acetylech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095880" y="6478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s 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لتذييل 15"/>
          <p:cNvSpPr/>
          <p:nvPr/>
        </p:nvSpPr>
        <p:spPr>
          <a:xfrm>
            <a:off x="121932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2895840" cy="26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oser look at the (often antagonistic) division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ic nervous system (A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0" y="656100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8, Page 10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2895480" y="666720"/>
            <a:ext cx="6096240" cy="6039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238880" y="3808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سمبثا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819520" y="3808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جار السمبثا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7"/>
          <p:cNvSpPr/>
          <p:nvPr/>
        </p:nvSpPr>
        <p:spPr>
          <a:xfrm>
            <a:off x="0" y="59436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81000" y="649116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20, Page 104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571680" y="1111320"/>
            <a:ext cx="8001000" cy="497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495680" y="5378400"/>
            <a:ext cx="99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نخاع المستطي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23880" y="3701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غدة النخا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809880" y="5987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مخي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629400" y="5835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حبل الشو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33520" y="152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Structure of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28600" y="14479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133720" y="44197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828800" y="53341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0948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المخ الأمام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9907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المخ الأوس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2362320" y="5791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المخ الخلف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عنصر نائب للتذييل 15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20:22:30Z</dcterms:created>
  <dc:creator>User</dc:creator>
  <dc:description/>
  <dc:language>en-US</dc:language>
  <cp:lastModifiedBy>COMPAQ</cp:lastModifiedBy>
  <dcterms:modified xsi:type="dcterms:W3CDTF">2009-02-27T19:25:41Z</dcterms:modified>
  <cp:revision>74</cp:revision>
  <dc:subject/>
  <dc:title>Slide 1</dc:title>
</cp:coreProperties>
</file>