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C789-297D-4677-BC73-CB4301B2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F61C-3F9C-4450-BB2A-D4B47FD3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3B91-4043-41AD-AAE4-C49C3866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EE9A-CED3-48B1-80CB-CB055E43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F803-61F8-4B27-88E1-04FD3ABE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B34E-0199-4CAB-BC93-EDB888AB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D9F3-9FE4-4082-AEAC-6BD64FE5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8047-59B4-4C5B-BB30-E24BEE4A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995A-B4EE-4A2F-8A8E-321ADB3A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9DEA-631A-48D5-BCEE-DCFB8D5F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82A9-18A3-46B3-84DA-04AD7524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F6E4-1335-4E77-8122-D8A07918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9B59-F727-4C77-9CDF-D51AD065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26E5-7195-4B6C-AF12-8CB46292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D31C-F558-401B-8D4A-93861D02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BB30-24BB-44AC-967C-88A31BF8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068F-4440-4B26-94CB-F3B66831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76E3-03E6-48F8-BB2A-39049ACD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CCCB-8E7C-4292-B0A9-B48F36DC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95E0-CF83-484D-A440-66F66917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586D-2FE0-449C-8073-1A67D7F4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F62A-ABFD-4B9E-B7C8-E0B851E5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2C1A-D9A9-49E7-9EFA-36081F55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885F-660E-49A1-AD29-89F67293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E0BF-E2A8-4115-B655-A6047CABE9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286D-C4D3-489A-8E9B-B701421DB38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cer.edu.au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ccesseric.org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 Black"/>
              </a:rPr>
              <a:t>IDENTIFYING THE RESEARCH PROBLEM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4571640"/>
            <a:ext cx="6400800" cy="11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 Black"/>
              </a:rPr>
              <a:t>WHERE TO STAR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cyclopedia of educational research (Alkin, 1992)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appendix ‘Doing library research in education’ is brillia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andboo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ternational Handbooks of Educational Administration, Educational Leadership, Lifelong Learning etc quickly introduce you to the major players and research issues in your stud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hes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verseas – Dissertation abstracts, US computer dis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ritish Dissertation abstrac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ustralia – Cunningham library, ACER, 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Arial"/>
                <a:hlinkClick r:id="rId1"/>
              </a:rPr>
              <a:t>www.acer.edu.a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15156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atabas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RIC (Educational Resources Information Centre) 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Arial"/>
                <a:hlinkClick r:id="rId1"/>
              </a:rPr>
              <a:t>www.accesseric.org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. (world’s largest source of information – one million abstract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ustralian Education Index (AUSINET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rrent index to journals in education and resources in education: locate through ER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cial Science Citation Index: CDROM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nline Journals (anbar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8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ogle (search engin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 Black"/>
              </a:rPr>
              <a:t>INITIAL ORGANISING THE </a:t>
            </a:r>
            <a:r>
              <a:rPr b="0" lang="en-US" sz="3200" spc="-1" strike="noStrike">
                <a:solidFill>
                  <a:srgbClr val="ffcc66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66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66"/>
                </a:solidFill>
                <a:latin typeface="Arial Black"/>
              </a:rPr>
              <a:t>LITERATUR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int out your research problem and research purpose statement in font size 20pt &amp; bold &amp; adhere to a place near your computer where your regularly see.  Do not be a dilettante .  You need to get a reasonably solid grasp of your proposed topic relatively quickly in order to focus or flick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ad, categorise, f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truct a literature map (different from but a pre-requisite to a conceptual framework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A:\Creswell2002.jpg"/>
          <p:cNvPicPr/>
          <p:nvPr/>
        </p:nvPicPr>
        <p:blipFill>
          <a:blip r:embed="rId1"/>
          <a:stretch/>
        </p:blipFill>
        <p:spPr>
          <a:xfrm>
            <a:off x="1143000" y="838080"/>
            <a:ext cx="7867800" cy="5588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2483280" y="-2700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From Creswell (2002).</a:t>
            </a: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 Black"/>
              </a:rPr>
              <a:t>DEFINITION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search  problems are educational issues or concerns studied by research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education, a problem is a concern to educators that exists in educational settin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 Black"/>
              </a:rPr>
              <a:t>Ask yourself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o help locate your research problem for your thesis, ask yourself such questions as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hat was the issue/problem you want to study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hat is the concern being addressed “behind” this study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hy do you want to undertake this study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hy is this study important to the scholarly community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 Black"/>
              </a:rPr>
              <a:t>DEFINING TERM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b00b"/>
                </a:solidFill>
                <a:latin typeface="Arial"/>
              </a:rPr>
              <a:t>Research Problem: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Educational issue/problem in a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ud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b00b"/>
                </a:solidFill>
                <a:latin typeface="Arial"/>
              </a:rPr>
              <a:t>Research Topic: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Broad subject matter being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ddressed in a stud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b00b"/>
                </a:solidFill>
                <a:latin typeface="Arial"/>
              </a:rPr>
              <a:t>Purpose: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Major intent or object of stud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b00b"/>
                </a:solidFill>
                <a:latin typeface="Arial"/>
              </a:rPr>
              <a:t>Research Questions: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Questions to answer or address 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 a stud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2"/>
          <p:cNvSpPr/>
          <p:nvPr/>
        </p:nvSpPr>
        <p:spPr>
          <a:xfrm>
            <a:off x="1905120" y="990720"/>
            <a:ext cx="0" cy="4800600"/>
          </a:xfrm>
          <a:prstGeom prst="line">
            <a:avLst/>
          </a:prstGeom>
          <a:ln cap="sq" w="5724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371600" y="457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eneral</a:t>
            </a: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447920" y="5791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pecific</a:t>
            </a: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362320" y="1143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</a:t>
            </a: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232000" y="2209680"/>
            <a:ext cx="195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3962520" y="1371600"/>
            <a:ext cx="914400" cy="0"/>
          </a:xfrm>
          <a:prstGeom prst="line">
            <a:avLst/>
          </a:prstGeom>
          <a:ln cap="sq"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514600" y="21337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earch Problem</a:t>
            </a: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4038480" y="2514600"/>
            <a:ext cx="838440" cy="0"/>
          </a:xfrm>
          <a:prstGeom prst="line">
            <a:avLst/>
          </a:prstGeom>
          <a:ln cap="sq"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2590920" y="3581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earch Statement</a:t>
            </a: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4114800" y="3962520"/>
            <a:ext cx="762120" cy="0"/>
          </a:xfrm>
          <a:prstGeom prst="line">
            <a:avLst/>
          </a:prstGeom>
          <a:ln cap="sq"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2743200" y="49528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earch Questions</a:t>
            </a: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4191120" y="5334120"/>
            <a:ext cx="761760" cy="0"/>
          </a:xfrm>
          <a:prstGeom prst="line">
            <a:avLst/>
          </a:prstGeom>
          <a:ln cap="sq"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3200400" y="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 Black"/>
              </a:rPr>
              <a:t>OVERVIEW</a:t>
            </a:r>
            <a:endParaRPr b="0" lang="en-US" sz="3200" spc="-1" strike="noStrike">
              <a:solidFill>
                <a:srgbClr val="eaeaea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 Black"/>
              </a:rPr>
              <a:t>PROBLEM RESEARCHABILITY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b00b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eeb00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b00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b00b"/>
                </a:solidFill>
                <a:latin typeface="Arial"/>
              </a:rPr>
              <a:t>Will your research contribute to knowledge and </a:t>
            </a:r>
            <a:r>
              <a:rPr b="0" lang="en-US" sz="2000" spc="-1" strike="noStrike">
                <a:solidFill>
                  <a:srgbClr val="eeb00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b00b"/>
                </a:solidFill>
                <a:latin typeface="Arial"/>
              </a:rPr>
              <a:t>practice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t fills a void or extends existing research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t replicates a study with new participants or a new si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blem has not be studied or understudie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t gives “voice” to people not heard, silenced, or rejected in societ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t informs practic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b00b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eeb00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b00b"/>
                </a:solidFill>
                <a:latin typeface="Arial"/>
              </a:rPr>
              <a:t>Accessed to people &amp; sit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b00b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eeb00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b00b"/>
                </a:solidFill>
                <a:latin typeface="Arial"/>
              </a:rPr>
              <a:t>Time, Resources and skill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b00b"/>
                </a:solidFill>
                <a:latin typeface="Arial"/>
              </a:rPr>
              <a:t>Therap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b00b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eeb00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b00b"/>
                </a:solidFill>
                <a:latin typeface="Arial"/>
              </a:rPr>
              <a:t>To prove what your already know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 Black"/>
              </a:rPr>
              <a:t>DESIGNING &amp; WRITING THE STATEMENT OF THE PROBLEM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research problem within this stud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ustification for the problem (based on past research and practic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hortcoming of past research or practi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importance / significance of the problem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 Black"/>
              </a:rPr>
              <a:t>GETTING STARTED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rite down the purpose statement of your stud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mbedded in this purpose statement are key terms that will help you to start your literature revi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s part of the literature review searches for </a:t>
            </a:r>
            <a:r>
              <a:rPr b="0" lang="en-US" sz="2400" spc="-1" strike="noStrike">
                <a:solidFill>
                  <a:srgbClr val="eeb00b"/>
                </a:solidFill>
                <a:latin typeface="Arial"/>
              </a:rPr>
              <a:t>core literatur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and it should focus almost exclusively on empirical stud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ook for studies similar to your problem statement in Australi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ook for studies similar to your problem statement in other countri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 Black"/>
              </a:rPr>
              <a:t>LITERATURE PRIORITY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Oval 1028"/>
          <p:cNvSpPr/>
          <p:nvPr/>
        </p:nvSpPr>
        <p:spPr>
          <a:xfrm>
            <a:off x="2819520" y="1752480"/>
            <a:ext cx="4495680" cy="4267440"/>
          </a:xfrm>
          <a:prstGeom prst="ellipse">
            <a:avLst/>
          </a:prstGeom>
          <a:solidFill>
            <a:srgbClr val="eeb00b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20" name="Oval 1029"/>
          <p:cNvSpPr/>
          <p:nvPr/>
        </p:nvSpPr>
        <p:spPr>
          <a:xfrm>
            <a:off x="3505320" y="2514600"/>
            <a:ext cx="3124080" cy="2895480"/>
          </a:xfrm>
          <a:prstGeom prst="ellipse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21" name="Oval 1030"/>
          <p:cNvSpPr/>
          <p:nvPr/>
        </p:nvSpPr>
        <p:spPr>
          <a:xfrm>
            <a:off x="4267080" y="3200400"/>
            <a:ext cx="1524240" cy="1371600"/>
          </a:xfrm>
          <a:prstGeom prst="ellipse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22" name="Text Box 1031"/>
          <p:cNvSpPr/>
          <p:nvPr/>
        </p:nvSpPr>
        <p:spPr>
          <a:xfrm>
            <a:off x="4419720" y="3733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 Black"/>
              </a:rPr>
              <a:t>CORE</a:t>
            </a: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23" name="Text Box 1032"/>
          <p:cNvSpPr/>
          <p:nvPr/>
        </p:nvSpPr>
        <p:spPr>
          <a:xfrm>
            <a:off x="4419720" y="2743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24" name="Text Box 1033"/>
          <p:cNvSpPr/>
          <p:nvPr/>
        </p:nvSpPr>
        <p:spPr>
          <a:xfrm>
            <a:off x="4267080" y="2895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 Black"/>
              </a:rPr>
              <a:t>RELATIONAL</a:t>
            </a:r>
            <a:endParaRPr b="0" lang="en-US" sz="18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25" name="Text Box 1034"/>
          <p:cNvSpPr/>
          <p:nvPr/>
        </p:nvSpPr>
        <p:spPr>
          <a:xfrm>
            <a:off x="434340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 Black"/>
              </a:rPr>
              <a:t>PARENT</a:t>
            </a: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12:29Z</dcterms:created>
  <dc:creator>DM</dc:creator>
  <dc:description/>
  <dc:language>en-US</dc:language>
  <cp:lastModifiedBy>Elham Fayad</cp:lastModifiedBy>
  <dcterms:modified xsi:type="dcterms:W3CDTF">2014-11-06T05:01:21Z</dcterms:modified>
  <cp:revision>16</cp:revision>
  <dc:subject/>
  <dc:title>IDENTIFYING THE RESEARCH PROBLEM</dc:title>
</cp:coreProperties>
</file>