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EA4A-656E-4AC2-B656-482045E3DB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(WSN)  stands for wireless sensor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is technolog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ol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deploying a large #number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expensive/sm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sor nod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ver the area of inte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main function of sensor nodes is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tor, record, and notif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pecific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d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to the 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ed dat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er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to the BS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hop fash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ne node to an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roadcast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ensors are mainly equipped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ensing uni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the environmental para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icrocontroll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erfor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the loc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ireless communication un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a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llow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node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mmunic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with other nodes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Power Un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r a battery: tha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empow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ll componen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f the sensor n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pictures show some of the possible applications of WS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rliest applicati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f WSNs were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ilitary fie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for (surveillance and control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ater, they’re used fo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everal civili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abitat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Forest fire detection and air pol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Underground, seismological, and Volcano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ody sensor networks and Several medical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y can also be integrated into many smart systems such as “smart cities”: For structural health monitoring, traffic detection, and many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re are many challenges related to this class of networks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imited resources of sensor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etworking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ow to perform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ou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ultihop communic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imited bandwid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pology chan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 no. of se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- environmental challenges and application requir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s well as other networking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94F-696B-40FD-8C9B-198C8BEC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294-3D4F-47E6-8A11-DABCA5DB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B36-C6F5-4EDA-8C28-FA89D8B7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F96-970D-436E-BF4D-A12FBC31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5CBA-13CD-41D0-B19B-1260A767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FD3F-48E9-4CA7-AF5C-E7C09F08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5265-FFDA-41CB-BF8F-D74EB551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5030-52E2-4766-A988-5966779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10B4-54AD-4C17-9830-F18D94D8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7F21-6CC2-437C-86CA-2464CD7A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6F82-5AA1-4DEA-B36C-AF0666F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05A-E805-4DC3-B033-FA3B8297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8C3D-31CE-4820-B39A-A664A47E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251D-F974-484D-A71B-474F6831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CD62-1611-45E2-B5C2-60663C2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10E2-04F7-4C87-9CF6-2AB67985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0854-FBD4-4630-B01B-CA6B3F81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AA7C-2598-4EC2-B542-078DC7DA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FBE2D-EEBD-40B2-9CD6-A3497D14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7BE7-F7E1-4BC8-B1D7-9000B67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0250-285D-45F2-8858-E177EBB6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50D5-4B77-40F4-8EC1-BE5FF57F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0A3-3304-46E7-9896-252EC90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CA06-76DF-4B9E-8848-9C1ADAFD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47BB-CEAD-493F-950D-D174863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CB80-FA60-48C1-9CD3-3DBE565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F313-5A05-4267-A8C9-EB4B43A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01A1-F767-4443-B1BE-5EAFAD50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6C52-121F-4033-A0B8-D8DD814B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6474-692C-4C1C-8441-AA366764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6E92-E7C9-4F4F-AFE7-A22173A8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1E9B-2AD3-4764-B895-CDF96297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66E9A-334B-4C7F-AD98-00833B4C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8A6-1B0A-4852-93EC-2E458649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A491-67CE-4335-B3C7-B86DBB56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A59E2-8F8D-4FDE-A1AB-0D8DA75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0C7F-92BF-41DA-A93F-25A0D882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0E79-3210-4C91-84D2-AABACC3E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00F5-A74D-4620-AA48-B0E03A36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CFF2-D6B4-4BAC-87AF-83AE3D0C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35A5-39AB-4382-98D3-9B6819A4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F0C88-4CA8-4E5B-8760-0D0164D3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FE6C-88DD-47F0-A768-CE1420D2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5EDB8-26FE-4F1E-A046-33D0ACFF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020-677F-4FD2-BA70-0E034A1D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C4F8D-2905-4A7B-9B39-1497AEB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A79F-68AA-4A3C-922C-437ADB8B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8470-7239-422A-B97F-EE6065C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A416-19E7-427B-9037-4B4D5D14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E9A87-8184-4206-808E-1D77A1F1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38B9-C635-4755-9B79-268DF528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C4DC9-B306-4E0F-97D3-160A8139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951E0-655D-4D8D-96F6-B4F5FC4A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1B82B-4A59-4903-973E-3042457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8299-A162-424C-BA88-D2A90F33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7E3-6358-4F9A-9B87-DC4700CA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1220-B7C1-4D6F-89B3-B03DFC00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987A-67FC-4EDC-8BF9-3B2B760B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025DD-081A-499D-9B10-62EE1D31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59C12-66FD-4E5B-A470-465BA7CC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2118-671E-4F07-8350-F382BBD3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A027A-BE26-4414-B177-D3BC815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2D888-2076-4FDB-9F36-73D03E3D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8A074-73A2-4DF1-A33C-705CE8E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75B2A-E326-419E-BBB8-3A36F2AA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48D14-9661-4900-B5B7-994D3F8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F7C-7F51-40D5-B0BF-096E0F2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DB98F-BD93-409C-94EC-31586EE9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A6C62-4609-4D0D-98F8-3A89EAC1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21D01-28B4-4720-8C60-7DADDC2D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9DEA6-ACE1-4038-B0C0-299B6800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6E80B-4DDA-414C-A710-27242D7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571F4-AB4A-49B1-BACF-DE1ACAC3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0CBDC-493F-4C8C-B797-87BF62BB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37B56-5320-4A06-AA26-9C5AFA9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6ED3-58AE-4F80-9973-C64857E4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FD976-CB0D-4AAE-AB14-C3FA12F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232-7DF1-4058-89F0-7AC2F1C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37818-3794-4EB8-92AE-025C9F59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53933-BDC8-4D8E-B63E-978FD8A8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0B0B4-D47A-4C29-8348-8853BFD7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9120-9B35-4D10-9C83-8671652A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36C97-D322-4AE1-B139-3763203E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70E5C-30B7-46AE-9611-19989658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58556-565A-454F-820E-50BAB139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C6E25-3A93-40DB-8BC2-A0B99D1E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2787D-E7A7-4613-B5C1-D01A5B36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3A9D2-C813-41C8-ABFF-55733998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FD2-82EE-44CA-93AC-44A3726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3047D-5CA5-4F24-804C-8D4FDADA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4C5C7-E62E-49B8-AEAA-0C26B35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74D15-90EC-43D2-A790-9A4713E3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90636-FFAE-4631-8688-A960529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84233-1297-4D06-90A8-5A105656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7C952-3947-4401-A941-D38743B5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50139-5325-4E4E-B462-147BB620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9346-F4B7-4BDD-8AF5-9D95B98BC82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33B5-3BC9-4C3F-9462-A89F59D480B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F270-43A5-44ED-80B4-A0930937A20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FC2F-289A-4D58-A0C1-F59F5EDA897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361-8335-4314-A5F1-EE58CB2A89B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8CD0-986E-4BBA-BFD3-FAF6BD954D7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ABFB-9390-456F-A12E-19903753D45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8244-BAFA-434A-B54D-3B407A3F5F2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loud_computing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loud_computing_icon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nternet_of_Thing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nternet_of_Thing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2: Facts of network technologies development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Times New Roman"/>
              </a:rPr>
              <a:t>Networking Trend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Cloud Compu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219320"/>
            <a:ext cx="3962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Cloud computing is the delivery of computing as a service rather than a product, whereby shared resources, software, and information are provided to computers and other devices as a utility (like the electricity grid) over a network (typically the Internet). Clouds can be classified as public, private or hybri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2" descr="http://upload.wikimedia.org/wikipedia/commons/thumb/b/b5/Cloud_computing.svg/400px-Cloud_computing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828800"/>
            <a:ext cx="4294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Cloud Compu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Cloud computing relies on sharing of resources to achieve coherence and economies of scale, similar to a utility (like the electricity grid) over a networ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foundation of cloud computing is the broader concept of converged infrastructure and shared servic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Cloud computing, or in simpler shorthand just "the cloud", also focuses o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maximizing the effectiveness of the shared resourc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Cloud resources are usually not only shared by multiple users but are als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dynamically reallocat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per demand. This can work for allocating resources to us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2" descr="Cloud computing ico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08920" y="5486400"/>
            <a:ext cx="1577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The Internet of Thing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219320"/>
            <a:ext cx="4419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ternet of Things (IoT) refers to the interconnection of uniquely identifiable embedded computing-like devices within the existing Internet infrastruc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2" descr="http://upload.wikimedia.org/wikipedia/commons/thumb/a/ab/Internet_of_Things.jpg/350px-Internet_of_Thin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212920"/>
            <a:ext cx="41720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The Internet of thing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We have passed the threshold where more things are connected to the Internet than people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The transition to IPv6 also supports seemingly limitless connectivity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Cisco IBSG predicts the number of Internet-connected things will reach 50 billion by 2020, which equates to more than six devices for every person on Earth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Many of us in the developed world already have three or more full-time devices connected to the Internet when factoring in PCs, smartphones, tablets, television devices and the lik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The Internet of Thing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219320"/>
            <a:ext cx="5486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Things, in the IoT, can refer to a wide variety of devices such as heart monitoring implants, biochip transponders on farm animals, automobiles with built-in sensors, or field operation devices that assist fire-fighters in search and resc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Future IoT? IoT of sensor networks, using low-power sensors that "collect, transmit, analyze and distribute data on a massive scale," says Eva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3" name="Picture 2" descr="http://upload.wikimedia.org/wikipedia/commons/thumb/a/ab/Internet_of_Things.jpg/350px-Internet_of_Thin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42000" y="1447920"/>
            <a:ext cx="340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The Internet of Thing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Typically, IoT is expected to offer advanced connectivity of devices, systems, and services that goes beyond machine-to-machine communications (M2M) and covers a variety of protocols, domains, and appli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oT Applications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Environmental Monitoring, Infrastructure Management, Industrial Applications, Energy Management, Medical and Healthcare Systems, Building and Home Automation, Transport Systems, Large Scale Deploymen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oT Trend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Intelligence, Architecture, Complex syst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Wireless Sensor Networks (WSNs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93F6-0727-477B-A7CD-9BF345B45531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 sensor network is a wireless network that consists of thousands of very small nodes calle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enso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1295280" y="2286000"/>
            <a:ext cx="6407280" cy="3962520"/>
            <a:chOff x="1295280" y="2286000"/>
            <a:chExt cx="6407280" cy="3962520"/>
          </a:xfrm>
        </p:grpSpPr>
        <p:grpSp>
          <p:nvGrpSpPr>
            <p:cNvPr id="400" name="Group 4"/>
            <p:cNvGrpSpPr/>
            <p:nvPr/>
          </p:nvGrpSpPr>
          <p:grpSpPr>
            <a:xfrm>
              <a:off x="1295280" y="2286000"/>
              <a:ext cx="6407280" cy="3608640"/>
              <a:chOff x="1295280" y="2286000"/>
              <a:chExt cx="6407280" cy="3608640"/>
            </a:xfrm>
          </p:grpSpPr>
          <p:pic>
            <p:nvPicPr>
              <p:cNvPr id="401" name="Picture 5" descr="WSN1.png"/>
              <p:cNvPicPr/>
              <p:nvPr/>
            </p:nvPicPr>
            <p:blipFill>
              <a:blip r:embed="rId1"/>
              <a:srcRect l="28744" t="0" r="0" b="23173"/>
              <a:stretch/>
            </p:blipFill>
            <p:spPr>
              <a:xfrm>
                <a:off x="1791000" y="2286000"/>
                <a:ext cx="5911560" cy="314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Picture 6" descr="http://www.cisco.com/en/US/i/200001-300000/230001-240000/230001-231000/230559.jpg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786920"/>
                <a:ext cx="1510920" cy="11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Line 7"/>
              <p:cNvSpPr/>
              <p:nvPr/>
            </p:nvSpPr>
            <p:spPr>
              <a:xfrm flipH="1">
                <a:off x="2584800" y="4512240"/>
                <a:ext cx="396720" cy="45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AutoShape 8"/>
            <p:cNvSpPr/>
            <p:nvPr/>
          </p:nvSpPr>
          <p:spPr>
            <a:xfrm>
              <a:off x="1295280" y="5734440"/>
              <a:ext cx="1905120" cy="51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 st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12"/>
          <p:cNvSpPr/>
          <p:nvPr/>
        </p:nvSpPr>
        <p:spPr>
          <a:xfrm>
            <a:off x="803160" y="6292800"/>
            <a:ext cx="78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3366ff"/>
                </a:solidFill>
                <a:latin typeface="Arial"/>
                <a:ea typeface="Arial"/>
              </a:rPr>
              <a:t>Figure 1: Architecture of wireless sensor networks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Wireless Sensor Networks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SN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enso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are equipped with sensing, limited computation, and wireless communication capabili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D36A-33E8-4162-A615-E9296655E10F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nodeHW1.png"/>
          <p:cNvPicPr/>
          <p:nvPr/>
        </p:nvPicPr>
        <p:blipFill>
          <a:blip r:embed="rId1"/>
          <a:stretch/>
        </p:blipFill>
        <p:spPr>
          <a:xfrm>
            <a:off x="2286000" y="2819520"/>
            <a:ext cx="4303800" cy="2419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"/>
          <p:cNvSpPr/>
          <p:nvPr/>
        </p:nvSpPr>
        <p:spPr>
          <a:xfrm>
            <a:off x="685800" y="5410080"/>
            <a:ext cx="78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3366ff"/>
                </a:solidFill>
                <a:latin typeface="Arial"/>
                <a:ea typeface="Arial"/>
              </a:rPr>
              <a:t>Typical hardware components of a sensor node in wireless sensor networks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2"/>
          <a:stretch/>
        </p:blipFill>
        <p:spPr>
          <a:xfrm>
            <a:off x="7437600" y="2038320"/>
            <a:ext cx="17064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WSNs Applicatio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3C03-589A-4ED7-AE8D-B41CAB07F33A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272880" y="2181240"/>
            <a:ext cx="277524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5" name="Picture 16" descr=""/>
          <p:cNvPicPr/>
          <p:nvPr/>
        </p:nvPicPr>
        <p:blipFill>
          <a:blip r:embed="rId2"/>
          <a:stretch/>
        </p:blipFill>
        <p:spPr>
          <a:xfrm>
            <a:off x="6086520" y="2181240"/>
            <a:ext cx="277344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7" descr=""/>
          <p:cNvPicPr/>
          <p:nvPr/>
        </p:nvPicPr>
        <p:blipFill>
          <a:blip r:embed="rId3"/>
          <a:stretch/>
        </p:blipFill>
        <p:spPr>
          <a:xfrm>
            <a:off x="272880" y="4352760"/>
            <a:ext cx="277524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Picture 18" descr=""/>
          <p:cNvPicPr/>
          <p:nvPr/>
        </p:nvPicPr>
        <p:blipFill>
          <a:blip r:embed="rId4"/>
          <a:stretch/>
        </p:blipFill>
        <p:spPr>
          <a:xfrm>
            <a:off x="3214800" y="4359240"/>
            <a:ext cx="274932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Picture 8" descr=""/>
          <p:cNvPicPr/>
          <p:nvPr/>
        </p:nvPicPr>
        <p:blipFill>
          <a:blip r:embed="rId5"/>
          <a:srcRect l="0" t="0" r="0" b="8954"/>
          <a:stretch/>
        </p:blipFill>
        <p:spPr>
          <a:xfrm>
            <a:off x="6097680" y="4352760"/>
            <a:ext cx="274932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Picture 20" descr=""/>
          <p:cNvPicPr/>
          <p:nvPr/>
        </p:nvPicPr>
        <p:blipFill>
          <a:blip r:embed="rId6"/>
          <a:stretch/>
        </p:blipFill>
        <p:spPr>
          <a:xfrm>
            <a:off x="3214800" y="2208240"/>
            <a:ext cx="274932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21"/>
          <p:cNvSpPr/>
          <p:nvPr/>
        </p:nvSpPr>
        <p:spPr>
          <a:xfrm>
            <a:off x="803160" y="6467400"/>
            <a:ext cx="78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WSNs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WSNs Challeng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72964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Limited Sensor Resour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Battery power, computation capability, memory, etc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etworking Challen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Limited bandwidth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 routing, multi-hop communication, mobility,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opology contro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 large no. of sensors, frequent node on/off, etc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nvironment/Application-Driven Challen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Requirements, extreme conditions, interference, etc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ther Challen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Security, synchronization, localization, deployment.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23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AE3E-00A3-45CC-B28B-A87D85EBC7C0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6" descr=""/>
          <p:cNvPicPr/>
          <p:nvPr/>
        </p:nvPicPr>
        <p:blipFill>
          <a:blip r:embed="rId1"/>
          <a:stretch/>
        </p:blipFill>
        <p:spPr>
          <a:xfrm>
            <a:off x="7162920" y="1447920"/>
            <a:ext cx="17064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457200" y="12193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mputer network is a system of interconnected computers and peripheral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s is about the transfer of information from a sender, across a distance, to a rece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lder forms of communications technology, such as telephones and radios, use analog sign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communicate with digital sign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Top Networking Research Topic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457200" y="12193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Comp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-based comp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-of-things (I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-over-IP (Vo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-scale wireless networks (Sensors, RF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speed wir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Mobile Compu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bile computing is a generic term describing one's ability to use technology while mov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bile comput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involves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  <a:ea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Arial"/>
              </a:rPr>
              <a:t> mobile communication, mobile hardware, and mobile softwar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bile Hardwa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includes mobile devices or device componen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bi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deals with the characteristics and requirements of mobile applica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in mobile computing include ad hoc 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nfrastructure network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s well as communication properties, protocols, data formats and the existing technolog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Mobile Computing: </a:t>
            </a:r>
            <a:r>
              <a:rPr b="0" lang="en-US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Item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here are at least three different classes of mobile computing item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rtable compu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compacted lightweight units including a full character set keyboard and primarily intended as hosts for software that may be parameterized, as laptops, notebooks, notepad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bile pho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cluding a restricted key set primarily intended but not restricted to for vocal communications, as cell phones, smart phones, phonepad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earable compu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mostly limited to functional keys and primarily intended as incorporation of software agents, as watches, wristbands, necklaces, keyless implant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xistence of these classes is expected to be long lasting, and complementary in personal usage, none replacing one the other in all features of convenience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Mobile Computing: Devices and Limitatio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vic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types of mobile computers have been introduced since the 1990s including the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Personal digital assistant/enterprise digital assistant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Smartphone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Tablet computer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Ultra-Mobile PC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Wearable computer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mitation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Range &amp; Bandwidth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Security standard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Power consumption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Transmission interference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Potential health hazard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Human interface with device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Internet-based technologies and services: VoI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VoI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Voice over Internet Protocol (VoIP) is a general term for a family of transmission technologies for delivery of voice communications over IP networks such as the Internet or  other  packet-switched network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Other terms frequently encountered and synonymous with VoIP are IP telephony, Internet telephony, voice over broadband (VoBB), broadband telephony, and broadband phon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75" name="Picture 7" descr="Image result for voip"/>
          <p:cNvPicPr/>
          <p:nvPr/>
        </p:nvPicPr>
        <p:blipFill>
          <a:blip r:embed="rId1"/>
          <a:stretch/>
        </p:blipFill>
        <p:spPr>
          <a:xfrm>
            <a:off x="3200400" y="3124080"/>
            <a:ext cx="29336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VoI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Internet telephony refers to communications services including: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Arial"/>
              </a:rPr>
              <a:t>voice, fax, and voice-messaging applications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-that are transported via the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Internet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,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rather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than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 the public switched telephone network (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PSTN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)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The basic steps involved in originating an Internet telephone call are: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version of the analog voice signal to digital format ,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ression/translation of the signal into Internet protocol(IP) packets for transmission over the Internet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Times New Roman"/>
                <a:ea typeface="Arial"/>
              </a:rPr>
              <a:t>the process is reversed at the receiving end. </a:t>
            </a:r>
            <a:endParaRPr b="0" lang="en-US" sz="27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VoI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VoIP systems employ session control protocols to control the set-up and tear-down of calls as well as audio codes which encode speech allowing transmission over an IP network as digital audio via an audio stream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Codec use is varied between different implementations of VoIP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some implementations rely on narrowband and compressed speech, while others support high fidelity stereocod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User</cp:lastModifiedBy>
  <dcterms:modified xsi:type="dcterms:W3CDTF">2016-10-04T18:34:13Z</dcterms:modified>
  <cp:revision>89</cp:revision>
  <dc:subject/>
  <dc:title>Computer Networks</dc:title>
</cp:coreProperties>
</file>