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12DA-7BA5-46CD-A3A8-F319EAAC76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(WSN)  stands for wireless sensor net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This technology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ol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deploying a large #number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expensive/sm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sor nod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ver the area of inter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The main function of sensor nodes is t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itor, record, and notif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specific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d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to the 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ed dat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fer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to the BS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-hop fash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one node to ano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ing broadcast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ensors are mainly equipped wi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sensing uni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ens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the environmental parame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microcontroll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erfor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the local data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ireless communication uni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tha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llow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node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communicat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with other nodes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Power Uni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or a battery: tha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empowe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ll component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of the sensor no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se pictures show some of the possible applications of WS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earliest applicatio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f WSNs were i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military fiel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for (surveillance and control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Later, they’re used fo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everal civilia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application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habitat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Forest fire detection and air poll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Underground, seismological, and Volcano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Body sensor networks and Several medical appl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y can also be integrated into many smart systems such as “smart cities”: For structural health monitoring, traffic detection, and many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re are many challenges related to this class of networks,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limited resources of sensor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etworking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how to perform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out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multihop communic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with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limited bandwid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pology chang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 no. of se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- environmental challenges and application requirem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As well as other networking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5F1B-8343-4063-8E6F-ADC9A227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8CFF-8B1C-4867-B65E-DC124CFE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1026-293C-404F-8AC3-40B5FAD4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3DFD-68E5-441C-A6DF-CB1187B0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91B7-3649-4002-8B5F-39E47D7C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05EE-FF61-44F1-AEA6-6497F8FD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2B46-76C6-4757-820A-A1E508D8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E0BD-0F48-4176-83A8-13D83D49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5375-973A-4616-A85B-CE92CC59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67AA-9D81-4833-9A12-9CAA5EBC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5E36-6352-42D3-835F-B671D8A4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91DC-8ABE-4CC4-9668-2D9C4771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9B50-7E01-4EB8-A582-0DD3A8E9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2407-2AE7-4794-A66A-1DB1A950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5C7F-A293-407F-B411-894FFF23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C1AD-10E4-4094-A5B1-470C39F6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3C29-80B9-4183-8390-E4170AFC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2B193-1AAC-46DD-A686-3302AD47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FA4E9-7B55-4649-8C39-F43CAE66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9585A-F7DC-40B6-80F5-BBD62138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B169A-81AE-41AF-A77B-CC8C5AB6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091CA-C534-42E1-92FF-84E37444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531-6914-4B0B-9E50-C67D8070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9A25F-6802-4AD7-AB27-00853844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B3F68-B514-4BF3-ADFA-9A34741D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A2930-4A48-422D-B708-FE7B6B45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6AC7A-46BF-42F1-AAB9-7FCD9E02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FFC20-BBCD-476C-A3DD-8380F626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2E37B-4451-4F50-9B2D-3B0EEFF6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72C2F-9F84-44F7-983D-F83FA9E0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EF5D7-608C-456E-8443-D8065043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AE7C2-86D0-46C1-851A-1E3CF94E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81FF0-9CEA-47B6-80A5-BE0B95AA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5A9-8F92-4681-970D-F1FEBFD7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7AA7A-C766-4B31-9185-D8BE1394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8E73B-38E5-4D74-B353-24A6AFD4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3F00B-E809-45D9-8D84-A4A07DB4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5C37B-5FF0-435A-8316-462B7C91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563BA-2CEA-4459-B4B3-23B70EE7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595C7-4A7E-4156-832F-DA42FF47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ECB2B-29E5-4ECF-AAEE-C9975CBA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8711A-AD9A-42E4-8A99-941C4EA5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86D75-B683-4315-A98A-27F60801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9C97A-95C1-49C8-BE46-FD5131DB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B3A2-239B-4934-B0AA-84578238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C7EAF-0784-4A37-BA82-E444D0FB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C41E4-3EE7-4E5B-8D47-A25B5DE8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4A5F1-3DD0-4F97-88A8-6B812FDC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19E3E-28FE-4BE4-87A6-4F20A714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48293-1415-45AF-B741-9F20A9CE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956CE-6C16-4B80-A8D8-009671DA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838AC-925F-46EC-B9AB-B77A2F6B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DC373-6F10-4571-9542-34DF47E3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C6D3C-FA48-4730-A749-82CD8C82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E4154-F075-4229-92F0-763EEAB6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13B5-5F14-48BD-8542-84DBD2E6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97E04-F5CB-4BEE-8E60-787822C4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4A6EE-95F8-4404-95E1-2C0344C6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84410-29AA-4744-AE34-F874D0D2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3BFE2-9FFB-4D3B-A705-BEDC5DDA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B9BCA-4E36-44FA-9C4A-62A05C45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B1BAB-5559-441B-8CD4-17EB4745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6C4D4-99AD-44DD-88DA-41018752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F97BC-B900-4ED7-9A0E-869412C5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8C232-77D0-4DEB-BFFA-F32FA6FB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A3700-187B-454E-85F3-BF3DD619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D95-F36B-49A2-850A-3083B260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3398D-0FD8-4DDC-8DA3-E62CDC84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CF585-230F-487A-AE99-FD7C06EA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3AE3E-A3FF-4E17-8DBD-E5C909C7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624F2-2661-4BE4-B800-22944164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C4E15-46AB-437D-B1F2-395B2B77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2C018-F152-4D8C-8258-B0AF2AB0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16A07-A87B-4B61-80E1-BF1B52C3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6D0FF-C52A-40DE-B668-3F323151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C2C7B-E61F-4B29-9DF8-3AE61215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D2CFA-4A24-4E86-8D9B-AB7799EB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687-7872-4561-A42F-93B3D156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01761-6FCC-4916-B45B-DC2289FC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CA53F-427B-4DB3-AEB6-78BEF0F0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F7E7A-B756-47ED-9108-C1C8747F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7AE5E-C11D-4CC7-AFEC-041152FC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6CFE3-EA5E-485A-B548-BB87F196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6C202-47AC-4B1B-BD45-7128DA9C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F3D95-4DDA-4AD6-85D6-C04C2F73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72ADB-3D92-4B13-893B-63F63EB5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EBB5F-A9FB-4FE6-8097-5D1268FF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2CDC5-25D6-4CEC-A48B-6E1236ED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56D-B618-4CF1-9C7D-63367340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B0E01-C2A7-43EC-A208-F0F568C1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2CE3E-5A5F-46D7-93C2-AC41C29F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F8AA3-74BF-4153-97EE-0E8BA159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3B591-8F88-4755-8126-E02008DE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A844A-FC0E-452C-ADF7-4B70CE95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66B22-1537-4BD4-A914-53A82768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58B0F-610E-4960-95A7-0D3BDF14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A28F-E4E0-4A03-B433-C3D6F60D58E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2A37-E879-40A5-8636-E437B400253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361F-AE15-46E2-A98E-3E9129BF52EF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29EC-B898-483A-B88C-C426050FA8E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7A4F-5D6B-4244-8C60-6A250C3028F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917C-3AD4-4B01-8E25-8E1844B90E8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1EEE-7F34-4A98-83E4-C38EDD01B626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2AD0-4A7C-4145-BC88-C7E7AA8F872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loud_computing.sv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loud_computing_icon.sv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Internet_of_Things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Internet_of_Things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2: Facts of network technologies developments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Times New Roman"/>
              </a:rPr>
              <a:t>Networking Trend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Cloud Comput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219320"/>
            <a:ext cx="39625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Cloud computing is the delivery of computing as a service rather than a product, whereby shared resources, software, and information are provided to computers and other devices as a utility (like the electricity grid) over a network (typically the Internet). Clouds can be classified as public, private or hybri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2" name="Picture 2" descr="http://upload.wikimedia.org/wikipedia/commons/thumb/b/b5/Cloud_computing.svg/400px-Cloud_computing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1828800"/>
            <a:ext cx="4294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Cloud Comput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Cloud computing relies on sharing of resources to achieve coherence and economies of scale, similar to a utility (like the electricity grid) over a network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foundation of cloud computing is the broader concept of converged infrastructure and shared servic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Cloud computing, or in simpler shorthand just "the cloud", also focuses on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maximizing the effectiveness of the shared resourc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Cloud resources are usually not only shared by multiple users but are also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dynamically reallocat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per demand. This can work for allocating resources to use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5" name="Picture 2" descr="Cloud computing icon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08920" y="5486400"/>
            <a:ext cx="15778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The Internet of Things 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219320"/>
            <a:ext cx="4419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The Internet of Things (IoT) refers to the interconnection of uniquely identifiable embedded computing-like devices within the existing Internet infrastructu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8" name="Picture 2" descr="http://upload.wikimedia.org/wikipedia/commons/thumb/a/ab/Internet_of_Things.jpg/350px-Internet_of_Thing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212920"/>
            <a:ext cx="417204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The Internet of thing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We have passed the threshold where more things are connected to the Internet than people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The transition to IPv6 also supports seemingly limitless connectivity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Cisco IBSG predicts the number of Internet-connected things will reach 50 billion by 2020, which equates to more than six devices for every person on Earth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Many of us in the developed world already have three or more full-time devices connected to the Internet when factoring in PCs, smartphones, tablets, television devices and the like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The Internet of Things 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219320"/>
            <a:ext cx="5486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Things, in the IoT, can refer to a wide variety of devices such as heart monitoring implants, biochip transponders on farm animals, automobiles with built-in sensors, or field operation devices that assist fire-fighters in search and rescu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Future IoT? IoT of sensor networks, using low-power sensors that "collect, transmit, analyze and distribute data on a massive scale," says Eva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3" name="Picture 2" descr="http://upload.wikimedia.org/wikipedia/commons/thumb/a/ab/Internet_of_Things.jpg/350px-Internet_of_Thing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42000" y="1447920"/>
            <a:ext cx="3402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The Internet of Things 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Typically, IoT is expected to offer advanced connectivity of devices, systems, and services that goes beyond machine-to-machine communications (M2M) and covers a variety of protocols, domains, and applicat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IoT Applications 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Environmental Monitoring, Infrastructure Management, Industrial Applications, Energy Management, Medical and Healthcare Systems, Building and Home Automation, Transport Systems, Large Scale Deployment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IoT Trend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Intelligence, Architecture, Complex syste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Wireless Sensor Networks (WSNs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B8A1-3904-4218-8D5E-AD5E916C8AA7}" type="slidenum">
              <a:rPr b="0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A sensor network is a wireless network that consists of thousands of very small nodes called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senso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99" name="Group 3"/>
          <p:cNvGrpSpPr/>
          <p:nvPr/>
        </p:nvGrpSpPr>
        <p:grpSpPr>
          <a:xfrm>
            <a:off x="1295280" y="2286000"/>
            <a:ext cx="6407280" cy="3962520"/>
            <a:chOff x="1295280" y="2286000"/>
            <a:chExt cx="6407280" cy="3962520"/>
          </a:xfrm>
        </p:grpSpPr>
        <p:grpSp>
          <p:nvGrpSpPr>
            <p:cNvPr id="400" name="Group 4"/>
            <p:cNvGrpSpPr/>
            <p:nvPr/>
          </p:nvGrpSpPr>
          <p:grpSpPr>
            <a:xfrm>
              <a:off x="1295280" y="2286000"/>
              <a:ext cx="6407280" cy="3608640"/>
              <a:chOff x="1295280" y="2286000"/>
              <a:chExt cx="6407280" cy="3608640"/>
            </a:xfrm>
          </p:grpSpPr>
          <p:pic>
            <p:nvPicPr>
              <p:cNvPr id="401" name="Picture 5" descr="WSN1.png"/>
              <p:cNvPicPr/>
              <p:nvPr/>
            </p:nvPicPr>
            <p:blipFill>
              <a:blip r:embed="rId1"/>
              <a:srcRect l="28744" t="0" r="0" b="23173"/>
              <a:stretch/>
            </p:blipFill>
            <p:spPr>
              <a:xfrm>
                <a:off x="1791000" y="2286000"/>
                <a:ext cx="5911560" cy="314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2" name="Picture 6" descr="http://www.cisco.com/en/US/i/200001-300000/230001-240000/230001-231000/230559.jpg"/>
              <p:cNvPicPr/>
              <p:nvPr/>
            </p:nvPicPr>
            <p:blipFill>
              <a:blip r:embed="rId2"/>
              <a:stretch/>
            </p:blipFill>
            <p:spPr>
              <a:xfrm>
                <a:off x="1295280" y="4786920"/>
                <a:ext cx="1510920" cy="110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Line 7"/>
              <p:cNvSpPr/>
              <p:nvPr/>
            </p:nvSpPr>
            <p:spPr>
              <a:xfrm flipH="1">
                <a:off x="2584800" y="4512240"/>
                <a:ext cx="396720" cy="45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AutoShape 8"/>
            <p:cNvSpPr/>
            <p:nvPr/>
          </p:nvSpPr>
          <p:spPr>
            <a:xfrm>
              <a:off x="1295280" y="5734440"/>
              <a:ext cx="1905120" cy="51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e st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Rectangle 12"/>
          <p:cNvSpPr/>
          <p:nvPr/>
        </p:nvSpPr>
        <p:spPr>
          <a:xfrm>
            <a:off x="803160" y="6292800"/>
            <a:ext cx="78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3366ff"/>
                </a:solidFill>
                <a:latin typeface="Arial"/>
                <a:ea typeface="Arial"/>
              </a:rPr>
              <a:t>Figure 1: Architecture of wireless sensor networks</a:t>
            </a:r>
            <a:r>
              <a:rPr b="1" lang="en-US" sz="1200" spc="-1" strike="noStrike">
                <a:solidFill>
                  <a:srgbClr val="3366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Wireless Sensor Networks (cont.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WSN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Senso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are equipped with sensing, limited computation, and wireless communication capabiliti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6C82-4F3D-45C3-9DF8-8A6C5E100177}" type="slidenum">
              <a:rPr b="0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nodeHW1.png"/>
          <p:cNvPicPr/>
          <p:nvPr/>
        </p:nvPicPr>
        <p:blipFill>
          <a:blip r:embed="rId1"/>
          <a:stretch/>
        </p:blipFill>
        <p:spPr>
          <a:xfrm>
            <a:off x="2286000" y="2819520"/>
            <a:ext cx="4303800" cy="24192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"/>
          <p:cNvSpPr/>
          <p:nvPr/>
        </p:nvSpPr>
        <p:spPr>
          <a:xfrm>
            <a:off x="685800" y="5410080"/>
            <a:ext cx="78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3366ff"/>
                </a:solidFill>
                <a:latin typeface="Arial"/>
                <a:ea typeface="Arial"/>
              </a:rPr>
              <a:t>Typical hardware components of a sensor node in wireless sensor networks</a:t>
            </a:r>
            <a:r>
              <a:rPr b="1" lang="en-US" sz="1200" spc="-1" strike="noStrike">
                <a:solidFill>
                  <a:srgbClr val="3366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6" descr=""/>
          <p:cNvPicPr/>
          <p:nvPr/>
        </p:nvPicPr>
        <p:blipFill>
          <a:blip r:embed="rId2"/>
          <a:stretch/>
        </p:blipFill>
        <p:spPr>
          <a:xfrm>
            <a:off x="7437600" y="2038320"/>
            <a:ext cx="170640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WSNs Application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96CF-25C6-4856-B039-7860E02D543B}" type="slidenum">
              <a:rPr b="0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tretch/>
        </p:blipFill>
        <p:spPr>
          <a:xfrm>
            <a:off x="272880" y="2181240"/>
            <a:ext cx="2775240" cy="209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5" name="Picture 16" descr=""/>
          <p:cNvPicPr/>
          <p:nvPr/>
        </p:nvPicPr>
        <p:blipFill>
          <a:blip r:embed="rId2"/>
          <a:stretch/>
        </p:blipFill>
        <p:spPr>
          <a:xfrm>
            <a:off x="6086520" y="2181240"/>
            <a:ext cx="2773440" cy="209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6" name="Picture 7" descr=""/>
          <p:cNvPicPr/>
          <p:nvPr/>
        </p:nvPicPr>
        <p:blipFill>
          <a:blip r:embed="rId3"/>
          <a:stretch/>
        </p:blipFill>
        <p:spPr>
          <a:xfrm>
            <a:off x="272880" y="4352760"/>
            <a:ext cx="2775240" cy="21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7" name="Picture 18" descr=""/>
          <p:cNvPicPr/>
          <p:nvPr/>
        </p:nvPicPr>
        <p:blipFill>
          <a:blip r:embed="rId4"/>
          <a:stretch/>
        </p:blipFill>
        <p:spPr>
          <a:xfrm>
            <a:off x="3214800" y="4359240"/>
            <a:ext cx="2749320" cy="209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8" name="Picture 8" descr=""/>
          <p:cNvPicPr/>
          <p:nvPr/>
        </p:nvPicPr>
        <p:blipFill>
          <a:blip r:embed="rId5"/>
          <a:srcRect l="0" t="0" r="0" b="8954"/>
          <a:stretch/>
        </p:blipFill>
        <p:spPr>
          <a:xfrm>
            <a:off x="6097680" y="4352760"/>
            <a:ext cx="2749320" cy="21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9" name="Picture 20" descr=""/>
          <p:cNvPicPr/>
          <p:nvPr/>
        </p:nvPicPr>
        <p:blipFill>
          <a:blip r:embed="rId6"/>
          <a:stretch/>
        </p:blipFill>
        <p:spPr>
          <a:xfrm>
            <a:off x="3214800" y="2208240"/>
            <a:ext cx="2749320" cy="208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0" name="Rectangle 21"/>
          <p:cNvSpPr/>
          <p:nvPr/>
        </p:nvSpPr>
        <p:spPr>
          <a:xfrm>
            <a:off x="803160" y="6467400"/>
            <a:ext cx="78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3366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3366ff"/>
                </a:solidFill>
                <a:latin typeface="Arial"/>
                <a:ea typeface="Arial"/>
              </a:rPr>
              <a:t>WSNs Appl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WSNs Challenge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72964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Limited Sensor Resour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Battery power, computation capability, memory, etc.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Networking Challeng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Limited bandwidth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, routing, multi-hop communication, mobility,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topology control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, large no. of sensors, frequent node on/off, etc.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nvironment/Application-Driven Challeng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Requirements, extreme conditions, interference, etc.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Other Challen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Security, synchronization, localization, deployment..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423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46FE-6C53-448C-8608-AA96AFDAD662}" type="slidenum">
              <a:rPr b="0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6" descr=""/>
          <p:cNvPicPr/>
          <p:nvPr/>
        </p:nvPicPr>
        <p:blipFill>
          <a:blip r:embed="rId1"/>
          <a:stretch/>
        </p:blipFill>
        <p:spPr>
          <a:xfrm>
            <a:off x="7162920" y="1447920"/>
            <a:ext cx="170640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Introdu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TextBox 4"/>
          <p:cNvSpPr/>
          <p:nvPr/>
        </p:nvSpPr>
        <p:spPr>
          <a:xfrm>
            <a:off x="457200" y="121932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r net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omputer network is a system of interconnected computers and peripheral de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s is about the transfer of information from a sender, across a distance, to a recei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lder forms of communications technology, such as telephones and radios, use analog sign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rs communicate with digital signa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Top Networking Research Topic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457200" y="121932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Comp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-based comp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-of-things (I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ce-over-IP (Vo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-scale wireless networks (Sensors, RF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speed wir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Mobile Comput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219320"/>
            <a:ext cx="84582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obile computing is a generic term describing one's ability to use technology while mov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obile comput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  <a:ea typeface="Arial"/>
              </a:rPr>
              <a:t>involves</a:t>
            </a:r>
            <a:r>
              <a:rPr b="1" lang="en-US" sz="2400" spc="-1" strike="noStrike">
                <a:solidFill>
                  <a:srgbClr val="ff0000"/>
                </a:solidFill>
                <a:latin typeface="Gill Sans MT"/>
                <a:ea typeface="Arial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  <a:ea typeface="Arial"/>
              </a:rPr>
              <a:t> mobile communication, mobile hardware, and mobile software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obile Hardwar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includes mobile devices or device component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obil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deals with the characteristics and requirements of mobile applicatio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in mobile computing include ad hoc and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infrastructure network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as well as communication properties, protocols, data formats and the existing technologi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Mobile Computing: </a:t>
            </a:r>
            <a:r>
              <a:rPr b="0" lang="en-US" sz="3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Item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here are at least three different classes of mobile computing item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rtable comput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 compacted lightweight units including a full character set keyboard and primarily intended as hosts for software that may be parameterized, as laptops, notebooks, notepads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bile phon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ncluding a restricted key set primarily intended but not restricted to for vocal communications, as cell phones, smart phones, phonepads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wearable comput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 mostly limited to functional keys and primarily intended as incorporation of software agents, as watches, wristbands, necklaces, keyless implants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existence of these classes is expected to be long lasting, and complementary in personal usage, none replacing one the other in all features of convenience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Mobile Computing: Devices and Limitation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evice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any types of mobile computers have been introduced since the 1990s including the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  <a:ea typeface="Arial"/>
              </a:rPr>
              <a:t>Personal digital assistant/enterprise digital assistant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  <a:ea typeface="Arial"/>
              </a:rPr>
              <a:t>Smartphone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  <a:ea typeface="Arial"/>
              </a:rPr>
              <a:t>Tablet computer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  <a:ea typeface="Arial"/>
              </a:rPr>
              <a:t>Ultra-Mobile PC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  <a:ea typeface="Arial"/>
              </a:rPr>
              <a:t>Wearable computer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Limitation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  <a:ea typeface="Arial"/>
              </a:rPr>
              <a:t>Range &amp; Bandwidth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  <a:ea typeface="Arial"/>
              </a:rPr>
              <a:t>Security standards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  <a:ea typeface="Arial"/>
              </a:rPr>
              <a:t>Power consumption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  <a:ea typeface="Arial"/>
              </a:rPr>
              <a:t>Transmission interferences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  <a:ea typeface="Arial"/>
              </a:rPr>
              <a:t>Potential health hazards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  <a:ea typeface="Arial"/>
              </a:rPr>
              <a:t>Human interface with device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Internet-based technologies and services: VoI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0663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VoI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Voice over Internet Protocol (VoIP) is a general term for a family of transmission technologies for delivery of voice communications over IP networks such as the Internet or  other  packet-switched networks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Other terms frequently encountered and synonymous with VoIP are IP telephony, Internet telephony, voice over broadband (VoBB), broadband telephony, and broadband phone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75" name="Picture 7" descr="Image result for voip"/>
          <p:cNvPicPr/>
          <p:nvPr/>
        </p:nvPicPr>
        <p:blipFill>
          <a:blip r:embed="rId1"/>
          <a:stretch/>
        </p:blipFill>
        <p:spPr>
          <a:xfrm>
            <a:off x="3200400" y="3124080"/>
            <a:ext cx="293364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VoI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Internet telephony refers to communications services including: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  <a:ea typeface="Arial"/>
              </a:rPr>
              <a:t>voice, fax, and voice-messaging applications</a:t>
            </a: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-that are transported via the </a:t>
            </a:r>
            <a:r>
              <a:rPr b="1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Internet</a:t>
            </a: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, </a:t>
            </a:r>
            <a:r>
              <a:rPr b="1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rather</a:t>
            </a: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 </a:t>
            </a:r>
            <a:r>
              <a:rPr b="1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than</a:t>
            </a: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 the public switched telephone network (</a:t>
            </a:r>
            <a:r>
              <a:rPr b="1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PSTN</a:t>
            </a: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)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The basic steps involved in originating an Internet telephone call are: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version of the analog voice signal to digital format , a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mpression/translation of the signal into Internet protocol(IP) packets for transmission over the Internet;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53"/>
                </a:solidFill>
                <a:latin typeface="Times New Roman"/>
                <a:ea typeface="Arial"/>
              </a:rPr>
              <a:t>the process is reversed at the receiving end. </a:t>
            </a:r>
            <a:endParaRPr b="0" lang="en-US" sz="27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VoI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VoIP systems employ session control protocols to control the set-up and tear-down of calls as well as audio codes which encode speech allowing transmission over an IP network as digital audio via an audio stream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Codec use is varied between different implementations of VoIP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Arial"/>
              </a:rPr>
              <a:t>some implementations rely on narrowband and compressed speech, while others support high fidelity stereocod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8:36:04Z</dcterms:created>
  <dc:creator>Bruhadeshwar Bezawada</dc:creator>
  <dc:description/>
  <dc:language>en-US</dc:language>
  <cp:lastModifiedBy>User</cp:lastModifiedBy>
  <dcterms:modified xsi:type="dcterms:W3CDTF">2016-10-04T18:34:13Z</dcterms:modified>
  <cp:revision>89</cp:revision>
  <dc:subject/>
  <dc:title>Computer Networks</dc:title>
</cp:coreProperties>
</file>