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7102475" cy="9371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C808-A7EE-4050-A2F9-A391A78ED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B1A2-08CF-4B8A-B825-402074849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9584-CE6E-4A44-BE0C-C33EEB994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A6A6-EA56-4512-8A11-4D6F9223C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160C6-9036-4340-8D2F-F434EED5D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AB469-D175-465B-96D0-E8BE364EA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0AB7E-50C5-47DF-BD06-0458E0B22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3C3A8-064D-47F6-9A58-30C575EF7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9B2ED-544A-4AB8-80E8-8F788E91D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A6BB3-7219-4B47-A99A-D62AD4EFF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0C3EA-34AB-43F6-82DE-02706F0D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27F7-E74E-4817-9357-C6BCEB496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329ED-0CF3-4A11-9EDF-9B2155B8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CA84F-64A1-4029-8FA1-AD2CAE51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D5B20-C49C-4FA2-94FC-299C69AFF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372FF-299B-489D-8FB8-3439CBB7D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27D3D-D284-4A41-BCD3-1DE05FC70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49E91E-A425-496E-AB1A-5CFDE2A55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664A0C-A5ED-4B20-8AF6-54CB2D236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F7E221-58E3-4887-BD31-C8171B52C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5B14B1-D37F-4241-ABC0-B0E4495C7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31DEFC-D4DB-4717-8D34-375FEADCE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F66A-9DD1-4AE6-94A0-470780816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30AD71-F366-440D-94EC-25EB7AF4E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F4129E-117A-43CC-97FF-5D635EBB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BE78CD-D51B-43B7-BD5D-12AB750D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8FF0FD-33D2-4853-94E9-0F492084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F11864-EF81-4360-827A-1460863CE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98C292-E1E1-402C-AAC9-74139AA42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9930F3-69F2-4D29-98EC-6228C84DD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B411E-968D-44D8-9845-9AE98E381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E4257-8652-48D7-926E-DFA673418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957EA-C0E8-4CBE-BFBF-E7FB19745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4030-299C-4C48-ACDA-E4F66DBF9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2C0AD-CD29-406A-8A5E-CADB3AE2E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57A67-66A6-4DD6-A2BD-5EBA1D60F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B17C7-53C2-448A-B768-03FCABBE0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C249E-C578-4B9E-A85F-B2DFECA3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D8CD2-DD50-426F-9C5F-ACB682E3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7301E-3E18-41CD-BA65-44A9A957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EE100-54B7-4F85-B0D1-01E46DD30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F6E5A-20C1-49CD-B30E-531C435A2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F1190-62D9-4F8B-9B89-8AB9C8005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D135-18B3-44FD-B57D-892244958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ADF3-01C6-4A86-B654-9A494A97D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610E-7C73-41D6-8D31-5EBFB8FF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1D54-4AD4-4B96-A3A1-50F47875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0DD0-BF58-4415-816F-74967E65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7666F-846B-4830-98F6-C549EBD468DF}" type="slidenum"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55015-956B-44DF-BF95-C667699C1011}" type="slidenum"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C7B4A-28C1-49FE-9575-578FD01DF779}" type="slidenum"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D8873-ED01-4313-A8C3-66EFE058E5F3}" type="slidenum"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qurancomplex.gov.sa/Display.asp?section=8&amp;l=arb&amp;f=wrong_trn3001.htm&amp;trans=3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6761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rebuchet MS"/>
              </a:rPr>
              <a:t>Translating the Quran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4266720"/>
            <a:ext cx="49528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Islamic Transla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2</a:t>
            </a:r>
            <a:r>
              <a:rPr b="0" lang="en-US" sz="2400" spc="-1" strike="noStrike" baseline="30000">
                <a:solidFill>
                  <a:srgbClr val="424456"/>
                </a:solidFill>
                <a:latin typeface="Georgia"/>
              </a:rPr>
              <a:t>nd</a:t>
            </a: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 Lectur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1437- 38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Translating the Qura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Georgia"/>
                <a:cs typeface="Arial"/>
              </a:rPr>
              <a:t>ماالمقصود بترجمة القرآن؟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10800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Georgia"/>
                <a:cs typeface="Arial"/>
              </a:rPr>
              <a:t>تفسيره وبيان معانيه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nglish Translations of the Qura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1040" indent="-7430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04da3"/>
                </a:solidFill>
                <a:latin typeface="Georgia"/>
              </a:rPr>
              <a:t>Orientalist Translations: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851040" indent="-7430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Alexander Ross (1649)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851040" indent="-7430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The Alcoran of Mohamet”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851040" indent="-7430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851040" indent="-7430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George Sale (1731)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851040" indent="-7430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The Koran”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nglish Translations of the Qura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1040" indent="-74304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04da3"/>
                </a:solidFill>
                <a:latin typeface="Georgia"/>
              </a:rPr>
              <a:t>Qadiani Translations: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851040" indent="-743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851040" indent="-7430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Muhammad Ali (1917)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851040" indent="-7430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 Holy Qur’an”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nglish Translations of the Qura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1040" indent="-74304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04da3"/>
                </a:solidFill>
                <a:latin typeface="Georgia"/>
              </a:rPr>
              <a:t>Islamic Translations: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851040" indent="-743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851040" indent="-743040">
              <a:spcBef>
                <a:spcPts val="300"/>
              </a:spcBef>
              <a:buClr>
                <a:srgbClr val="a04da3"/>
              </a:buClr>
              <a:buFont typeface="Georg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Dr. Abdulhakim Khan (1905)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851040" indent="-7430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04da3"/>
                </a:solidFill>
                <a:latin typeface="Georgia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Holy Qur’an Translated with Short Notes</a:t>
            </a:r>
            <a:r>
              <a:rPr b="1" lang="en-US" sz="3600" spc="-1" strike="noStrike">
                <a:solidFill>
                  <a:srgbClr val="a04da3"/>
                </a:solidFill>
                <a:latin typeface="Georgia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nglish Translations of the Qura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1040" indent="-74304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04da3"/>
                </a:solidFill>
                <a:latin typeface="Georgia"/>
              </a:rPr>
              <a:t>Islamic Translations: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851040" indent="-743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851040" indent="-743040">
              <a:spcBef>
                <a:spcPts val="300"/>
              </a:spcBef>
              <a:buClr>
                <a:srgbClr val="a04da3"/>
              </a:buClr>
              <a:buFont typeface="Georgia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Muhammad Pickthall (1930)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851040" indent="-7430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04da3"/>
                </a:solidFill>
                <a:latin typeface="Georgia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Georgia"/>
              </a:rPr>
              <a:t>The Meanings of the Glorious Qur'an</a:t>
            </a:r>
            <a:r>
              <a:rPr b="1" lang="en-GB" sz="3600" spc="-1" strike="noStrike">
                <a:solidFill>
                  <a:srgbClr val="a04da3"/>
                </a:solidFill>
                <a:latin typeface="Georgia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851040" indent="-743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851040" indent="-743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851040" indent="-7430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nglish Translations of the Qura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1040" indent="-74304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04da3"/>
                </a:solidFill>
                <a:latin typeface="Georgia"/>
              </a:rPr>
              <a:t>Islamic Translations: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851040" indent="-743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851040" indent="-743040">
              <a:spcBef>
                <a:spcPts val="300"/>
              </a:spcBef>
              <a:buClr>
                <a:srgbClr val="a04da3"/>
              </a:buClr>
              <a:buFont typeface="Georgia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Abdullah Yusuf Ali (1938)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851040" indent="-7430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 Holy Qur’an: Text, Translation &amp; Commentary”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851040" indent="-743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nglish Translations of the Qura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1040" indent="-74304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04da3"/>
                </a:solidFill>
                <a:latin typeface="Georgia"/>
              </a:rPr>
              <a:t>Islamic Translations: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851040" indent="-743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851040" indent="-743040">
              <a:spcBef>
                <a:spcPts val="300"/>
              </a:spcBef>
              <a:buClr>
                <a:srgbClr val="a04da3"/>
              </a:buClr>
              <a:buFont typeface="Georgia"/>
              <a:buAutoNum type="alpha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Khan &amp; Alhilali (1996)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851040" indent="-7430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The Noble Qur’an”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851040" indent="-743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Reference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Georgia"/>
                <a:cs typeface="Arial"/>
              </a:rPr>
              <a:t>ترجمات إنجليزية لمعاني القرآن الكريم</a:t>
            </a:r>
            <a:r>
              <a:rPr b="1" lang="en-GB" sz="2800" spc="-1" strike="noStrike">
                <a:solidFill>
                  <a:srgbClr val="000000"/>
                </a:solidFill>
                <a:latin typeface="Georgia"/>
              </a:rPr>
              <a:t> 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Georgia"/>
                <a:cs typeface="Arial"/>
              </a:rPr>
              <a:t>في مــيــزان الإســلام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80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Georgia"/>
                <a:cs typeface="Arial"/>
              </a:rPr>
              <a:t>د. وجيه حمد عبد الرحمن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80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Georgia"/>
                <a:ea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80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7afbd"/>
                </a:solidFill>
                <a:uFillTx/>
                <a:latin typeface="Georgia"/>
                <a:hlinkClick r:id="rId1"/>
              </a:rPr>
              <a:t>http://qurancomplex.gov.sa/Display.asp?section=8&amp;l=arb&amp;f=wrong_trn3001.htm&amp;trans=3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80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80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29T17:55:47Z</dcterms:created>
  <dc:creator>Bandar</dc:creator>
  <dc:description/>
  <dc:language>en-US</dc:language>
  <cp:lastModifiedBy>Nasrin Salama Altuwairesh</cp:lastModifiedBy>
  <cp:lastPrinted>2015-09-12T20:00:39Z</cp:lastPrinted>
  <dcterms:modified xsi:type="dcterms:W3CDTF">2017-02-06T07:42:36Z</dcterms:modified>
  <cp:revision>98</cp:revision>
  <dc:subject/>
  <dc:title>Translation of Islamic Texts: An Introduction</dc:title>
</cp:coreProperties>
</file>