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1024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9FA-24AE-4B01-B1D5-02D91F18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248-CCF0-424D-B67C-A063749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35B-91DC-40D3-AF96-4A2EAEFE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5A0-B416-42F1-8876-035A2A70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BAD4-0E49-4B10-B6C6-442486F8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9B59-D090-40C3-B698-522B029D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DD3D-A9D0-426A-A2B4-D1A32D62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5265-3F36-4C46-B693-4F14706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76CD-B0A0-4977-AB72-D57835AF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24D7-3A6D-419F-B6EF-77DC5F2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7BD5-BE88-4ED9-A989-9F9322E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CFB-9831-40B3-83C4-69842564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3932-0B52-48F7-BFF4-66A42DA2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8688-E9ED-4FBD-8277-F5A03B52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3DA9-C440-45A7-9B56-87169DF9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AE6A-D608-48B3-B427-47CB9769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8C24-C444-49F7-A74C-B95C43E1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A59BB-1D13-4A88-9D07-637570FF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CA5A6-5D2F-47E5-80E1-C1E01C9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1DAB4-B87E-46BA-A7A4-54CCD04F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F30C2-E600-40DC-88C1-393BDD77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05143-5442-46A7-874B-27E84ABF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B97-FE92-4D19-8F8E-6963321C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2E9D7-6FC6-4B6B-BBFA-1AD724E5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42B01-659F-417D-9275-B591518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0F43A-1245-4522-B6FC-79DC8ED9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7CA3A-2A19-4A82-801F-D2C909E3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A2ADA-FB1C-46F8-BA49-9812A826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4C91E-3E04-4C4F-B80C-FDA9E7BB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AC055-DE52-491A-A3C8-94CA3751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287B-9821-4C6C-99DF-AE977FC8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06F25-7D4F-432D-87F0-19C6414F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2E385-E016-4C26-8AD5-66F2EAD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B77-FFA5-4B92-B8AA-F406669A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6C73-8610-4D03-BAEC-977CC1E8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99A02-8ECD-4735-86A8-A49B2A91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7CEBD-F863-48D4-89A2-7C9679F9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C2B4E-1F8A-498C-8E28-CD8E5ED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0BEB-BED4-4068-BF86-AEB2BBA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4B5F-7603-40D1-B579-9968878E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FE32-1BD2-4A09-83DC-FD75DF9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8988-7DB7-417D-AF07-9E09AD9C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40A1-01BE-4984-91D1-318FEB1B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8C0-871E-48D0-B74C-C2A8DBC8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AEC-F737-436C-80A9-8D1C428E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67A-0FB7-43E0-BA5D-3D49204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C3F-7FA0-4775-B4FA-4F22026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8A2-33B2-4AD4-B721-FD8CA995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9533-5483-407A-8356-37B3F762B132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ECE3-E074-47AA-9D43-58E6EDA35F88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B5A7-F075-4F6F-9F63-6122EE129A98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6A59-5065-44FC-9BE8-6FEA191C3145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qurancomplex.gov.sa/Display.asp?section=8&amp;l=arb&amp;f=wrong_trn3001.htm&amp;trans=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Translating the Quran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426672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Islamic Transl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0" lang="en-US" sz="2400" spc="-1" strike="noStrike" baseline="30000">
                <a:solidFill>
                  <a:srgbClr val="424456"/>
                </a:solidFill>
                <a:latin typeface="Georgia"/>
              </a:rPr>
              <a:t>nd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 Lec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437- 3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anslating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eorgia"/>
                <a:cs typeface="Arial"/>
              </a:rPr>
              <a:t>ماالمقصود بترجمة القرآن؟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1080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eorgia"/>
                <a:cs typeface="Arial"/>
              </a:rPr>
              <a:t>تفسيره وبيان معانيه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Orientalist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lexander Ross (1649)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Alcoran of Mohamet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eorge Sale (1731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Koran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Qadiani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uhammad Ali (1917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Holy Qur’an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Islamic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r. Abdulhakim Khan (1905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ly Qur’an Translated with Short Notes</a:t>
            </a: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Islamic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uhammad Pickthall (1930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The Meanings of the Glorious Qur'an</a:t>
            </a:r>
            <a:r>
              <a:rPr b="1" lang="en-GB" sz="3600" spc="-1" strike="noStrike">
                <a:solidFill>
                  <a:srgbClr val="a04da3"/>
                </a:solidFill>
                <a:latin typeface="Georgi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Islamic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bdullah Yusuf Ali (1938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Holy Qur’an: Text, Translation &amp; Commentary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Islamic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Khan &amp; Alhilali (1996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Noble Qur’an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ference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ترجمات إنجليزية لمعاني القرآن الكريم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 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في مــيــزان الإســلا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د. وجيه حمد عبد الرحم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qurancomplex.gov.sa/Display.asp?section=8&amp;l=arb&amp;f=wrong_trn3001.htm&amp;trans=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9T17:55:47Z</dcterms:created>
  <dc:creator>Bandar</dc:creator>
  <dc:description/>
  <dc:language>en-US</dc:language>
  <cp:lastModifiedBy>Nasrin Salama Altuwairesh</cp:lastModifiedBy>
  <cp:lastPrinted>2015-09-12T20:00:39Z</cp:lastPrinted>
  <dcterms:modified xsi:type="dcterms:W3CDTF">2017-02-06T07:42:36Z</dcterms:modified>
  <cp:revision>98</cp:revision>
  <dc:subject/>
  <dc:title>Translation of Islamic Texts: An Introduction</dc:title>
</cp:coreProperties>
</file>