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9209-865D-44D9-8B59-500CABAD1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CC75-A885-4E9E-9651-8D1CF0B0E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1808-6FD1-4082-A722-0D1257DD4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1D3A-B0C3-47E7-9B1D-D5CF3AAA5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F824-AC04-4A9A-B015-BC8D10C82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66E-8702-49E1-ABDE-862F9D18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105-0020-4B0E-818E-70FB9235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041-29BC-4CE9-85A2-CCD32CF2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A93-C688-45DD-AD73-E3F6A182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6AF4-7D0E-4BE4-B882-D5950A2A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54FD-4D64-4F72-9F9A-4B66861E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35B9-1E6F-4EBA-8E4E-A05D9616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A704-AF10-4C6D-B0AB-8BC6D02F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89C2-FC9C-4A2A-8B8E-8ECE846C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4BFB-AC82-4ED0-AD47-F32CE2C7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616F-D878-4E90-A426-8DE0BE4B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515-7CD2-419F-8001-3AE7224C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FEA3-15D7-48BE-B23C-89690034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8C72-635C-4E1E-8870-C3F3D525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0FD4-5615-4569-BD5B-01075ECD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CA67-5E68-4E5C-835A-4FE47192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2465-34F6-4EAF-9B61-2DD26D76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12C40-FDFF-400D-8FD9-7BE4D464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AA567-9346-4D35-AE78-35151D08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91DD0-C8D0-4F07-B93E-A3CE2A25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6D4C7-7426-43AA-91BA-1D8A13BC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50BE0-2782-4DC3-9C6E-91AFB1AF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0E2-D9D9-4BCE-BE81-9FA1C361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5CCA2-3270-4409-A783-59A9335C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5B33-2287-4DA0-862A-EFE7DE18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B3D30-9ED5-404F-8D50-07213FBE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B65E-3476-400C-991D-F032BA01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1CA25-4ECB-45A8-8EEC-1D8228FE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6BE4-3358-4630-A73B-36E2866C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12762-7807-48FB-8132-174C0DCE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1851-0F0A-4B5E-9BC7-DF7A3C5D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A68FC-9183-4A65-883D-BF04DD3D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9FA69-496F-411D-BB82-E6717B4C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516-FCAF-4B8D-8075-EEE634E1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DE565-5D70-47D2-AEEE-2033B4E0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8EF3E-B5E4-4913-A53B-C68B41FD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DB4C9-115E-4F97-80DA-073FF862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578E4-256E-4C9A-A28C-6FD14E36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72C69-9647-4998-9DB9-16FEB0D8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4ECE8-EA67-4E24-97C5-8B1DFB31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661F3-ACB7-4B73-BB31-32831F10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FF1CE-2D6F-49F7-9C09-9E394099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B4DAC-38DC-4B24-978E-5ABCD650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22F-A649-4D02-B812-F6E7BBF8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E96-7ECE-4A21-926E-459A2F3D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668-A711-4763-8B98-D48EC48C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48D-8F2A-4FDB-BB0D-3A3CEAEA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392-9BD6-4DC4-985B-1ECD76E4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618E-1F2B-4E44-B973-EF1D6778571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CC93-5422-4CDC-80FF-02B097875F6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F964-884F-4182-ACC3-B8DBC106D43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A333-A464-433E-9881-1AAA20B2325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353880" y="2511360"/>
            <a:ext cx="80344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 3: Mapping of Binary 1:1 Relation Typ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oreign Key approach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hoose one of the relations-say S-and include a foreign key in S the primary key of T. It is better to choose an entity typ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with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otal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particip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n R in the role of 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ple: 1:1 relation MANAGES is mapped by choosing the participating entity type DEPARTMENT to serve in the role of S, because its participation in the MANAGES relationship type is tota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R DIA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268200" y="652320"/>
            <a:ext cx="8504280" cy="1200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fig07_02"/>
          <p:cNvPicPr/>
          <p:nvPr/>
        </p:nvPicPr>
        <p:blipFill>
          <a:blip r:embed="rId2"/>
          <a:stretch/>
        </p:blipFill>
        <p:spPr>
          <a:xfrm>
            <a:off x="990720" y="1600200"/>
            <a:ext cx="736920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4: Mapping of Binary 1:N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ach regular binary 1:N relationship type R, identify the relation S that represent the participating entity type at the N-side of the relationship typ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 as foreign key in S the primary key of the relation T that represents the other entity type participating in 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 any simple attributes of the 1:N relation type as attributes of 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4: Mapping of Binary 1:N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: 1:N relationship types WORKS_FOR, CONTROLS, and SUPERVISION in the figu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WORKS_FOR we include the primary key DNUMBER of the DEPARTMENT relation as foreign key in the EMPLOYEE relation and call it DN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5: Mapping of Binary M:N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each regular binary M:N relationship type R,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create a new relati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S to represent 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clude as foreign key attributes in S the primary keys of the relations that represent the participating entity types;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their combination will form the primary key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of 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so include any simple attributes of the M:N relationship type (or simple components of composite attributes) as attributes of 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5: Mapping of Binary M:N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ple: The M:N relationship type WORKS_ON from the ER  diagram is mapped by creating a relation WORKS_ON in the relational database sche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primary keys of the PROJECT and EMPLOYEE relations are included as foreign keys in WORKS_ON and renamed PNO and ESSN, respectively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ttribute HOURS in WORKS_ON represents the HOURS attribute of the relation type. The primary key of the WORKS_ON relation is the combination of the foreign key attributes {ESSN, PNO}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6: Mapping of Multivalued attribut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each multivalued attribute A, create a new relation R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s relation R will include an attribute corresponding to A, plus the primary key attribute K-as a foreign key in R-of the relation that represents the entity type of relationship type that has A as an attribute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rimary key of R is the combination of A and K. If the multivalued attribute is composite, we include its simple component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6: Mapping of Multivalued attribut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The relation DEPT_LOCATIONS is create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attribute DLOCATION represents the multivalued attribute LOCATIONS of DEPARTMENT, while DNUMBER-as foreign key-represents the primary key of the DEPARTMENT rel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rimary key of R is the combination of {DNUMBER, DLOCATION}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5867280" y="5661000"/>
            <a:ext cx="26672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7: Mapping of N-ary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ach n-ary relationship type R, where n&gt;2, create a new relationship S to represent 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 as foreign key attributes in S the primary keys of the relations that represent the participating entity typ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so include any simple attributes of the n-ary relationship type (or simple components of composite attributes) as attributes of S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pter Out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R-to-Relational Mapping Algorithm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1: Mapping of Regular Entity Typ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2: Mapping of Weak Entity Typ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3: Mapping of Binary 1:1 Relation Typ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4: Mapping of Binary 1:N Relationship Typ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5: Mapping of Binary M:N Relationship Typ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6: Mapping of Multivalued attribu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7: Mapping of N-ary Relationship Typ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apping EER Model Constructs to Relation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ep 8: Options for Mapping Specialization or Generaliza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7: Mapping of N-ary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elationship type SUPPY in the ER on the next sli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can be mapped to the relation SUPPLY shown in the relational schema, whose primary key is the combination of the three foreign keys {SNAME, PARTNO, PROJNAME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7: Mapping of N-ary Relationship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4989600" cy="1703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148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ummary of Mapping constructs and constrai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533240"/>
            <a:ext cx="7981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912600" y="2057400"/>
            <a:ext cx="73220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4617b"/>
                </a:solidFill>
                <a:latin typeface="Times New Roman"/>
              </a:rPr>
              <a:t>Table 7.1 Correspondence between ER and Relational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ER Model</a:t>
            </a: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4617b"/>
                </a:solidFill>
                <a:latin typeface="Arial"/>
              </a:rPr>
              <a:t>Relational Mod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Entity typ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“Entity” re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1:1 or 1:N relationship typ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Foreign key (or “relationship” rel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M:N relationship typ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“Relationship” relation and two foreign ke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4617b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-ary relationship typ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“Relationship” relation and n foreign ke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Simple attribut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Composite attribut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Set of simple component attrib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Multivalued attribut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Relation and foreign ke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Value set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Key attribute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4617b"/>
                </a:solidFill>
                <a:latin typeface="Times New Roman"/>
              </a:rPr>
              <a:t>Primary (or secondary) ke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apping EER Model Constructs to Rela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tep8: Options for Mapping Specialization or Generaliz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vert each specialization with m subclasses {S1, S2,….,Sm} and generalized superclass C, where the attributes of C are {k,a1,…an} and k is the (primary) key, into relational schemas using one of the four following option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4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ption 8A: Multiple relations-Superclass and subclas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4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ption 8B: Multiple relations-Subclass relations onl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4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ption 8C: Single relation with one type attribu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14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ption 8D: Single relation with multiple type attribu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Option 8A: Multiple relations-Superclass and subclass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reate a relation L for C with attributes Attrs(L) = {k,a1,…an} and PK(L) = k. Create a relation Li for each subclass Si, 1 &lt; i &lt; m, with the attributesAttrs(Li) = {k} U {attributes of Si} and PK(Li)=k. This option works for any specialization (total or partial, disjoint of over-lapping)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176040" y="609480"/>
            <a:ext cx="8596440" cy="1243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2514600" y="190512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3"/>
          <a:stretch/>
        </p:blipFill>
        <p:spPr>
          <a:xfrm>
            <a:off x="1828800" y="5257800"/>
            <a:ext cx="5638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Option 8B: Multiple relations-Subclass relations on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reate a relation Li for each subclass Si, 1 &lt; i &lt; m, with the attributes Attr(Li) = {attributes of Si} U {k,a1…,an} and PK(Li) = k. This option only works for a  specialization whose subclasses are total (every entity in the superclass must belong to (at least) one of the subclasses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176040" y="609480"/>
            <a:ext cx="8596440" cy="1243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2133720" y="2057400"/>
            <a:ext cx="5094000" cy="2338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3"/>
          <a:stretch/>
        </p:blipFill>
        <p:spPr>
          <a:xfrm>
            <a:off x="2057400" y="4876920"/>
            <a:ext cx="55627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ption 8C: Single relation with one type attribu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reate a single relation L with attributes Attrs(L) = {k,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…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 {attributes of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U {attributes of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 {t} and PK(L) = k. The attribute t is called a type (or </a:t>
            </a:r>
            <a:r>
              <a:rPr b="1" lang="en-US" sz="2700" spc="-1" strike="noStrike">
                <a:solidFill>
                  <a:srgbClr val="000000"/>
                </a:solidFill>
                <a:latin typeface="Constantia"/>
              </a:rPr>
              <a:t>discriminating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) attribute that indicates the subclass to which each tuple belong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617b"/>
                </a:solidFill>
                <a:latin typeface="Calibri"/>
              </a:rPr>
              <a:t>Step 1: Mapping of Regular Entity Typ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ep 1: Mapping of Regular Entity Typ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ach regular (strong) entity type E in the ER schema, create a relation R that includes all the simple attributes of 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ose one of the key attributes of E as the primary key for 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the chosen key of E is composite, the set of simple attributes that form it will together form the primary key of 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9095040" cy="1554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2819520" y="1905120"/>
            <a:ext cx="3429000" cy="2768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1219320" y="5410080"/>
            <a:ext cx="67816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8: Options for Mapping Specialization or General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ption 8D: Single relation with multiple type attribu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reate a single relation schema L with attributes Attrs(L) = {k,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…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 {attributes of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…U {attributes of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U {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 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} and PK(L) = k. Each 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, 1 &lt; I &lt; m, is a Boolean type attribute indicating whether a tuple belongs to the subclass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176040" y="609480"/>
            <a:ext cx="8596440" cy="124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4435560" cy="2689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3"/>
          <a:stretch/>
        </p:blipFill>
        <p:spPr>
          <a:xfrm>
            <a:off x="838080" y="5181480"/>
            <a:ext cx="77756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ER-to-Relational Mapp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pping of Shared Subclasses (Multiple Inheritanc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shared subclass, such as STUDENT_ASSISTANT, is a subclass of several classes, indicating multiple inheritance. These classes must all have the same key attribute; otherwise, the shared subclass would be modeled as a category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 can apply any of the options discussed in Step 8 to a shared subclass, subject to the restriction discussed in Step 8 of the mapping algorithm. Below both 8C and 8D are used for the shared class STUDENT_ASSISTA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4" descr="bklogo"/>
          <p:cNvPicPr/>
          <p:nvPr/>
        </p:nvPicPr>
        <p:blipFill>
          <a:blip r:embed="rId1"/>
          <a:stretch/>
        </p:blipFill>
        <p:spPr>
          <a:xfrm>
            <a:off x="8086680" y="228600"/>
            <a:ext cx="6764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bklogo"/>
          <p:cNvPicPr/>
          <p:nvPr/>
        </p:nvPicPr>
        <p:blipFill>
          <a:blip r:embed="rId1"/>
          <a:stretch/>
        </p:blipFill>
        <p:spPr>
          <a:xfrm>
            <a:off x="8086680" y="22860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1965240" y="152280"/>
            <a:ext cx="5691240" cy="65534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2971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ample: Mapping of Shared Subclasse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bklogo"/>
          <p:cNvPicPr/>
          <p:nvPr/>
        </p:nvPicPr>
        <p:blipFill>
          <a:blip r:embed="rId1"/>
          <a:stretch/>
        </p:blipFill>
        <p:spPr>
          <a:xfrm>
            <a:off x="8086680" y="228600"/>
            <a:ext cx="676440" cy="67644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9"/>
          <p:cNvGrpSpPr/>
          <p:nvPr/>
        </p:nvGrpSpPr>
        <p:grpSpPr>
          <a:xfrm>
            <a:off x="685800" y="1828800"/>
            <a:ext cx="7924680" cy="3132000"/>
            <a:chOff x="685800" y="1828800"/>
            <a:chExt cx="7924680" cy="3132000"/>
          </a:xfrm>
        </p:grpSpPr>
        <p:pic>
          <p:nvPicPr>
            <p:cNvPr id="279" name="Picture 6" descr=""/>
            <p:cNvPicPr/>
            <p:nvPr/>
          </p:nvPicPr>
          <p:blipFill>
            <a:blip r:embed="rId2"/>
            <a:stretch/>
          </p:blipFill>
          <p:spPr>
            <a:xfrm>
              <a:off x="685800" y="1828800"/>
              <a:ext cx="7772400" cy="31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7"/>
            <p:cNvSpPr/>
            <p:nvPr/>
          </p:nvSpPr>
          <p:spPr>
            <a:xfrm>
              <a:off x="3657600" y="3809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ajo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Text Box 8"/>
            <p:cNvSpPr/>
            <p:nvPr/>
          </p:nvSpPr>
          <p:spPr>
            <a:xfrm>
              <a:off x="7696080" y="29257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2971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ample: Mapping of Shared Subclasses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R DIA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68200" y="652320"/>
            <a:ext cx="8504280" cy="120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fig07_02"/>
          <p:cNvPicPr/>
          <p:nvPr/>
        </p:nvPicPr>
        <p:blipFill>
          <a:blip r:embed="rId2"/>
          <a:stretch/>
        </p:blipFill>
        <p:spPr>
          <a:xfrm>
            <a:off x="990720" y="1600200"/>
            <a:ext cx="736920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617b"/>
                </a:solidFill>
                <a:latin typeface="Calibri"/>
              </a:rPr>
              <a:t>Step 1: Mapping of Regular Entity Typ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: We create the relations EMPLOYEE, DEPARTMENT, and PROJECT in the relational schema corresponding to the regular entities in the ER diagra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SN, DNUMBER, and PNUMBER are the primary keys for the relations EMPLOYEE, DEPARTMENT, and PROJECT as show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2: Mapping of Weak Entity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 each weak entity type W in the ER schema with owner entity type E, create a relation R &amp; include all simple attributes (or simple components of composite attributes) of W as attributes of 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so, include as foreign key attributes of R the primary key attribute(s) of the relation(s) that correspond to the owner entity type(s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rimary key of R is the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combination of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the primary key(s) of the owner(s) and the partial key of the weak entity type W, if any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ep 2: Mapping of Weak Entity Typ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Create the relation DEPENDENT in this step to correspond to the weak entity type DEPEND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clude the primary key SSN of the EMPLOYEE relation as a foreign key attribute of DEPENDENT (renamed to ESSN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primary key of the DEPENDENT relation is the combination {ESSN, DEPENDENT_NAME} because DEPENDENT_NAME is the partial key of DEPEND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ep 3: Mapping of Binary 1:1 Relation Typ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each binary 1:1 relationship type R in the ER schema, identify the relations S and T that correspond to the entity types participating in 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20:51:27Z</dcterms:created>
  <dc:creator>Bernard Chen</dc:creator>
  <dc:description/>
  <dc:language>en-US</dc:language>
  <cp:lastModifiedBy>balqrashi</cp:lastModifiedBy>
  <dcterms:modified xsi:type="dcterms:W3CDTF">2016-10-02T09:03:0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