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80F0-5B76-42FE-A377-695C6DA12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6751-FF49-4439-9D85-123FC26AA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B7D3-EADD-4A6F-BB7D-FD9A04CF1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829-CD84-4013-B093-004EA82A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A897-A9D3-45AA-B491-AA4EDBE3A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01D-A510-4372-B0B5-AD692156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56F-E221-4051-9F6D-E8FC212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C05-4472-4CDF-AB05-E1CC4F6C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B23-3815-4375-B684-4419DCBB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634B-B54A-439F-BCE3-93CB3A01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C43-3897-4178-BDAD-340AE4CD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A69E-ED75-48AD-9698-FC18BAE0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1C17-3EBB-4E5A-ADC8-944FBD1C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9D06-D8BF-4AF9-ACD7-F034C47B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9840-9706-4EB9-9B71-ED2E8CF8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8878-2CA5-4B06-AE1F-AFEEA3EB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B4D-72C8-498B-93BF-AFD65EF5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AE74-6BAD-4306-8160-AC84003D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B9DE-DA7E-4B1E-821E-1A064BED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76B0-CDAF-4FE2-BB14-F93CBC92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8AA0-15D4-491B-92F5-CF5A852E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57F0-FB55-426B-B7B6-729E49E6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3A73-05C4-4C11-BC2C-5C16F3D1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724CB-3D69-40F0-8670-CC9DB390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BEA1A-F257-4A00-8656-77193A19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B18B-D327-42F3-82F2-133351C7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D779A-9799-4301-9528-87E3816E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2ED-B21E-46EA-8A48-EC016BB2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3F4B-00C1-42BE-9FD8-8F216C16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7FA7-805B-4D93-999E-FEEAF14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9336-EFC8-4424-8DE2-3BDC28C2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731F6-B905-4734-99A7-E2D45985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C3E7-6AE8-4100-8402-0BCD2D52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A688-D935-42BA-B6B7-C1764896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0FD36-7EB3-4484-8227-7CFB88F7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B3CA6-7175-43F5-8BB0-083EC7F8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01A31-85CF-4FAC-9104-66423E93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8C88E-78C2-451B-95C1-E0EC3D75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6FD-192B-443E-9450-B757CB48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32E0-63F1-451D-9D10-11A1A913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FA3B5-24A6-4D0E-B522-91B3B7C7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815EC-EA1E-4F7D-8532-14A19D30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F6E1-E6F0-43F7-BC9F-28CE4C64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DF1F-D5BD-40A7-9E6D-6C365EAF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2826-7277-4845-B692-E343703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7C024-4D60-46B1-BBA6-16C75522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4475-6F68-4020-BDB6-F8208054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43DB3-BA30-4639-8871-E1C23604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1E4-A0A8-4BFF-B804-F199FCC1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06E-C136-43C7-BB29-70B3D789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022-6F66-42EA-B0AE-C6590E84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AFE-4494-4B11-B9A3-43BF62B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4BA-8536-4730-9403-05B36391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84DF-7CDA-448E-8BC0-7085B6C3B35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B6EE-DA07-4EC0-9F6F-F218DF7F957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6E05-BD07-4304-9338-2006031F328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E79B-40A4-4AD9-8347-49973114CF1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353880" y="2511360"/>
            <a:ext cx="8034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 3: Mapping of Binary 1:1 Relation Typ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reign Key approach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hoose one of the relations-say S-and include a foreign key in S the primary key of T. It is better to choose an entity typ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ota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particip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 R in the role of 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1:1 relation MANAGES is mapped by choosing the participating entity type DEPARTMENT to serve in the role of S, because its participation in the MANAGES relationship type is tota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R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268200" y="652320"/>
            <a:ext cx="8504280" cy="1200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fig07_02"/>
          <p:cNvPicPr/>
          <p:nvPr/>
        </p:nvPicPr>
        <p:blipFill>
          <a:blip r:embed="rId2"/>
          <a:stretch/>
        </p:blipFill>
        <p:spPr>
          <a:xfrm>
            <a:off x="990720" y="1600200"/>
            <a:ext cx="736920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4: Mapping of Binary 1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regular binary 1:N relationship type R, identify the relation S that represent the participating entity type at the N-side of the relationship typ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s foreign key in S the primary key of the relation T that represents the other entity type participating in 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ny simple attributes of the 1:N relation type as attributes of 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4: Mapping of Binary 1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1:N relationship types WORKS_FOR, CONTROLS, and SUPERVISION in the figu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WORKS_FOR we include the primary key DNUMBER of the DEPARTMENT relation as foreign key in the EMPLOYEE relation and call it DN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5: Mapping of Binary M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each regular binary M:N relationship type R,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reate a new relat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S to represent 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clude as foreign key attributes in S the primary keys of the relations that represent the participating entity types;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their combination will form the primary key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of 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so include any simple attributes of the M:N relationship type (or simple components of composite attributes) as attributes of 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5: Mapping of Binary M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: The M:N relationship type WORKS_ON from the ER  diagram is mapped by creating a relation WORKS_ON in the relational database sche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primary keys of the PROJECT and EMPLOYEE relations are included as foreign keys in WORKS_ON and renamed PNO and ESSN, respective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ttribute HOURS in WORKS_ON represents the HOURS attribute of the relation type. The primary key of the WORKS_ON relation is the combination of the foreign key attributes {ESSN, PNO}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6: Mapping of Multivalued attribu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each multivalued attribute A, create a new relation 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relation R will include an attribute corresponding to A, plus the primary key attribute K-as a foreign key in R-of the relation that represents the entity type of relationship type that has A as an attribute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combination of A and K. If the multivalued attribute is composite, we include its simple component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6: Mapping of Multivalued attribu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he relation DEPT_LOCATIONS is creat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attribute DLOCATION represents the multivalued attribute LOCATIONS of DEPARTMENT, while DNUMBER-as foreign key-represents the primary key of the DEPARTMENT rel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combination of {DNUMBER, DLOCATION}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5867280" y="5661000"/>
            <a:ext cx="26672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n-ary relationship type R, where n&gt;2, create a new relationship S to represent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s foreign key attributes in S the primary keys of the relations that represent the participating entity typ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 include any simple attributes of the n-ary relationship type (or simple components of composite attributes) as attributes of S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R-to-Relational Mapping Algorithm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1: Mapping of Regular Entity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2: Mapping of Weak Entity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3: Mapping of Binary 1:1 Relation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4: Mapping of Binary 1:N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5: Mapping of Binary M:N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6: Mapping of Multivalued attribu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7: Mapping of N-ary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pping EER Model Constructs to Relation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8: Options for Mapping Specialization or Generaliz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lationship type SUPPY in the ER on the next sli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an be mapped to the relation SUPPLY shown in the relational schema, whose primary key is the combination of the three foreign keys {SNAME, PARTNO, PROJNAME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4989600" cy="1703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148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ummary of Mapping constructs and constrai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533240"/>
            <a:ext cx="7981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12600" y="2057400"/>
            <a:ext cx="7322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4617b"/>
                </a:solidFill>
                <a:latin typeface="Times New Roman"/>
              </a:rPr>
              <a:t>Table 7.1 Correspondence between ER and Relational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ER Model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Relational Mod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Entity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Entity” re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1:1 or 1:N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Foreign key (or “relationship” rel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M:N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Relationship” relation and two foreign ke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4617b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-ary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Relationship” relation and n foreign ke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Simple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Composite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Set of simple component attrib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Multivalued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Relation and foreign ke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Value set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Key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Primary (or secondary) ke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apping EER Model Constructs to Rel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tep8: Options for Mapping Specialization or Generaliz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vert each specialization with m subclasses {S1, S2,….,Sm} and generalized superclass C, where the attributes of C are {k,a1,…an} and k is the (primary) key, into relational schemas using one of the four following opt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A: Multiple relations-Superclass and subclas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B: Multiple relations-Subclass relations onl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C: Single relation with one type attribu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D: Single relation with multiple type attribu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Option 8A: Multiple relations-Superclass and subclass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reate a relation L for C with attributes Attrs(L) = {k,a1,…an} and PK(L) = k. Create a relation Li for each subclass Si, 1 &lt; i &lt; m, with the attributesAttrs(Li) = {k} U {attributes of Si} and PK(Li)=k. This option works for any specialization (total or partial, disjoint of over-lapping)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3"/>
          <a:stretch/>
        </p:blipFill>
        <p:spPr>
          <a:xfrm>
            <a:off x="1828800" y="5257800"/>
            <a:ext cx="5638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Option 8B: Multiple relations-Subclass relations on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reate a relation Li for each subclass Si, 1 &lt; i &lt; m, with the attributes Attr(Li) = {attributes of Si} U {k,a1…,an} and PK(Li) = k. This option only works for a  specialization whose subclasses are total (every entity in the superclass must belong to (at least) one of the subclasses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5094000" cy="2338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3"/>
          <a:stretch/>
        </p:blipFill>
        <p:spPr>
          <a:xfrm>
            <a:off x="2057400" y="4876920"/>
            <a:ext cx="55627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ption 8C: Single relation with one type attribu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reate a single relation L with attributes Attrs(L) = {k,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…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t} and PK(L) = k. The attribute t is called a type (or </a:t>
            </a:r>
            <a:r>
              <a:rPr b="1" lang="en-US" sz="2700" spc="-1" strike="noStrike">
                <a:solidFill>
                  <a:srgbClr val="000000"/>
                </a:solidFill>
                <a:latin typeface="Constantia"/>
              </a:rPr>
              <a:t>discriminating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) attribute that indicates the subclass to which each tuple belong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Step 1: Mapping of Regular Entity Typ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ep 1: Mapping of Regular Entity Typ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regular (strong) entity type E in the ER schema, create a relation R that includes all the simple attributes of 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ose one of the key attributes of E as the primary key for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chosen key of E is composite, the set of simple attributes that form it will together form the primary key of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9095040" cy="1554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2819520" y="1905120"/>
            <a:ext cx="3429000" cy="2768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1219320" y="5410080"/>
            <a:ext cx="67816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ption 8D: Single relation with multiple type attribu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reate a single relation schema L with attributes Attrs(L) = {k,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…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…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and PK(L) = k. Each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 1 &lt; I &lt; m, is a Boolean type attribute indicating whether a tuple belongs to the subclass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4435560" cy="2689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838080" y="5181480"/>
            <a:ext cx="77756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ER-to-Relational Mapp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pping of Shared Subclasses (Multiple Inheritanc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shared subclass, such as STUDENT_ASSISTANT, is a subclass of several classes, indicating multiple inheritance. These classes must all have the same key attribute; otherwise, the shared subclass would be modeled as a categor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 can apply any of the options discussed in Step 8 to a shared subclass, subject to the restriction discussed in Step 8 of the mapping algorithm. Below both 8C and 8D are used for the shared class STUDENT_ASSIST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4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1965240" y="152280"/>
            <a:ext cx="5691240" cy="65534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2971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ample: Mapping of Shared Subclasse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9"/>
          <p:cNvGrpSpPr/>
          <p:nvPr/>
        </p:nvGrpSpPr>
        <p:grpSpPr>
          <a:xfrm>
            <a:off x="685800" y="1828800"/>
            <a:ext cx="7924680" cy="3132000"/>
            <a:chOff x="685800" y="1828800"/>
            <a:chExt cx="7924680" cy="3132000"/>
          </a:xfrm>
        </p:grpSpPr>
        <p:pic>
          <p:nvPicPr>
            <p:cNvPr id="279" name="Picture 6" descr=""/>
            <p:cNvPicPr/>
            <p:nvPr/>
          </p:nvPicPr>
          <p:blipFill>
            <a:blip r:embed="rId2"/>
            <a:stretch/>
          </p:blipFill>
          <p:spPr>
            <a:xfrm>
              <a:off x="685800" y="1828800"/>
              <a:ext cx="7772400" cy="31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7"/>
            <p:cNvSpPr/>
            <p:nvPr/>
          </p:nvSpPr>
          <p:spPr>
            <a:xfrm>
              <a:off x="3657600" y="3809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jo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Text Box 8"/>
            <p:cNvSpPr/>
            <p:nvPr/>
          </p:nvSpPr>
          <p:spPr>
            <a:xfrm>
              <a:off x="7696080" y="29257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2971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ample: Mapping of Shared Subclasse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R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68200" y="652320"/>
            <a:ext cx="8504280" cy="12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fig07_02"/>
          <p:cNvPicPr/>
          <p:nvPr/>
        </p:nvPicPr>
        <p:blipFill>
          <a:blip r:embed="rId2"/>
          <a:stretch/>
        </p:blipFill>
        <p:spPr>
          <a:xfrm>
            <a:off x="990720" y="1600200"/>
            <a:ext cx="736920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Step 1: Mapping of Regular Entity Typ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We create the relations EMPLOYEE, DEPARTMENT, and PROJECT in the relational schema corresponding to the regular entities in the ER diagr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SN, DNUMBER, and PNUMBER are the primary keys for the relations EMPLOYEE, DEPARTMENT, and PROJECT as show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2: Mapping of Weak Entity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each weak entity type W in the ER schema with owner entity type E, create a relation R &amp; include all simple attributes (or simple components of composite attributes) of W as attributes of 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so, include as foreign key attributes of R the primary key attribute(s) of the relation(s) that correspond to the owner entity type(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ombination of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the primary key(s) of the owner(s) and the partial key of the weak entity type W, if an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2: Mapping of Weak Entity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Create the relation DEPENDENT in this step to correspond to the weak entity type DEPEND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clude the primary key SSN of the EMPLOYEE relation as a foreign key attribute of DEPENDENT (renamed to ESSN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the DEPENDENT relation is the combination {ESSN, DEPENDENT_NAME} because DEPENDENT_NAME is the partial key of DEPEND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 3: Mapping of Binary 1:1 Relation Typ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each binary 1:1 relationship type R in the ER schema, identify the relations S and T that correspond to the entity types participating in 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0:51:27Z</dcterms:created>
  <dc:creator>Bernard Chen</dc:creator>
  <dc:description/>
  <dc:language>en-US</dc:language>
  <cp:lastModifiedBy>balqrashi</cp:lastModifiedBy>
  <dcterms:modified xsi:type="dcterms:W3CDTF">2016-10-02T09:03:0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