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616700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C4DB-FD17-4527-8881-0BD8E9EF3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490A-CA20-42A4-BB33-87E15BFAEFD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45D2FB-963F-4694-860C-A930698C62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652382-B4A5-459A-BE85-A8CFFF15F92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D74830-9A4B-4FB7-BE7F-F2C7467CA45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89EC32-4D0F-4A13-A470-4254BABFE9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F6E9D-632B-4574-97C5-A852CA643F4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1D68DD-0EC4-4DA9-AB8F-59C260758CE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10E52F-F69C-49F9-A6A3-0DB731022D2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101F8-CC9D-4222-AD79-7D832F22BF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C48B8F-EFD1-4E77-AC1C-B441FF70C0B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3D0DB-D0E4-4C0F-8834-8CB1DAE3F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99169-161A-41CE-A1F3-A3A35088B4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0EE028-A86F-479B-87B3-00AF9A368F7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9D734-B40F-4120-8D5E-6DD8CFBEAA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61A7C-2350-4DB6-82EE-DE74CCDEC8D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4EE9BC-E39C-4398-8463-0DD05C5A26F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7D5AE-BD92-4C32-9D77-A74147C42F2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9C65A-2217-4EA4-8937-6817404A0E8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9D872-F434-4715-A212-8E37CE1F7C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4B248-CF39-4976-A815-9374A310B3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2E7AF-1EA1-4E59-9190-353B3482417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C3FB66-8729-426C-997A-24728C61B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998D-D5EE-4B0A-BC4B-E0B086017FF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84F66C-4367-41DB-8CF7-7400F946258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11B44-3857-4898-BB7D-C639783E64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768CA-AF4A-4E46-A2C3-75BA85C09CA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C33D3-77F7-4EC4-B2B5-123E8B92DD9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C956A-E1FE-42AA-981E-BE20375138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0EEB8-DFFB-451C-857E-C8D5CAE945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28C8-CFC4-463E-B825-A90FA892BA3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5189-55C8-4A94-8787-77E8CFFE1D0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47960-8DE7-4118-987E-C1BF07E681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33CE-CC40-4852-A060-CC6F715FE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51D5-8FB2-47E3-8244-913B66A1DE6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3D0C-BF33-4853-9BE6-862EAE7CFEC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E0B4-F845-4CAB-B60A-CF342575B88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5E4A-58E1-4E1B-B3DC-3D60D8FA60B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75AEB8-0F6B-4097-AD19-93D2161E8F8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1C882C-5B19-40D7-83B2-CBC8BF363C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B1CB7-0E49-416C-AFD6-3A284659E3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DCE274-AC93-45F8-95AC-F4181B659DD7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48FA46-AA32-4ACA-A08F-1BC1BF14F4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9EA9BE-CFE7-469E-876E-D61873D4364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CCCFB-22F8-42A6-8414-DAD2036D42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0A5-1F12-4E44-B26B-427BB2F14A2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6785EC-323C-4050-9563-70ABED9FCE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56A590-23FF-44D0-950C-C2863072436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FAC5B3-FB7B-407F-AF26-FACAD35C1C1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819678-A456-47E2-873F-7FAA2B6D181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3ACD4-C4A0-4828-A9D5-7F9C722119E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2AA34-240F-432F-B3AE-B4C4F4C8B5C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BCA66-CEC8-4889-AA1E-7C60F59FA30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F7017-EAF0-4A78-9AC1-44F5F3B960E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7B3A2A-CC5F-4740-95FD-27A26F289B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9E174-6962-4B42-8C73-86C5D2DE01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E697-DAD1-46AC-892F-D0A6351F055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384590-4200-49BF-AF7A-7CA299F48F7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9CA333-3A67-4E58-A6DA-5F576D74B8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9EC24-6040-4A58-8031-840E6728E46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E094E-F1EA-4FEF-9AAA-C03DD4533B2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AE9F9-022A-4788-A433-BBF5847B08C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E05AE-4FE9-4BE6-88F0-CF1223356BA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90715-70CB-49D5-B598-04694B9EC12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2515F-9E97-46EF-A353-2AD991503631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E98C-2F72-46E7-8357-2BBF9B203ED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71A75-4B4E-4EBE-9E9D-DD201D611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128-BBB5-436F-B481-829D8F0ABDC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11319-11FE-4CA0-AA29-BABF7F8CC2A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4B94B-7413-484D-8042-0C0CC368F19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DC25A-4300-4C3B-B278-A5096CA4D00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A4B7F-993B-4E07-8371-D412C114EEC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2BD7-6EA5-439B-BF2B-EB95D0A78D2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9539B-55D8-47AD-96B8-C4FE126C001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D7701-5C6D-4693-A239-A857C553F3A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7BFEA-FF05-4F2B-A672-D961010CEF8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DDC3F-6BBD-4937-AF2D-C2723D2AA51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249AA3-3E07-44A3-8896-8E8AA7BB2B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BBB-C6B9-4DC6-8A05-C1E2E8568E4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BB2D70-CB94-4D18-90FD-679FD48FCB8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E6F643-9FEF-42DC-90E7-7830A224B06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C770CF-6CDA-46CB-9CA8-D12F41AAEB2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258D9C-6CF4-473F-8EE5-FF4ADBD8A20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92F381-2B72-4421-BEC8-6E13285F805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27526-06DA-4BB3-8563-B8F00190314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2532CB-4836-4AAF-85EC-5FDB958BAA3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98C100-A4F9-4234-BBC6-C1438B1785A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0DD129-77C5-47E6-A749-45FDA39E48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A8BBBA-86DC-437F-BAEF-2992247516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ECD-E0AB-4766-B75F-28B0A419236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51429-2810-4DD9-9444-0E978764A8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1C0C-AACB-4390-9C86-8E38A800D1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F33D-4C3C-4A83-8263-E06F34875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FA92-11DF-40BD-885A-38309B7A38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C1F4-D1CB-4373-B51E-B7F48B0C34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4027-CC53-4987-B4D3-2199699122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63A-1B27-4F11-BCBA-280DA05F93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465-9251-4E8A-BBF1-C4C8D0EFFE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1563B-73AD-487B-8E1A-BA0619BC36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FD096-441E-4A65-8248-059A63C5CC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1B56B-2943-479E-8311-5F7D3BBAEFD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9A518-3A4B-436F-B75D-F5D9C9D809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1768D-4142-4FB5-9E41-56C7B38CA9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5FB3-000F-4A5C-A7E6-B0140A84571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7D286-D5B9-42C8-9120-EC00745D80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8ED8A-948F-478E-8AB0-54372A4FB90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40062-56EC-4566-A0E0-B30606744E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FAF68-9705-42FF-B3C6-81B504D65E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5781E-0269-4E84-9BDD-57E0E4B30A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1EFDF-F616-4A27-A3A9-C22A579A1D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25F05-1C88-49D3-A92A-0A9E52FAAA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F4023-2429-44E3-BF9D-FE7E748806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4B60-DF33-4BC7-A844-B0C6F7F698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B5DA7-E139-4E11-951D-FA9F20F29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CB5C-4750-42B4-ABC6-2DB3664F97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C8697-A802-4EC0-A7C7-F6667B56950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33E4E-7240-46A3-B3F2-233F7F43EB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B7AF5-601A-4D7D-A18E-F8911749276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771B6-A56A-4ED1-99FD-9A1205C313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20800-77DF-423C-A03E-870079BC0E2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E1537-A786-4453-872C-5D5C21F108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979F4-75D5-4C58-8F49-4CA2456508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0B1A0-34F0-499A-A99C-55FBFC5FCC0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CD12-303C-4297-88E1-B0F0A7BAD9C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237E-A2BC-4351-A26B-D2A6A82DF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CA002-629C-4F75-B64E-CD0AA0996E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3D04-B4A6-4540-BD81-D94D60C80E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C47F3-71A6-4D6A-8D5B-61A171B775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37E1-56C7-4846-A65D-DC52B3324A5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063C-450F-4EB0-9EB7-0251D3565F6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E0CA-614D-42F0-9651-BDAA2F97F00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458C-9219-40AB-AC80-1D4F87DF561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CF8C-F300-4405-85A1-77701EC6023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A237-0778-4011-95FF-095620A5F91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F5ED-D438-4F7B-83BC-044322D104B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96A7-3F5A-4C6F-BDF0-463B38650F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829B-C73F-4BD4-A44A-8F8551DE73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37C0-7E4C-4493-AC5B-9BD5A9E524B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9F9AC6-CFC2-459D-A295-170933CC4C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092CB8-425D-466C-ADE1-302FF0C8DCF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BC40B-16E9-4A0B-9E04-2EC3FCE691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49E22E-4B9F-4AD6-9A2C-62866582D5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622862-A29F-459A-BD1A-7AFCD22D59F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29CF3-52F3-4312-8B04-D5A9D50020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4666E-1144-4B5A-B37A-428EED3CED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7D0EA2-3FD5-4D5F-A8D7-B63EEF9F227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B736FC-138D-4EEA-9048-837BDD848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65BB3-F554-46C3-8ED9-F880F31863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0FC186-DE37-46CD-8457-B4CDEC2D7CF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8485E-6CFA-4BA8-891E-796C8A4887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5881E-ED70-4C83-95A0-6231582C94B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0B353-CDD3-47C3-84EA-D8899F2DF45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0014F-DC9B-4F63-88D1-C1840A47857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FEB77-7ED4-48CB-BE88-AAC801B9756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C5DDF-5B41-4C6D-B29A-CB0F25A606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4A772-2315-401C-9417-E4F0D97C32E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D8CD6-B42C-4D87-BAB1-B8A9E93A1E7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E40C77-B448-4A8A-AF15-31B7D867A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9732-989A-4497-BA5F-85A921DF36D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9D98E-19C8-432D-8739-F22C3E4C3F5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9786C6-5BE1-4E29-83C0-F9A0F72DB3F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FCCE0B-DE79-4EAB-8E99-ED68A7C43F5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CF3B2-CA61-40B3-AB5B-E0379820BA7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86236-2E96-4EBD-963E-389CBB28EF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855B-A17B-4F43-8714-1FF4DF1D38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B86A5-3967-4816-998A-816F17DD838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53691-65F0-436E-9F20-871081F30FD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35A0-DC7D-45FC-B320-1798085CEF6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EC418-DC2F-4C13-83AE-B8606629C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B499-7D88-4433-B50D-43751FF6C08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F6E4-00EE-4A62-9350-50F9AEB99F1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429C-BFE6-4A2B-ABED-0ED2BFD1006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4922B-3D1F-4122-A282-446FB9E289A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09BE-483F-4E10-802E-963628CEE4A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C2FA1-519A-4CBD-9CC4-EFA6AFA9EC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5059-B690-4302-90D7-954B5DD5C6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2CD1E-F1DA-454A-A36F-F2A54CE2233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42257E-53DE-48E8-A330-25647D75560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7CF79A-E0FE-4B2F-BF56-0DB6C3FCB75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1A311-E1C7-45C6-8CA3-D4AD8F46B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CFF8-7054-452B-AE15-76D545E4FA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364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a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a0"/>
                </a:solidFill>
                <a:latin typeface="Times New Roman"/>
              </a:rPr>
              <a:t>IT222 DataBas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sldNum" idx="1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F485-F7CF-454B-96FE-4021E64EFD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845-BC4A-4E69-85C0-6B5522608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1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868C-7A54-4F02-B369-DE17EAFA4F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14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EFAC-E03F-41D6-978A-9D1BBBCB69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1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8C72-122D-40F4-8DC2-81BF24949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Num" idx="1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BFA1-5B05-42D1-AA8A-DDD616B7D4F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6F2E-C48A-498B-9362-BCFB2BA853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26DC-E8EE-4870-9045-15BDADBD3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5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C667-820F-4D48-9B8F-6700AFED08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6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0D8F-FC3F-4C2E-B53F-33DF2D9968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7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961F-B06B-4B65-BFCF-09D90E4F3A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8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C89F-DAC1-4130-B8F1-087DE6F0AB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9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FEA5-CBC2-4DC8-B33A-AEB77DF5A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sldNum" idx="10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CE16-2D88-4B00-8D13-3D0554237B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C95-9D9A-4E35-A30B-5F0A4A7C753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base Environm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, Mappings, and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8AED-F5E2-4185-82B6-DBBB8E55A00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38088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Mapping 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is the process of transforming requests and results between  the Internal, Conceptual &amp; External level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Programs refer to an external schema, and are mapped by the DBMS to the internal schema for exec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635040" indent="-17784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Data extracted from the internal DBMS level is reformatted to match the user’s external vie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imes New Roman"/>
              </a:rPr>
              <a:t>Two types of mapping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External / Conceptu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66"/>
                </a:solidFill>
                <a:latin typeface="Times New Roman"/>
              </a:rPr>
              <a:t>– </a:t>
            </a:r>
            <a:r>
              <a:rPr b="0" lang="en-US" sz="1900" spc="-1" strike="noStrike">
                <a:solidFill>
                  <a:srgbClr val="000066"/>
                </a:solidFill>
                <a:latin typeface="Times New Roman"/>
              </a:rPr>
              <a:t>Conceptual / Internal mapping.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76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lvl="2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3" name="Content Placeholder 13"/>
          <p:cNvGrpSpPr/>
          <p:nvPr/>
        </p:nvGrpSpPr>
        <p:grpSpPr>
          <a:xfrm>
            <a:off x="457200" y="2174760"/>
            <a:ext cx="4040280" cy="3311640"/>
            <a:chOff x="457200" y="2174760"/>
            <a:chExt cx="4040280" cy="3311640"/>
          </a:xfrm>
        </p:grpSpPr>
        <p:sp>
          <p:nvSpPr>
            <p:cNvPr id="634" name="Rectangle 15"/>
            <p:cNvSpPr/>
            <p:nvPr/>
          </p:nvSpPr>
          <p:spPr>
            <a:xfrm>
              <a:off x="3702240" y="2174760"/>
              <a:ext cx="795240" cy="7160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35" name="Picture 6" descr="fig02_01"/>
            <p:cNvPicPr/>
            <p:nvPr/>
          </p:nvPicPr>
          <p:blipFill>
            <a:blip r:embed="rId1"/>
            <a:srcRect l="0" t="18243" r="19610" b="0"/>
            <a:stretch/>
          </p:blipFill>
          <p:spPr>
            <a:xfrm>
              <a:off x="457200" y="2255400"/>
              <a:ext cx="3775320" cy="323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37" name="Content Placeholder 16" descr="fig01_02"/>
          <p:cNvPicPr/>
          <p:nvPr/>
        </p:nvPicPr>
        <p:blipFill>
          <a:blip r:embed="rId2"/>
          <a:stretch/>
        </p:blipFill>
        <p:spPr>
          <a:xfrm>
            <a:off x="4950000" y="2174760"/>
            <a:ext cx="3431880" cy="3951360"/>
          </a:xfrm>
          <a:prstGeom prst="rect">
            <a:avLst/>
          </a:prstGeom>
          <a:ln w="0">
            <a:noFill/>
          </a:ln>
        </p:spPr>
      </p:pic>
      <p:sp>
        <p:nvSpPr>
          <p:cNvPr id="638" name="Slide Number Placeholder 10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7E15-B6E9-4696-8AB9-E41237E730FD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DAFE-1DB7-446D-ABB6-1CD58E7C15E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Log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external schemas to changes in conceptu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ceptual schema changes (e.g. addition/removal of entiti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s to external schema or rewrites of application programs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0E8-D6BA-411A-8A40-8145E290440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Independ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Refers to immunity of conceptual schema to changes in the internal schema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Internal schema changes (e.g. using different file organizations, storage structures/devices)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hould not require change to conceptual or external schema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E562-9F11-4B8A-949D-72ED93EDAA0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Independence and the 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47" name="Picture 6" descr="C02NF03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10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A3AC-945A-45B4-A866-41817A70462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Definition Language (DD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lows the DBA or user to describe and name entities, attributes, and relationships required for the application together with any associated integrity and security constraints.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is a descriptive language for defining and constructing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llows users to specify the data types and structures and the constraints on the data to be stored in the DB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DL compiler generates the meta-data that is stored in the data dictionar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88CC-B8DA-4A50-BEDA-C43BE7CD42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anipulation Language (DML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Provides basic data manipulation operations on data held i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DML is a language for retrieving and updating (insert, delete, &amp; modify) the data in the DB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Types of DML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Procedural Language (3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and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tell system exactly how to manipulate data.) Ex:Ja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2343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Nonprocedural Language(4GL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user specifies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what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data is required without specifying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to get those data(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allows user to state what data is needed rather than how it is to be retrieved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) Ex:SQ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E8B7-EEE5-4DD1-B27B-CFB2E4A478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Both DDL and DML are usually not considered distinct languages. Rather, they are included in a comprehensive integrated langu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r example,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QL relational database languag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s a comprehensive DB language which represents a combination of DDL and DM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7661-1D7D-407B-879C-EF1186404BB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base Languag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BMS have a facility for embedding DDL &amp; DML (sub-languages) in a High-Level Language (COBOL, C, C++ or Java), which in this case is considered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host langua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1752480" y="3887640"/>
            <a:ext cx="1524240" cy="1447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4876920" y="4497480"/>
            <a:ext cx="12189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M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8"/>
          <p:cNvSpPr/>
          <p:nvPr/>
        </p:nvSpPr>
        <p:spPr>
          <a:xfrm>
            <a:off x="1981080" y="4497480"/>
            <a:ext cx="990720" cy="3808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ll to D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1675080" y="350676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,C++,Lisp,.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2971800" y="4649760"/>
            <a:ext cx="1905120" cy="2286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981080" y="4268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14"/>
          <p:cNvSpPr/>
          <p:nvPr/>
        </p:nvSpPr>
        <p:spPr>
          <a:xfrm>
            <a:off x="1981080" y="503064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AutoShape 15"/>
          <p:cNvSpPr/>
          <p:nvPr/>
        </p:nvSpPr>
        <p:spPr>
          <a:xfrm>
            <a:off x="7086600" y="4421160"/>
            <a:ext cx="533520" cy="838080"/>
          </a:xfrm>
          <a:prstGeom prst="flowChartMagneticDisk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Rectangle 16"/>
          <p:cNvSpPr/>
          <p:nvPr/>
        </p:nvSpPr>
        <p:spPr>
          <a:xfrm>
            <a:off x="1752480" y="5335560"/>
            <a:ext cx="152424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Va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emory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3276720" y="5106960"/>
            <a:ext cx="1600200" cy="45720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6095880" y="48783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752480" y="3952800"/>
            <a:ext cx="1600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Progr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>
            <a:off x="1981080" y="442116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14"/>
          <p:cNvSpPr/>
          <p:nvPr/>
        </p:nvSpPr>
        <p:spPr>
          <a:xfrm>
            <a:off x="1981080" y="5183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D061-492D-4280-9B47-5DADC18059A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2560" y="1676520"/>
            <a:ext cx="819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ated collection of concepts for describing data, relationships between data, and constraints on the data in an organiz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o represent data in an understandable wa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Model compris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structural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a manipulative part;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15360" indent="-31536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ossibly a set of integrity rul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514D-7FAF-48C7-A479-56221965462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2 - Objectiv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three-level database architectu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Contents of external, conceptual, and internal lev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 of external/conceptual and  conceptual/internal mapping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Meaning of logical and physical data independe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Distinction between DDL and DM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A classification of data mod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Purpose/importance of conceptual modell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Typical functions and services a DBMS should provi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ceptual data models (Object-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construction of an enterprise’s information that is independent of implementation detail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entity-based or object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logical description of an enterprise’s information with  high level description of the impleme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571320" indent="-2055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lso called record-based data model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571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ysical data models: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s the physical description of how data is stored in the comput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EFBE-7B61-46CE-BA8E-E712119ADCA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21ef"/>
                </a:solidFill>
                <a:latin typeface="Times New Roman"/>
              </a:rPr>
              <a:t>Categories of 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81" name="Slide Number Placeholder 3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0E5-E94D-4FE0-833D-43AD3E3EC4FA}" type="slidenum"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4038480" y="487692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Physical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4038480" y="342900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Logic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5"/>
          <p:cNvSpPr/>
          <p:nvPr/>
        </p:nvSpPr>
        <p:spPr>
          <a:xfrm>
            <a:off x="4724280" y="4114800"/>
            <a:ext cx="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4038480" y="1752480"/>
            <a:ext cx="1447920" cy="685800"/>
          </a:xfrm>
          <a:prstGeom prst="flowChart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onceptu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7"/>
          <p:cNvSpPr/>
          <p:nvPr/>
        </p:nvSpPr>
        <p:spPr>
          <a:xfrm>
            <a:off x="4800600" y="2438280"/>
            <a:ext cx="0" cy="990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814320" y="4846680"/>
            <a:ext cx="229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792000" y="33526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792000" y="1752480"/>
            <a:ext cx="249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Hard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oftware independe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B8D-EF32-4246-B3B6-1C588EA4DD0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ata Mod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728120" cy="470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ceptual data models (Object-based)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Entity-Relationsh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Semant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Function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ogical data models (Record_based):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Relation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Network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ierarchical Data Mod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14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hysical Data Model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AD4B-9C6B-4F58-AA24-2319F7D189B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5" name="Picture 4" descr="C02NF04"/>
          <p:cNvPicPr/>
          <p:nvPr/>
        </p:nvPicPr>
        <p:blipFill>
          <a:blip r:embed="rId1"/>
          <a:stretch/>
        </p:blipFill>
        <p:spPr>
          <a:xfrm>
            <a:off x="755640" y="1557360"/>
            <a:ext cx="5832360" cy="4692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A180-5A4D-41A6-9B3E-E1588D2D3DD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Network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98" name="Picture 5" descr="C02NF05"/>
          <p:cNvPicPr/>
          <p:nvPr/>
        </p:nvPicPr>
        <p:blipFill>
          <a:blip r:embed="rId1"/>
          <a:stretch/>
        </p:blipFill>
        <p:spPr>
          <a:xfrm>
            <a:off x="395280" y="1628640"/>
            <a:ext cx="8209080" cy="35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82DE-A90F-4CAA-960C-DDEDAEE00F3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cord-Based Data Models</a:t>
            </a:r>
            <a:br>
              <a:rPr sz="3200"/>
            </a:b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Hierarchical Data Model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701" name="Picture 5" descr="C02NF06"/>
          <p:cNvPicPr/>
          <p:nvPr/>
        </p:nvPicPr>
        <p:blipFill>
          <a:blip r:embed="rId1"/>
          <a:stretch/>
        </p:blipFill>
        <p:spPr>
          <a:xfrm>
            <a:off x="468360" y="1484280"/>
            <a:ext cx="792000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8795-1D93-4FAE-8A3C-E622CDCCBF7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ata Storage, Retrieval, and Updat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User-Accessible Catalog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ransaction Support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urrency Control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over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BB97-65F6-4249-8B7A-880C2739873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Functions of a DBM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uthorization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upport for Data Communication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gr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ervices to Promote Data Independ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tility Service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27D2-43A6-4E11-9DD4-7DBD380A985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ll users should be able to access same data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 change in a user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 view should not affect other users’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Users should not need to know physical database storage detail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0B86-255E-4063-9DA9-767427DD5D4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Objectives of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database storage structures without affecting the users</a:t>
            </a:r>
            <a:r>
              <a:rPr b="1" lang="ja-JP" sz="28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view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structure of database should be unaffected by changes to physical aspects of storag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BA should be able to change conceptual structure of database without affecting all user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79A8-76CB-45A1-80C8-E4B62789014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15" name="Picture 6" descr="C02NF01"/>
          <p:cNvPicPr/>
          <p:nvPr/>
        </p:nvPicPr>
        <p:blipFill>
          <a:blip r:embed="rId1"/>
          <a:stretch/>
        </p:blipFill>
        <p:spPr>
          <a:xfrm>
            <a:off x="971640" y="1484280"/>
            <a:ext cx="619272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01E0-2F2E-40AC-8314-181A830540B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x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Users</a:t>
            </a:r>
            <a:r>
              <a:rPr b="0" lang="ja-JP" sz="2400" spc="-1" strike="noStrike">
                <a:solidFill>
                  <a:srgbClr val="000066"/>
                </a:solidFill>
                <a:latin typeface="Times New Roman"/>
              </a:rPr>
              <a:t>’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view of the databas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that part of database that is relevant to a particular us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end us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Community view of the databas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400" spc="-1" strike="noStrike">
                <a:solidFill>
                  <a:srgbClr val="000066"/>
                </a:solidFill>
                <a:latin typeface="Times New Roman"/>
              </a:rPr>
              <a:t>what 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ata is stored in database and relationships among the data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e way perceived by the DBA &amp; programmer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78BB-55CB-43D2-A668-CDA18386DBC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SI-SPARC Three-Level Architecture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Internal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Physical representation of the database on the computer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scribes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how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the data is stored in the databas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The way perceived by the DBMS &amp; OS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162E-16ED-48C1-A67A-2241D268351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Differences between Three Level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pic>
        <p:nvPicPr>
          <p:cNvPr id="624" name="Picture 1030" descr="C02NF02"/>
          <p:cNvPicPr/>
          <p:nvPr/>
        </p:nvPicPr>
        <p:blipFill>
          <a:blip r:embed="rId1"/>
          <a:stretch/>
        </p:blipFill>
        <p:spPr>
          <a:xfrm>
            <a:off x="468360" y="1484280"/>
            <a:ext cx="784872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1ef"/>
                </a:solidFill>
                <a:latin typeface="Times New Roman"/>
              </a:rPr>
              <a:t>Schemas versus Instances</a:t>
            </a:r>
            <a:endParaRPr b="0" lang="en-US" sz="3200" spc="-1" strike="noStrike">
              <a:solidFill>
                <a:srgbClr val="3a21ef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94920" y="162864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Schema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description of the databas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It rarely chang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Includes descriptions of the database structure, data types, and the constraints on the databas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atabase Instance (snapshot):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e actual data stored in a database at a particular moment in time. </a:t>
            </a: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Changes rapid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concepts of Schema &amp; Instances corresponds to Types &amp; Values in programming languages, respective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CFC4-F98D-4F7A-8A29-BEBB5242402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09T10:09:10Z</dcterms:created>
  <dc:creator>Thomas Connolly and Carolyn Begg</dc:creator>
  <dc:description>Transparencies for Chapter 2 of textbook
Database Systems: A Practical Approach to Design, Implementation, and Management</dc:description>
  <dc:language>en-US</dc:language>
  <cp:lastModifiedBy>USER</cp:lastModifiedBy>
  <cp:lastPrinted>1997-01-27T16:12:02Z</cp:lastPrinted>
  <dcterms:modified xsi:type="dcterms:W3CDTF">2017-09-26T09:00:48Z</dcterms:modified>
  <cp:revision>104</cp:revision>
  <dc:subject>Database Systems</dc:subject>
  <dc:title>Chapter 2</dc:title>
</cp:coreProperties>
</file>