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9144000" cy="6858000"/>
  <p:notesSz cx="6616700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BA31-5481-4D19-9EF3-F221C959A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5156-D371-44D7-B65E-326D2A08B5E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FC926E-4420-4D3B-B8D3-E62EF735507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91FE83-E82B-40F3-B843-D88BE27DA5A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DBC045-B609-4D9B-A58C-720920F8DBB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FB5DEA-E984-4BB3-9DF4-80BE17A988F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664151-91DA-4590-AD56-88632FBB5DA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93110C-01FC-421C-A53D-8453E5A4086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372FBF-1410-4494-AA11-B994ADA6C8F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BA3961-7951-4BB0-8C3D-CFA2D6E624B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8E3AC0-DD6F-48D1-BC7C-C40587F0996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EE3781-B5C6-4DE6-A3E2-F016B5623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A67B-FBFA-47CA-AE03-DD073A7CE80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B2000B-B075-4997-8E53-0551CB08545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8B7ED-83CF-4DDD-A79B-4ADE24F6427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C1EFFF-87D7-40A9-92EC-7027F993D6A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34CFC3-6A85-40EB-AA56-BC38ABDFEDC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462CFF-AD06-436A-B0FB-0D859B183EB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2B2028-32AE-40F6-AA48-0269095D1CF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316F55-D681-49A2-8ECC-4B6BAC02C10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3EF7F2-F364-4127-AD00-65F22B4D345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83EC24-88E9-4DA4-B733-61B276E886E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810240-D279-4651-8F65-09BDA95DD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C3F5-980A-4018-A3E0-4479F324E94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77036C-4CBA-40C4-8A94-B7E6ED0D6A8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BB6C6-6622-4F24-BBF8-EDD05D42F61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AFF85-3AFC-4C49-8B4E-9D2E58CC3D7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3A13D-C884-4236-A19A-308A891749A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11511-BB3D-4DB6-BAF8-D2CA46AAA48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3D7F0-E8B3-467D-A017-7CA04FD8A76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D54A1-48A9-4F76-BAC6-5DBF606849B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BF597-A195-4457-8802-B1619A5FE69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30E0C-F65F-4F4D-94A0-2ABDC08B4B7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5BA67-C266-4A46-9B14-003DAA7EC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861-51D4-4D15-9D0C-1757DC01703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E295E-7C44-49EC-BAC8-D7464549B8D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A8908-D3BC-43B8-86C4-D044BF43900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BCF8B-EAEE-4AEB-ADD8-FB38E0D4891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6B3E1C-8372-45F7-9F09-58F96BB7C87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FB8EB4-E866-42F1-AA6E-33E5027D9B3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3578CF-FA1E-489E-9C52-DBF2C8E7C32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96F880-6A56-4087-A304-AF665A24C01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3E7519-83AA-4769-ABA9-B8B2CC490B1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175552-5194-4E39-9ED9-038CE50A49D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7C2639-0F04-4E58-8077-08D7C6D887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1DA0-E79C-4EE7-A856-E37F0883F8B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FF6E82-0B85-49EC-9CA4-04693905AD8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5F63FB-CFAE-4A22-B3D4-20CDCA640CF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950D81-D4C2-4383-A1D3-B40F01516A3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E345D5-821D-45E4-B7C8-F0D96C925DF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48C456-B3A2-4BF7-8F00-175B08A54CC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49349-39A4-45D8-BFAD-374ED9874AF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8ED8B-1F03-4C62-BA9A-92E4B09E8BC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0401A-D530-471B-82DC-F6640322871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011511-9BA1-487D-A60D-777B87479B4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68399A-77D0-49CB-A175-1BAA6D4517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0EA1-D7E8-4093-96A1-1C7E9D2089E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3DAA8-3080-4309-8648-A51CC8C1DF9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497A91-71FB-4F97-AAE7-4FC500953F5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AB9E38-CA22-4CAA-8A15-309AE672F14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65E05-CC5E-4C63-AC43-812EEEC0194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1B9B6E-5BD5-4F35-B043-EF1A9A735E4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A0424-5153-427C-BE19-2E77E741724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F4F8F7-A7EE-47B7-A6C8-7160AEDC6A3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6DAF0-F4E0-49E9-8E01-A4A6063755E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9109A-0112-4756-ABDB-89B23FAF44B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BC75E-77DD-426D-B2E2-00E50D0167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EFE2-560D-47D9-AC94-95C48578B97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9DB89-973F-40AF-A0F1-381A3C73621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AD8DA-CFE1-42CB-9DEF-06259141194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22EAC-AAD5-4922-B5DF-8102C1A1450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8D2A3-D6BE-4A1B-84AD-48B4ADCB227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09A02-8CA4-4E5C-AEE8-E573CD93F89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E95C9-DE31-48B3-81E2-78F5BC7E20E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F8A8D-A99D-498F-BC5D-A991B7957C8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F119E-8FAB-46E5-B202-B1B4F626FAC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EA868-6616-4873-A910-1F791945071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25C581-DF1A-4B27-9A0A-2CFBA7C24A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828-76B3-40AB-A6E0-F1B9ED70B86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8FB7AA-B6E4-4B60-A21F-D146109EAF4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506342-53FF-426B-B4D0-27733FD8FF0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D8F90B-B462-4940-9D5E-29362B630E4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AC2FAD-EC32-4860-B286-E6AE7F0AD82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D79C95-D0D3-47C7-AE49-9DC79FCBBDA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DDA48D-9375-44FB-BB2B-9CBDDF9E0DA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DDC928-D5BD-46C4-8ECC-6AF165916A2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ACC15E-C9B8-4128-9F97-7CD63E945C5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C826E6-E31F-4BA4-AF93-E4ECC351497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0C2121-D9CB-4F59-A912-A233CFAEEB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847-772E-4862-B802-6841487C803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C2CB15-01D4-4021-9B25-179121455D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E3C-2DA0-4A99-9E72-33FECD88B3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552F-F650-4FC0-8114-6A301F136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2AB8-5B78-4985-ACF2-6FF09FACED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C66-8C92-4A45-B5D2-DED2EF24AA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7B9-778E-4889-A75D-C2AF7A1F7D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3E07-3EA4-4139-93A2-2F0075378F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7DD3-968A-400D-9BF2-4A56858343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ABA15-94AB-4D31-856C-D12EEF6B1B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E532D-C0E4-4C45-8DD3-0652E1F0D3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B3159-7C87-405B-8794-2C474F7423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64024-7E4F-401D-AAEE-6803B31789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DEDE6-1DE7-405D-845A-DA2E95FA28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9204-7DEF-4D4F-B5D9-22DB3838E6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A87CD-C6C9-4E02-B3A7-5BE2C3D049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C0307-83FB-467B-A14E-7A6CD6AFD8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BDA80-E8D3-4BEB-AE67-65F749149E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E61FC-08EA-4896-B12C-5432666F6B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5A219-617B-4B7E-ACBB-DC5C2F89DA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950D4-714F-4B40-8843-7133D4746D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581F5-8BE1-481F-A6A1-B22BB915F7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01D75-291C-4DB5-A790-F68623E70D1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9BFEF-ECAD-4899-9720-72DEDDD39F9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F89BE-2DEF-406B-BFAE-9C8856D89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FF4C-0B96-4FEF-991A-B43548805B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FC131-4FB4-4B3C-8222-75C0CE841D3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E7828-ABBD-4607-AA6A-8B28CF80A4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4E620-7058-46DC-A811-3EA9660EB3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014DF-A8BA-4B1E-BBF1-A3176087ED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8EA64-C685-4E52-872D-1A576FE9F6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4A422-DA89-42F5-9B65-4C713781EBD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2B782-85EB-4DB0-BF18-9D7AE753C5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A718E-686B-4432-B8E1-7460F4192B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6F8B3-FA60-474F-9299-1EAA63DDD30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D783-1AE8-4F60-A388-DE71D5B77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5207-9C8B-4FA7-81B4-4732ADFAFF3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53DC-8495-4DE8-9FA3-57577A288D2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BFC8-C123-43D9-A51B-9FFFD812A70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9A02-8B79-46B1-9547-818A79A44B0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8498-629F-4C1A-A93E-E0EBAF21C4D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1000-C63D-4C47-81AA-B6B462FBEAF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86EF-BB3A-44A0-A679-13E4A2608E1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5D49-F10C-4ED7-860A-80B3B397E68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94FA-4D75-4D4F-9765-D18EB18DCCC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BB70-01B5-4C54-964D-28A92F672C6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660C-270F-4196-B96A-EE4C0A1CE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34B9-AEEA-4540-9BF1-D6EE8B447DD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E55F-1C89-49BF-8484-E1E4E99BAAC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AE540F-D55A-4CBE-9480-7CCEDE2F0CA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0678CF-268E-474B-AF1F-9C003D22DE2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3CDDF1-BD21-4AB6-8054-CCB5B67E2AB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FE2226-AEDE-4B21-887E-1C8F08278CB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96E5BD-9E44-4283-ADA8-259450F2081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E9D995-B1FC-4C47-87AB-2E8900F4D1F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DA753A-B30A-4E5A-BF2E-D7A8F213655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1A2530-1413-439D-BF80-66A48568628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D12991-5B93-43EB-8ACE-2BE9B836F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C155-97EB-4F3F-BD87-B3415E4DE43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DB3020-CEE7-4EE6-982F-D65A1BC0C54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BEE5B9-5B54-4B69-BD51-C1E02F8623D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A91076-1F33-40CA-8878-D0632BECA77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A13B8-7A98-4FF9-82E7-713DAD8723B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C5FA6-4ED5-4C32-B4F7-A71FBAD92B9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DD8DA-DBC5-4E13-B373-423D2898FBB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9279A-4E15-49EB-9ADC-326FE63FC98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11833-F8EA-4C23-98BD-55974234B4B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61D0B8-6BA5-436E-AD6B-EBFF6DC2713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88935-B885-4C9C-B53C-19CF17B6D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82B8-3AB6-4B5E-8A37-6370F6BAAFF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D1EB0-B94D-49CA-A5BF-A880532AF1F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91BA55-D5BB-4463-9AEC-8D3F99C519F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634BF-8C1B-44D8-B916-0B91A27E41D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71ADE-D5B0-40BE-BAA0-21ED20C55B7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2BB07-975B-475C-BBA7-91E9C7D8924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21114-EC00-4432-B5D2-24BD652580E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EDBC2-BDFE-4BAA-9EEE-DE8443C240F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D33C2-8413-4371-A576-E339859B743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CB295-0BA2-4108-93F5-37BE875C2B4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08660-DBEB-4B30-ABE5-4EDDEDD16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CD02-19AB-4DC1-9243-BCF83C77BA8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407B8-D4A6-4E77-A959-BA43522DB15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575BB-AEF1-42A8-B912-08AE350B606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356BE-D16E-4EE7-B0D8-0E4D79E4425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50DDA-474A-4EE4-8D4E-4D6EEC5A69D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E84DD-44BA-4CED-859B-F5B3E0D11D2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CA799-0CAB-4FDF-A131-A1BC92B4ACC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EB2F1-C952-4F20-BD63-DC21432C9B7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21F4BF-5220-4218-8E7C-22312FF44FC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3B1F3B-A83F-4BD7-839D-B7113F3E7E8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667953-AA33-4F47-9973-278ADC79C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6B60-AD4B-4374-BE9E-7BE0D23346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364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a0"/>
                </a:solidFill>
                <a:latin typeface="Times New Roman"/>
              </a:rPr>
              <a:t>IT222 DataBase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1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23CD-DB79-4357-9C0C-7D6B9090DB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1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F24D-E490-448E-9E3A-D592CC9FB1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1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3D28-6562-4F77-B449-4EA5CC54DD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14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03E6-99A9-422F-ABB9-E698551C8F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1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9F81-F1F8-4C33-8E3B-EFCC0BAD86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Num" idx="1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4E2B-D44D-465E-8400-B179C3053AD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3740-146D-4316-A3C2-89BD42E6C74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B4E8-B60F-4FF6-872B-B5CC1DAEB6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8C49-A5F1-4954-9BEA-BDBE881C93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6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FF41-5038-4448-B20B-10D41C94BC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7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4CC4-2F11-4240-B877-9ED0BD04AE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8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7F3E-085D-46D5-B2B2-C727635448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9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B9F8-C552-483C-A43F-2CB476277B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0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FB43-15E5-4904-9D18-1D1CA99123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EED2-B01D-4711-8D10-F267DDE6D8E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2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base Environ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Schemas, Mappings, and Instanc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C4C5-874A-42B8-B211-20A7C7DE58B7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38088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Mapping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is the process of transforming requests and results between  the Internal, Conceptual &amp; External level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Programs refer to an external schema, and are mapped by the DBMS to the internal schema for exec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Data extracted from the internal DBMS level is reformatted to match the user’s external vie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6"/>
                </a:solidFill>
                <a:uFillTx/>
                <a:latin typeface="Times New Roman"/>
              </a:rPr>
              <a:t>Two types of mapping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External / Conceptual mapping.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Conceptual / Internal mapping.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3" name="Content Placeholder 13"/>
          <p:cNvGrpSpPr/>
          <p:nvPr/>
        </p:nvGrpSpPr>
        <p:grpSpPr>
          <a:xfrm>
            <a:off x="457200" y="2174760"/>
            <a:ext cx="4040280" cy="3311640"/>
            <a:chOff x="457200" y="2174760"/>
            <a:chExt cx="4040280" cy="3311640"/>
          </a:xfrm>
        </p:grpSpPr>
        <p:sp>
          <p:nvSpPr>
            <p:cNvPr id="634" name="Rectangle 15"/>
            <p:cNvSpPr/>
            <p:nvPr/>
          </p:nvSpPr>
          <p:spPr>
            <a:xfrm>
              <a:off x="3702240" y="2174760"/>
              <a:ext cx="795240" cy="716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635" name="Picture 6" descr="fig02_01"/>
            <p:cNvPicPr/>
            <p:nvPr/>
          </p:nvPicPr>
          <p:blipFill>
            <a:blip r:embed="rId1"/>
            <a:srcRect l="0" t="18243" r="19610" b="0"/>
            <a:stretch/>
          </p:blipFill>
          <p:spPr>
            <a:xfrm>
              <a:off x="457200" y="2255400"/>
              <a:ext cx="3775320" cy="32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37" name="Content Placeholder 16" descr="fig01_02"/>
          <p:cNvPicPr/>
          <p:nvPr/>
        </p:nvPicPr>
        <p:blipFill>
          <a:blip r:embed="rId2"/>
          <a:stretch/>
        </p:blipFill>
        <p:spPr>
          <a:xfrm>
            <a:off x="4950000" y="2174760"/>
            <a:ext cx="3431880" cy="3951360"/>
          </a:xfrm>
          <a:prstGeom prst="rect">
            <a:avLst/>
          </a:prstGeom>
          <a:ln w="0">
            <a:noFill/>
          </a:ln>
        </p:spPr>
      </p:pic>
      <p:sp>
        <p:nvSpPr>
          <p:cNvPr id="638" name="Slide Number Placeholder 10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D4D8-83A8-453D-AD5D-EA14967A59E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6C18-088A-414D-BE01-A45302794B4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Logical Data In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Refers to immunity of external schemas to changes in conceptual schem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Conceptual schema changes (e.g. addition/removal of entities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Should not require changes to external schema or rewrites of application program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38FC-09B3-44D1-AC8B-36B05D35C65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Data In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Refers to immunity of conceptual schema to changes in the internal schem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Internal schema changes (e.g. using different file organizations, storage structures/devices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Should not require change to conceptual or external schema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301F-BF94-4914-851E-6973BE9B791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 and the 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47" name="Picture 6" descr="C02NF03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410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9EF0-E487-432B-B95D-FDF542D956E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Definition Language (DDL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lows the DBA or user to describe and name entities, attributes, and relationships required for the application together with any associated integrity and security constraints.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DL is a descriptive language for defining and constructing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llows users to specify the data types and structures and the constraints on the data to be stored in the DB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DL compiler generates the meta-data that is stored in the data dictionar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9533-9F6A-440E-BB91-BA1EB0949A3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Manipulation Language (DML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Provides basic data manipulation operations on data held in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ML is a language for retrieving and updating (insert, delete, &amp; modify) the data in the DB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Types of DML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Procedural Language (3GL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 specifi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ha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data is required and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get those data(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llows user to tell system exactly how to manipulate data.) Ex:Jav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2343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Nonprocedural Language(4GL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 specifi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ha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data is required without specifying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get those data(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llows user to state what data is needed rather than how it is to be retrieved.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 Ex:SQ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0208-7F37-44C5-B515-6A3D1301F16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oth DDL and DML are usually not considered distinct languages. Rather, they are included in a comprehensive integrated langu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 example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 relational database language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s a comprehensive DB language which represents a combination of DDL and DM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FE4C-92A4-478A-A581-0F3F720F534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BMS have a facility for embedding DDL &amp; DML (sub-languages) in a High-Level Language (COBOL, C, C++ or Java), which in this case is considered a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ost languag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1752480" y="3887640"/>
            <a:ext cx="1524240" cy="1447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4876920" y="4497480"/>
            <a:ext cx="12189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1981080" y="4497480"/>
            <a:ext cx="990720" cy="3808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ll to D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Text Box 9"/>
          <p:cNvSpPr/>
          <p:nvPr/>
        </p:nvSpPr>
        <p:spPr>
          <a:xfrm>
            <a:off x="1675080" y="350676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,C++,Lisp,.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10"/>
          <p:cNvSpPr/>
          <p:nvPr/>
        </p:nvSpPr>
        <p:spPr>
          <a:xfrm>
            <a:off x="2971800" y="4649760"/>
            <a:ext cx="190512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12"/>
          <p:cNvSpPr/>
          <p:nvPr/>
        </p:nvSpPr>
        <p:spPr>
          <a:xfrm>
            <a:off x="1981080" y="42688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Line 14"/>
          <p:cNvSpPr/>
          <p:nvPr/>
        </p:nvSpPr>
        <p:spPr>
          <a:xfrm>
            <a:off x="1981080" y="503064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AutoShape 15"/>
          <p:cNvSpPr/>
          <p:nvPr/>
        </p:nvSpPr>
        <p:spPr>
          <a:xfrm>
            <a:off x="7086600" y="4421160"/>
            <a:ext cx="533520" cy="83808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Rectangle 16"/>
          <p:cNvSpPr/>
          <p:nvPr/>
        </p:nvSpPr>
        <p:spPr>
          <a:xfrm>
            <a:off x="1752480" y="5335560"/>
            <a:ext cx="1524240" cy="685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Va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emor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17"/>
          <p:cNvSpPr/>
          <p:nvPr/>
        </p:nvSpPr>
        <p:spPr>
          <a:xfrm flipV="1">
            <a:off x="3276720" y="5106960"/>
            <a:ext cx="1600200" cy="4572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18"/>
          <p:cNvSpPr/>
          <p:nvPr/>
        </p:nvSpPr>
        <p:spPr>
          <a:xfrm>
            <a:off x="6095880" y="487836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1752480" y="3952800"/>
            <a:ext cx="1600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Progr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20"/>
          <p:cNvSpPr/>
          <p:nvPr/>
        </p:nvSpPr>
        <p:spPr>
          <a:xfrm>
            <a:off x="1981080" y="442116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14"/>
          <p:cNvSpPr/>
          <p:nvPr/>
        </p:nvSpPr>
        <p:spPr>
          <a:xfrm>
            <a:off x="1981080" y="51832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316B-9753-448C-B58C-4E9A10546BB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42560" y="167652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grated collection of concepts for describing data, relationships between data, and constraints on the data in an organiz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o represent data in an understandable wa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Model comprise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a structural par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a manipulative par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possibly a set of integrity rul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BFC8-6BEC-4BB7-AFFF-A5EBE3E55A3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2 - Objectiv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 of three-level database architectur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ontents of external, conceptual, and internal lev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 of external/conceptual and  conceptual/internal mapping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Meaning of logical and physical data independen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istinction between DDL and DM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 classification of data mod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/importance of conceptual modelling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Typical functions and services a DBMS should provid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ategories of 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ceptual data models (Object-based)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construction of an enterprise’s information that is independent of implementation detail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-205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lso called entity-based or object-based data model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gical data models (Record_based)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logical description of an enterprise’s information with  high level description of the implement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571320" indent="-205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lso called record-based data model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hysical data models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physical description of how data is stored in the computer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6F95-6886-405E-8F12-9A81EFF153C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ategories of 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94A2-C899-424E-BCC6-5EDA604C0220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AutoShape 3"/>
          <p:cNvSpPr/>
          <p:nvPr/>
        </p:nvSpPr>
        <p:spPr>
          <a:xfrm>
            <a:off x="4038480" y="487692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hysical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4038480" y="342900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ogic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Line 5"/>
          <p:cNvSpPr/>
          <p:nvPr/>
        </p:nvSpPr>
        <p:spPr>
          <a:xfrm>
            <a:off x="4724280" y="4114800"/>
            <a:ext cx="0" cy="762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AutoShape 6"/>
          <p:cNvSpPr/>
          <p:nvPr/>
        </p:nvSpPr>
        <p:spPr>
          <a:xfrm>
            <a:off x="4038480" y="175248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onceptu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7"/>
          <p:cNvSpPr/>
          <p:nvPr/>
        </p:nvSpPr>
        <p:spPr>
          <a:xfrm>
            <a:off x="4800600" y="2438280"/>
            <a:ext cx="0" cy="990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19"/>
          <p:cNvSpPr/>
          <p:nvPr/>
        </p:nvSpPr>
        <p:spPr>
          <a:xfrm>
            <a:off x="814320" y="4846680"/>
            <a:ext cx="229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20"/>
          <p:cNvSpPr/>
          <p:nvPr/>
        </p:nvSpPr>
        <p:spPr>
          <a:xfrm>
            <a:off x="792000" y="3352680"/>
            <a:ext cx="249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Text Box 21"/>
          <p:cNvSpPr/>
          <p:nvPr/>
        </p:nvSpPr>
        <p:spPr>
          <a:xfrm>
            <a:off x="792000" y="1752480"/>
            <a:ext cx="249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EC5E-4651-41B1-BE22-81EE4BE65BB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ceptual data models (Object-based)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Entity-Relationship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Function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Object-Orien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ogical data models (Record_based)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Relational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Network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Hierarchical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Data Model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2ECC-4FC3-4097-99E9-FC25CC952B3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95" name="Picture 4" descr="C02NF04"/>
          <p:cNvPicPr/>
          <p:nvPr/>
        </p:nvPicPr>
        <p:blipFill>
          <a:blip r:embed="rId1"/>
          <a:stretch/>
        </p:blipFill>
        <p:spPr>
          <a:xfrm>
            <a:off x="755640" y="1557360"/>
            <a:ext cx="5832360" cy="4692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3FF2-70C5-455C-9404-1DB695DE1F8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Network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98" name="Picture 5" descr="C02NF05"/>
          <p:cNvPicPr/>
          <p:nvPr/>
        </p:nvPicPr>
        <p:blipFill>
          <a:blip r:embed="rId1"/>
          <a:stretch/>
        </p:blipFill>
        <p:spPr>
          <a:xfrm>
            <a:off x="395280" y="1628640"/>
            <a:ext cx="8209080" cy="35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B789-1C8E-487A-BAC8-A0407E54FC3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Hierarchical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701" name="Picture 5" descr="C02NF06"/>
          <p:cNvPicPr/>
          <p:nvPr/>
        </p:nvPicPr>
        <p:blipFill>
          <a:blip r:embed="rId1"/>
          <a:stretch/>
        </p:blipFill>
        <p:spPr>
          <a:xfrm>
            <a:off x="468360" y="1484280"/>
            <a:ext cx="792000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3064-7DB3-478F-8C39-C92F4C8CD1C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unctions of a DBM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Storage, Retrieval, and Updat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User-Accessible Catalog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ransaction Suppor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urrency Control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cover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5BDE-67BF-44AC-87BD-89B56850E05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unctions of a DBM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uthorization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upport for Data Communic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grit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rvices to Promote Data Independ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tilit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3C1D-8E53-45AD-BB02-CD3F5F8AA1F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Objectives of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ll users should be able to access same data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change in a user</a:t>
            </a:r>
            <a:r>
              <a:rPr b="1" lang="ja-JP" sz="28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 view should not affect other users’ vie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sers should not need to know physical database storage detail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3818-360E-4F57-A2BD-B4D786B55D2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Objectives of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BA should be able to change database storage structures without affecting the users</a:t>
            </a:r>
            <a:r>
              <a:rPr b="1" lang="ja-JP" sz="28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vie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rnal structure of database should be unaffected by changes to physical aspects of storag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BA should be able to change conceptual structure of database without affecting all use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7AB2-8FF4-4778-934F-ADB17E79C6A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15" name="Picture 6" descr="C02NF01"/>
          <p:cNvPicPr/>
          <p:nvPr/>
        </p:nvPicPr>
        <p:blipFill>
          <a:blip r:embed="rId1"/>
          <a:stretch/>
        </p:blipFill>
        <p:spPr>
          <a:xfrm>
            <a:off x="971640" y="1484280"/>
            <a:ext cx="619272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8951-D81E-46A1-A0E5-6296D5352D5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xtern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Users</a:t>
            </a:r>
            <a:r>
              <a:rPr b="0" lang="ja-JP" sz="24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view of the databas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scribes that part of database that is relevant to a particular use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The way perceived by end user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Community view of the databas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scribes 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what 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ata is stored in database and relationships among the dat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The way perceived by the DBA &amp; programmer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5AD2-A85A-4ACE-AAB3-6BC66C3E814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rn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Physical representation of the database on the computer.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Describes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the data is stored in the databas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The way perceived by the DBMS &amp; O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0484-55F3-4E1D-93F8-3F7B37320E9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ifferences between Three Lev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24" name="Picture 1030" descr="C02NF02"/>
          <p:cNvPicPr/>
          <p:nvPr/>
        </p:nvPicPr>
        <p:blipFill>
          <a:blip r:embed="rId1"/>
          <a:stretch/>
        </p:blipFill>
        <p:spPr>
          <a:xfrm>
            <a:off x="468360" y="1484280"/>
            <a:ext cx="784872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Schemas versus Instanc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94920" y="162864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Schema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description of the database.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It rarely chang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ncludes descriptions of the database structure, data types, and the constraints on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Instance (snapshot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actual data stored in a database at a particular moment in time.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Changes rapid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he concepts of Schema &amp; Instances corresponds to Types &amp; Values in programming languages, respective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7B80-FB41-4192-99A1-1B2FC0136A73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Connolly and Carolyn Begg</dc:creator>
  <dc:description>Transparencies for Chapter 2 of textbook
Database Systems: A Practical Approach to Design, Implementation, and Management</dc:description>
  <dc:language>en-US</dc:language>
  <cp:lastModifiedBy>USER</cp:lastModifiedBy>
  <cp:lastPrinted>1997-01-27T16:12:02Z</cp:lastPrinted>
  <dcterms:modified xsi:type="dcterms:W3CDTF">2017-09-26T09:00:48Z</dcterms:modified>
  <cp:revision>104</cp:revision>
  <dc:subject>Database Systems</dc:subject>
  <dc:title>Chapter 2</dc:title>
</cp:coreProperties>
</file>