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82C-A93C-4814-900C-68D7B44A29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A00-A58E-4983-B6E3-70F95DD16272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B18-1FFB-4C89-B1D6-7AC138C8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4F2-E1B4-4BCE-B7E9-E1D08E20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51F-405A-4ABA-9254-4BF83726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687-1733-4C89-8BAE-ED64C3DB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91F-4A37-4E1C-91F1-2DF1C22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6D9-8D0C-4728-8BCA-ADD9523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581-BEDD-4E4B-96AC-4916B33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EB5-02AB-4754-A4C3-40E1C14E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A87-0C46-44F7-B724-0958290E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5F9-8AA1-4F0A-A159-3CB51D0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4FD-5654-45A7-AB50-0540A5E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BAD-1033-4132-B634-BF7D74C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D7E9-C7D5-4FEB-ABB5-6F02A803F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17A-DA94-4D9F-9CE0-9B6185520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C6A-9B2A-41D5-A1C6-E46AD14085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292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293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01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03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467-5BAB-42A4-BDC6-50F8BBB06A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744-3910-45DC-AC25-BFD67DCA67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63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64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67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182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183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186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189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190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04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07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10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13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16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19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22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25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28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35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26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26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ypes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tty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المستخدم</cp:lastModifiedBy>
  <dcterms:modified xsi:type="dcterms:W3CDTF">2017-09-18T06:46:50Z</dcterms:modified>
  <cp:revision>60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