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6173-B1B3-4639-BD9D-2363FF462E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6FD8-D1BE-44AA-BE0A-583AAC01EF2D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312-2254-464C-A69B-40679C8A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1A0-6585-4B56-8502-77C2344E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3A5-D00C-4AF0-840D-6C8A9A5E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C5B-E515-46A9-9581-FA28D9A0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8725-C5DC-41A3-957B-6C79F884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D200-52D6-4394-8658-DF2624D3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C01-B157-4261-AF64-19A5119C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5C5B-03A0-4DB8-8AB1-E194B808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A6D-C1A0-4B87-8E1B-CAFF5678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7A80-2775-43A8-B786-FDE3BD7E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DBF-E99B-480C-8112-3F350F85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914B-C157-412B-8B30-D2BFD91D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111A-D77C-4775-92E5-96FA9FB121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C21B-33B7-444F-A5F9-4FEADB6D80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1958-23D2-41B8-9681-2B49AE8776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292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293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01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03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5942-83B4-4FF4-8C40-0242F50842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DC18-9BF4-4BD9-A0ED-995B88A043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63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64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67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182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183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186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189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190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04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07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10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13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16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19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22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25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28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35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261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264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267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Types of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atty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المستخدم</cp:lastModifiedBy>
  <dcterms:modified xsi:type="dcterms:W3CDTF">2017-09-18T06:46:50Z</dcterms:modified>
  <cp:revision>604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