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dt" idx="3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move the slide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ftr" idx="3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 type="sldNum" idx="3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27733-A3DC-4E2E-B241-2414783E48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785D0-019B-43CA-8F07-5A7150E5E8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10FA7-3566-43A7-A94E-6B01CE992B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9907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For every instruction, a processor repeats a set of four basic operatio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Fetching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 process of obtaining a program instruction or data item from memo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Decoding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 process of translating the instruction into signals the computer can execu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Executing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 process of carrying out the comma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Storing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, if necessary. Means writing the result to </a:t>
            </a:r>
            <a:r>
              <a:rPr b="0" i="1" lang="en-US" sz="1200" spc="-1" strike="noStrike">
                <a:solidFill>
                  <a:srgbClr val="000000"/>
                </a:solidFill>
                <a:latin typeface="Tw Cen MT Condensed"/>
              </a:rPr>
              <a:t>memory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AA59E-2CDF-493A-B490-203F10683A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22CB2-0CF7-4E8A-A7EF-55C8EBFF08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Processing actions occur at each “tick” of the electronic clo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The Speed of the clock determines the speed at which the CPU can process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The faster  the clock speed, the more instruction the processor can execute per second (hertz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162FE-0B3E-4998-A93A-8B8229D600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2B346-515A-438F-A7B6-007BD5CD84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8C316-1BCB-463B-B1C2-480C0E8075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They often identify their processor chip by a model name or model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Other leading processor chip manufacture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Transme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IB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Motorol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IBM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 processor had a   different design from the Intel-style process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654D9-9CBF-4CC2-9BB1-535FF4C783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04DF3-7F93-4829-9CE1-A682723973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F1561-1EB9-4A6B-A569-BA398B629B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48F2B-0D04-42A3-B365-16D2F37BD7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550B9-FE70-436D-AB8E-8181CAA5CC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7721C-8E37-4A57-9611-36A9E637AF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4120-FC41-4D7E-B1FB-42C5FBA31F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23F27-4647-4F6F-AAAE-28CD3FEEBA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688BE-1810-4839-872A-4D0293974E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36EC0-F805-4904-AF39-0D00E6A7C9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Processor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 interprets &amp; carries out the basic instructions that operate a compu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Memory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 holds data waiting to be processed &amp; instruction waiting to be execu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Processor &amp; Memory are connected to a circuit board called the </a:t>
            </a: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motherbo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Adapter cards 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are circuit boards that provide connections and functions not built into the motherbo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Devices outside the system unit often attach to the </a:t>
            </a: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por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A drive bay 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holds one or more disk dr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The Power supply 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provide the computer with the electri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CC163-00AB-4622-9936-692A95FE48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Many electronic components attach to the motherboard, others are built into it. Ex: adapter cards, a processor chip and a memory modu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6E07E-9C94-4BD8-B9D8-D6749FBF82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06440" indent="-40644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1200" spc="-1" strike="noStrike">
                <a:solidFill>
                  <a:srgbClr val="d94439"/>
                </a:solidFill>
                <a:latin typeface="Times New Roman"/>
              </a:rPr>
              <a:t>dual-core processo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is a single chip that contains two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parate process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06440" indent="-40644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1200" spc="-1" strike="noStrike">
                <a:solidFill>
                  <a:srgbClr val="d94439"/>
                </a:solidFill>
                <a:latin typeface="Times New Roman"/>
              </a:rPr>
              <a:t>multi-core processo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is a chip with two or mor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parate process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06440" indent="-40644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ach processor on a dual-core/multi-core chip generally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uns at a slower clock speed, but increase overall perform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06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FAD0D-3D33-47E9-B177-EB7C658380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9907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The operations typically performed by a CPU 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CPUs control the reading of programs and input fi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Its activates input unit to read program and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Controls the transmission of program &amp; data files from disk to main memo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CPUs process data according to instructions in a progra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Data can be processed arithmetically- number can be added, subtracted, multiplied and divid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Logical tests can be performed on data. E.g., comparis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Data can be transmitted or copied from one area of primary storage to an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CPUs control the creation of outpu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C23CA-21F2-4114-A9F1-1721883367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DD19C-0978-4254-9B4C-5FB376C9F1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18B0A-6350-4D64-8C6D-297044E33E9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1A22E7-AB8D-4CED-B8EE-8C3FF1223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AC7B74-3D02-4FFE-9725-0A6C140AC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86AC3B-5352-4B3C-8458-3C5FE050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F9CBA7-B265-4521-902F-9DD241C7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661544-477D-41AE-BF05-40EF3C3A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5E2140-3617-467B-9B7C-053C51E6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381849-1180-4711-9B39-E287CD404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9F264B-8E12-4DB5-95C0-F7B3E7E0F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EE3E0E-167F-4CF5-BA0B-9BC6F0D77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CC0E3A-7C80-4C66-BF29-11443DF35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7F6FA-DB54-4BA0-86E9-534CA2251E2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7117D2-1C11-42BA-934F-BA8016353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94C7E4-ECD6-4AAF-8071-AA4DEBDE3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F7B60C-7D2A-455A-9C7A-938E344F8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43430E-EF5C-430E-94A6-CA02D8BC0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702278-E4E9-4945-80DF-C08046BE7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9A75BA-83F6-4301-B23B-8EA41B38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F02383-557F-489F-99A9-4FE2FEFD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450EEF-68F3-4282-97B0-80FE0E95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9C5D8C-F6B7-40DF-B0CA-42D463D34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457376-DE13-4CC7-BEC3-E2EBE0EE9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87470-FCB0-459C-B9B8-5561386351E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040A10-EAC2-481B-B17B-852660F74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0CC7601-09A1-4DE7-A48D-DAE35C227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A88D7E-219B-4F22-A8FB-809793CDC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98038F-4BEF-47F6-A8B3-F433DC3EC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8F15D02-76E2-46C9-AD8F-5104902BB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4340EF-39BD-4AC3-8DEC-45CDBD2BA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9EA695-5B5D-48E1-BE63-FAB268F79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FF1158-23E6-436B-BAE0-DF2D1BB7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450EC5-28CB-49C3-96B6-B606A47B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D65DCB-89D4-476E-90C7-298D8D48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58A4ED-8889-47BB-889F-FAFB2874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9DEC39-A4BC-4C32-AEBD-3E72EB75A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9ECD29-51A3-4C3B-B164-B3FF0FAFF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3F41724-1933-4CCA-A0C1-899492C77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AEC3B73-AAAB-4148-BBC0-6555C5B8F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5580A9A-C1D9-4720-8C5F-8558F89FC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4B1EBFF-299E-4722-849D-90BA81B5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DA1FA4E-7825-405A-91D4-24E015634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8BD860B-42AE-4036-BAC0-624C1C732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82B8696-FDC1-4A79-A53F-7F75E049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04A3659-A7C4-4992-BB5D-C7118BCC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164D04D-1E0A-4F33-A895-CCFA56ED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5FD346B-50C9-4487-8BE2-E1C2B6A57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9B9572E-AAE8-44E1-A62A-CDF840AD7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63F079A-ACB0-4D6B-89A9-75C1F5D33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6F2CB65-6210-4A2D-AE48-1BA099EBF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59C3C55-5933-4464-9906-6C7B47BD9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9200B20-0FAE-4527-AD61-CF04C7A42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47DFCDB-395E-4BB3-86B9-F997D8837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4D46059-6984-400B-B4B4-73C71D28D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C756543-CB19-431C-A483-A259C9C14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26A76AC-1FFC-429C-A0DC-AA5AF5A7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52EC6B7-9786-4EC6-BC7B-51BBBDF2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828A02A-8BB5-41AC-951B-7F4A378F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7435EF2-18D9-490B-9846-D40474C9A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D8494AF-3966-4231-B97E-82342B41E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AE3259D-3ABD-4136-82BD-F871E5B24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47A42-732B-4417-8069-532BA71CD4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B92B1B-4EA7-4925-A21C-DE57DC37050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0C154F-E6FD-4AF0-9404-BA8F96009D1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82ADB3-E318-4A1D-BA24-C9D69676258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DE2AF5-1DD6-4862-847F-A41C419DC0F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D28CC8-3094-44EF-8D1A-F04FEFCF4D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4AACC-9596-4FFD-8923-D4925A43602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2C5A3A-ABD7-4B83-8BE4-653D27EBDCD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76B53F-6DC6-4336-AC1E-AACA17C248A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F5C39A-648C-4A84-80DE-62E6A3E1D58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654F04-6B0E-4CC3-A2DC-6C686FE7146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3B4D90-531A-4642-ADAC-F97F3613E1B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3E05CC-4B36-43D3-8647-16C70AF8FF5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A52017-1B42-4411-8FC3-8836292E0B0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8A84A7-DCAF-4264-8C6C-3E3634346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9F99D8-9015-40E0-B280-AB5DD0A8B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33B0F3-9751-4956-9069-1FD032E4C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6C162-E5AB-43CB-AE19-5A7CF2742B9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4AF474-2128-47D4-AAF5-99A0B25FD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F07FCC-7BF8-486F-B861-A295CA399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0F5DDE-7F2F-4CD5-8ED7-5B8FFC212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867D40-5FBD-485B-9EA3-5CB0621F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5CFE55-BD3F-470B-BA83-D7BC99751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60FBB7-C3EC-4F88-B25D-2A515F86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4B3174-8555-448C-9BD7-7BFD7903B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B8BC16-AFA6-4C84-9572-198A03ED8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A905F3-40DF-4AD6-8309-02C0CDA2C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9245D-81E2-46E3-9303-BD034550F1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69A54-3249-4F7F-B397-924116E8362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EC85F-BBEC-4FAE-8793-F87EC098601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7EB95-55F1-427F-BA50-4B54E127BB0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213A2-EE75-4786-BBBA-AD3E4773031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B1C49-F4B2-460B-B53C-AC2E288C70A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B608E-F2C8-4392-947B-633514714E9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A287A-F27D-4792-A83E-F2C07B7A218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91399-8F4C-4740-B00A-5EE7982D018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1A6B8-1630-4017-B870-506D1838CEA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F2170-ED0B-4860-9CB2-D9F671811CD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099EA-4430-432B-AB4A-F928F104AE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28366-7254-419F-A4AE-586D14994DD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9369E-0C1B-4570-8E3B-3AFBCD4B0F7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03A687-971C-4083-B8E5-3D1D14D6A7F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4E6BF7-9D87-47D2-9287-30727F9C860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7439BB-78B4-493B-BC6F-AF799172D84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490E69-4011-4366-B40F-A7EE49E66A1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FD7EFE-FCD0-40B0-91F6-C98CB1F9271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FC990D-86BF-4D39-9DEB-0C4F884FDBF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4DBF07-5086-4104-B394-63077CB1D3B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67A838-3DD1-4A5F-A597-A22AA4FD73A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E39BD5-264B-4D42-BF6F-05B452992B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3EABB-CA52-46AE-A5F7-3E2A993CA49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8DA357-C1BA-4720-89E9-E310EA6AE83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B1E79A-D2E6-4398-8EC9-A7DAC30CE56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AE2940-1168-4364-B02B-B3DEE350887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3BAF91-9144-48D5-A0FE-28FA9D20F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5B1A16-3BDC-4DCF-9168-312038A92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FA049D-3B0E-49D2-B1E4-239A27269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B76854-9536-4514-A333-53B2D768F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296BE5-CF90-4265-9F8A-0FAEAAEF5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E22C9D-79CB-4AC1-97E9-F1D1A7ED9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DDF222-FDA4-429D-855A-93A7F8BD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E5EA8-67AF-4FC7-BA1D-F220269366E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6DD7AF-ACF7-4163-A795-47550EEC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7E57B2-C0EE-40FB-B616-47B26C838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D83F43-A6DE-48D8-964E-9C803C597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69C0C6-C5D2-497C-820B-292BAFDBF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0E9FAA-FFEB-47DC-A95A-9E0809225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55082F-41C1-4CFC-997E-6648D1F82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782CDE-EAEC-4CB9-8555-F2CE796F1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E6510F-7C79-4F72-995C-67CC79561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4CF805-35DC-4AC4-9595-7221A5716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CCE538-4D53-4275-9A44-79EBB03A6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5EA55-AFAD-4B40-983C-1CA788C836A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B4CDA2-AFE4-4BAA-8A70-2C3ED403E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216F20-B62D-45F5-89D2-33121786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F736C5-686E-4E33-96B9-DC7ECC0C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62AA00-C3B8-4EC5-BA15-168D2C1A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733537-AA26-49A6-9DF6-842269821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BFDBC0-D83C-4289-87C4-D8BF1D858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7C1D6D-6F19-4A79-81C4-7AD926D94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F03101-2C37-4D6A-99BF-B5EFFB002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E1F164-6C93-414A-B145-CCC3CE4FF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CF09EA-00BE-47D6-A3F4-DD5BD0D55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Rectangle 8"/>
          <p:cNvGrpSpPr/>
          <p:nvPr/>
        </p:nvGrpSpPr>
        <p:grpSpPr>
          <a:xfrm>
            <a:off x="-6480" y="1212840"/>
            <a:ext cx="9156960" cy="469800"/>
            <a:chOff x="-6480" y="1212840"/>
            <a:chExt cx="9156960" cy="469800"/>
          </a:xfrm>
        </p:grpSpPr>
        <p:pic>
          <p:nvPicPr>
            <p:cNvPr id="3" name="Rectangle 8" descr=""/>
            <p:cNvPicPr/>
            <p:nvPr/>
          </p:nvPicPr>
          <p:blipFill>
            <a:blip r:embed="rId3"/>
            <a:stretch/>
          </p:blipFill>
          <p:spPr>
            <a:xfrm>
              <a:off x="-6480" y="1212840"/>
              <a:ext cx="915696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09A5C-8107-4FC4-82E6-046734780E47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981080" y="6370560"/>
            <a:ext cx="472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Rectangle 8"/>
          <p:cNvGrpSpPr/>
          <p:nvPr/>
        </p:nvGrpSpPr>
        <p:grpSpPr>
          <a:xfrm>
            <a:off x="-6480" y="1212840"/>
            <a:ext cx="9156960" cy="469800"/>
            <a:chOff x="-6480" y="1212840"/>
            <a:chExt cx="9156960" cy="469800"/>
          </a:xfrm>
        </p:grpSpPr>
        <p:pic>
          <p:nvPicPr>
            <p:cNvPr id="403" name="Rectangle 8" descr=""/>
            <p:cNvPicPr/>
            <p:nvPr/>
          </p:nvPicPr>
          <p:blipFill>
            <a:blip r:embed="rId3"/>
            <a:stretch/>
          </p:blipFill>
          <p:spPr>
            <a:xfrm>
              <a:off x="-6480" y="1212840"/>
              <a:ext cx="915696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5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2"/>
          </p:nvPr>
        </p:nvSpPr>
        <p:spPr>
          <a:xfrm>
            <a:off x="2742840" y="6356520"/>
            <a:ext cx="3809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3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20C0C-3FDD-4DBD-A99A-ACEDFE532008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Rectangle 8"/>
          <p:cNvGrpSpPr/>
          <p:nvPr/>
        </p:nvGrpSpPr>
        <p:grpSpPr>
          <a:xfrm>
            <a:off x="-6480" y="1212840"/>
            <a:ext cx="9156960" cy="469800"/>
            <a:chOff x="-6480" y="1212840"/>
            <a:chExt cx="9156960" cy="469800"/>
          </a:xfrm>
        </p:grpSpPr>
        <p:pic>
          <p:nvPicPr>
            <p:cNvPr id="448" name="Rectangle 8" descr=""/>
            <p:cNvPicPr/>
            <p:nvPr/>
          </p:nvPicPr>
          <p:blipFill>
            <a:blip r:embed="rId3"/>
            <a:stretch/>
          </p:blipFill>
          <p:spPr>
            <a:xfrm>
              <a:off x="-6480" y="1212840"/>
              <a:ext cx="915696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0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25"/>
          </p:nvPr>
        </p:nvSpPr>
        <p:spPr>
          <a:xfrm>
            <a:off x="2742840" y="6356520"/>
            <a:ext cx="3809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26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32D12-5E73-4E9C-BF2E-F5BB7E8A41FB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Rectangle 8"/>
          <p:cNvGrpSpPr/>
          <p:nvPr/>
        </p:nvGrpSpPr>
        <p:grpSpPr>
          <a:xfrm>
            <a:off x="-6480" y="1212840"/>
            <a:ext cx="9156960" cy="469800"/>
            <a:chOff x="-6480" y="1212840"/>
            <a:chExt cx="9156960" cy="469800"/>
          </a:xfrm>
        </p:grpSpPr>
        <p:pic>
          <p:nvPicPr>
            <p:cNvPr id="493" name="Rectangle 8" descr=""/>
            <p:cNvPicPr/>
            <p:nvPr/>
          </p:nvPicPr>
          <p:blipFill>
            <a:blip r:embed="rId3"/>
            <a:stretch/>
          </p:blipFill>
          <p:spPr>
            <a:xfrm>
              <a:off x="-6480" y="1212840"/>
              <a:ext cx="915696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5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28"/>
          </p:nvPr>
        </p:nvSpPr>
        <p:spPr>
          <a:xfrm>
            <a:off x="2742840" y="6356520"/>
            <a:ext cx="3809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29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36BED-54B7-4EF2-8E26-A7FB23DECBA5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Rectangle 8"/>
          <p:cNvGrpSpPr/>
          <p:nvPr/>
        </p:nvGrpSpPr>
        <p:grpSpPr>
          <a:xfrm>
            <a:off x="-6480" y="1212840"/>
            <a:ext cx="9156960" cy="469800"/>
            <a:chOff x="-6480" y="1212840"/>
            <a:chExt cx="9156960" cy="469800"/>
          </a:xfrm>
        </p:grpSpPr>
        <p:pic>
          <p:nvPicPr>
            <p:cNvPr id="538" name="Rectangle 8" descr=""/>
            <p:cNvPicPr/>
            <p:nvPr/>
          </p:nvPicPr>
          <p:blipFill>
            <a:blip r:embed="rId3"/>
            <a:stretch/>
          </p:blipFill>
          <p:spPr>
            <a:xfrm>
              <a:off x="-6480" y="1212840"/>
              <a:ext cx="915696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0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30"/>
          </p:nvPr>
        </p:nvSpPr>
        <p:spPr>
          <a:xfrm>
            <a:off x="196848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31"/>
          </p:nvPr>
        </p:nvSpPr>
        <p:spPr>
          <a:xfrm>
            <a:off x="1981080" y="6370560"/>
            <a:ext cx="472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32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39C87-7464-45AA-BA52-F39D6F779289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8"/>
          <p:cNvGrpSpPr/>
          <p:nvPr/>
        </p:nvGrpSpPr>
        <p:grpSpPr>
          <a:xfrm>
            <a:off x="-6480" y="1212840"/>
            <a:ext cx="9156960" cy="469800"/>
            <a:chOff x="-6480" y="1212840"/>
            <a:chExt cx="9156960" cy="469800"/>
          </a:xfrm>
        </p:grpSpPr>
        <p:pic>
          <p:nvPicPr>
            <p:cNvPr id="45" name="Rectangle 8" descr=""/>
            <p:cNvPicPr/>
            <p:nvPr/>
          </p:nvPicPr>
          <p:blipFill>
            <a:blip r:embed="rId3"/>
            <a:stretch/>
          </p:blipFill>
          <p:spPr>
            <a:xfrm>
              <a:off x="-6480" y="1212840"/>
              <a:ext cx="915696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4"/>
          <a:stretch/>
        </p:blipFill>
        <p:spPr>
          <a:xfrm>
            <a:off x="5105520" y="3203640"/>
            <a:ext cx="4038480" cy="3654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3235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0" name="Title 1"/>
          <p:cNvSpPr/>
          <p:nvPr/>
        </p:nvSpPr>
        <p:spPr>
          <a:xfrm>
            <a:off x="1219320" y="5486400"/>
            <a:ext cx="3581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Your Interactive Guide to the Digital Wor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0" y="4267080"/>
            <a:ext cx="4876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iscovering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mputers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Rectangle 8"/>
          <p:cNvGrpSpPr/>
          <p:nvPr/>
        </p:nvGrpSpPr>
        <p:grpSpPr>
          <a:xfrm>
            <a:off x="-6480" y="1212840"/>
            <a:ext cx="9156960" cy="469800"/>
            <a:chOff x="-6480" y="1212840"/>
            <a:chExt cx="9156960" cy="469800"/>
          </a:xfrm>
        </p:grpSpPr>
        <p:pic>
          <p:nvPicPr>
            <p:cNvPr id="91" name="Rectangle 8" descr=""/>
            <p:cNvPicPr/>
            <p:nvPr/>
          </p:nvPicPr>
          <p:blipFill>
            <a:blip r:embed="rId3"/>
            <a:stretch/>
          </p:blipFill>
          <p:spPr>
            <a:xfrm>
              <a:off x="-6480" y="1212840"/>
              <a:ext cx="915696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3"/>
          </p:nvPr>
        </p:nvSpPr>
        <p:spPr>
          <a:xfrm>
            <a:off x="274284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4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9E049-E350-4165-B420-3902B5BC8DB2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Rectangle 8"/>
          <p:cNvGrpSpPr/>
          <p:nvPr/>
        </p:nvGrpSpPr>
        <p:grpSpPr>
          <a:xfrm>
            <a:off x="-6480" y="1212840"/>
            <a:ext cx="9156960" cy="469800"/>
            <a:chOff x="-6480" y="1212840"/>
            <a:chExt cx="9156960" cy="469800"/>
          </a:xfrm>
        </p:grpSpPr>
        <p:pic>
          <p:nvPicPr>
            <p:cNvPr id="135" name="Rectangle 8" descr=""/>
            <p:cNvPicPr/>
            <p:nvPr/>
          </p:nvPicPr>
          <p:blipFill>
            <a:blip r:embed="rId3"/>
            <a:stretch/>
          </p:blipFill>
          <p:spPr>
            <a:xfrm>
              <a:off x="-6480" y="1212840"/>
              <a:ext cx="915696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7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6"/>
          </p:nvPr>
        </p:nvSpPr>
        <p:spPr>
          <a:xfrm>
            <a:off x="2742840" y="6356520"/>
            <a:ext cx="3809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7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74456-C008-4516-8D67-5FA10F70FD4F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Rectangle 8"/>
          <p:cNvGrpSpPr/>
          <p:nvPr/>
        </p:nvGrpSpPr>
        <p:grpSpPr>
          <a:xfrm>
            <a:off x="-6480" y="1212840"/>
            <a:ext cx="9156960" cy="469800"/>
            <a:chOff x="-6480" y="1212840"/>
            <a:chExt cx="9156960" cy="469800"/>
          </a:xfrm>
        </p:grpSpPr>
        <p:pic>
          <p:nvPicPr>
            <p:cNvPr id="180" name="Rectangle 8" descr=""/>
            <p:cNvPicPr/>
            <p:nvPr/>
          </p:nvPicPr>
          <p:blipFill>
            <a:blip r:embed="rId3"/>
            <a:stretch/>
          </p:blipFill>
          <p:spPr>
            <a:xfrm>
              <a:off x="-6480" y="1212840"/>
              <a:ext cx="915696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2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ftr" idx="8"/>
          </p:nvPr>
        </p:nvSpPr>
        <p:spPr>
          <a:xfrm>
            <a:off x="274284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sldNum" idx="9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3C012-07C7-49E6-923C-AEEE1A89BEA0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Rectangle 8"/>
          <p:cNvGrpSpPr/>
          <p:nvPr/>
        </p:nvGrpSpPr>
        <p:grpSpPr>
          <a:xfrm>
            <a:off x="-6480" y="1212840"/>
            <a:ext cx="9156960" cy="469800"/>
            <a:chOff x="-6480" y="1212840"/>
            <a:chExt cx="9156960" cy="469800"/>
          </a:xfrm>
        </p:grpSpPr>
        <p:pic>
          <p:nvPicPr>
            <p:cNvPr id="224" name="Rectangle 8" descr=""/>
            <p:cNvPicPr/>
            <p:nvPr/>
          </p:nvPicPr>
          <p:blipFill>
            <a:blip r:embed="rId3"/>
            <a:stretch/>
          </p:blipFill>
          <p:spPr>
            <a:xfrm>
              <a:off x="-6480" y="1212840"/>
              <a:ext cx="915696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6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ftr" idx="10"/>
          </p:nvPr>
        </p:nvSpPr>
        <p:spPr>
          <a:xfrm>
            <a:off x="274284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sldNum" idx="11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56870-B304-49E8-BC8C-70F720983FE4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Rectangle 8"/>
          <p:cNvGrpSpPr/>
          <p:nvPr/>
        </p:nvGrpSpPr>
        <p:grpSpPr>
          <a:xfrm>
            <a:off x="-6480" y="1212840"/>
            <a:ext cx="9156960" cy="469800"/>
            <a:chOff x="-6480" y="1212840"/>
            <a:chExt cx="9156960" cy="469800"/>
          </a:xfrm>
        </p:grpSpPr>
        <p:pic>
          <p:nvPicPr>
            <p:cNvPr id="268" name="Rectangle 8" descr=""/>
            <p:cNvPicPr/>
            <p:nvPr/>
          </p:nvPicPr>
          <p:blipFill>
            <a:blip r:embed="rId3"/>
            <a:stretch/>
          </p:blipFill>
          <p:spPr>
            <a:xfrm>
              <a:off x="-6480" y="1212840"/>
              <a:ext cx="915696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0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3"/>
          </p:nvPr>
        </p:nvSpPr>
        <p:spPr>
          <a:xfrm>
            <a:off x="2742840" y="6356520"/>
            <a:ext cx="3809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4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29636-F9FA-4F60-8269-BC96875A1EC0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Rectangle 8"/>
          <p:cNvGrpSpPr/>
          <p:nvPr/>
        </p:nvGrpSpPr>
        <p:grpSpPr>
          <a:xfrm>
            <a:off x="-6480" y="1212840"/>
            <a:ext cx="9156960" cy="469800"/>
            <a:chOff x="-6480" y="1212840"/>
            <a:chExt cx="9156960" cy="469800"/>
          </a:xfrm>
        </p:grpSpPr>
        <p:pic>
          <p:nvPicPr>
            <p:cNvPr id="313" name="Rectangle 8" descr=""/>
            <p:cNvPicPr/>
            <p:nvPr/>
          </p:nvPicPr>
          <p:blipFill>
            <a:blip r:embed="rId3"/>
            <a:stretch/>
          </p:blipFill>
          <p:spPr>
            <a:xfrm>
              <a:off x="-6480" y="1212840"/>
              <a:ext cx="915696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5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16"/>
          </p:nvPr>
        </p:nvSpPr>
        <p:spPr>
          <a:xfrm>
            <a:off x="2742840" y="6356520"/>
            <a:ext cx="3809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17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0241D-DCB1-4219-BC45-AA419A2ADC5C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Rectangle 8"/>
          <p:cNvGrpSpPr/>
          <p:nvPr/>
        </p:nvGrpSpPr>
        <p:grpSpPr>
          <a:xfrm>
            <a:off x="-6480" y="1212840"/>
            <a:ext cx="9156960" cy="469800"/>
            <a:chOff x="-6480" y="1212840"/>
            <a:chExt cx="9156960" cy="469800"/>
          </a:xfrm>
        </p:grpSpPr>
        <p:pic>
          <p:nvPicPr>
            <p:cNvPr id="358" name="Rectangle 8" descr=""/>
            <p:cNvPicPr/>
            <p:nvPr/>
          </p:nvPicPr>
          <p:blipFill>
            <a:blip r:embed="rId3"/>
            <a:stretch/>
          </p:blipFill>
          <p:spPr>
            <a:xfrm>
              <a:off x="-6480" y="1212840"/>
              <a:ext cx="915696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0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19"/>
          </p:nvPr>
        </p:nvSpPr>
        <p:spPr>
          <a:xfrm>
            <a:off x="2742840" y="6356520"/>
            <a:ext cx="3809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0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52D8A-5D48-4841-BBA8-131E1D90264F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xtBox 1"/>
          <p:cNvSpPr/>
          <p:nvPr/>
        </p:nvSpPr>
        <p:spPr>
          <a:xfrm>
            <a:off x="609480" y="6477120"/>
            <a:ext cx="42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dited by : Noor Alhareq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000" spc="-1" strike="noStrike">
                <a:solidFill>
                  <a:srgbClr val="a52439"/>
                </a:solidFill>
                <a:latin typeface="Calibri"/>
              </a:rPr>
              <a:t>control unit</a:t>
            </a:r>
            <a:r>
              <a:rPr b="0" lang="en-US" sz="3000" spc="-1" strike="noStrike">
                <a:solidFill>
                  <a:srgbClr val="a52439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s the component of the processor that directs and coordinates most of the operations in the comput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andles the transmission of data into and out of the CPU and supervises its overall operation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ts interprets each instruction issued by a program &amp; then initiates the appropriate action to carry out the instruc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000" spc="-1" strike="noStrike">
                <a:solidFill>
                  <a:srgbClr val="a52439"/>
                </a:solidFill>
                <a:latin typeface="Calibri"/>
              </a:rPr>
              <a:t>arithmetic logic unit</a:t>
            </a:r>
            <a:r>
              <a:rPr b="0" lang="en-US" sz="3000" spc="-1" strike="noStrike">
                <a:solidFill>
                  <a:srgbClr val="a52439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ALU) performs arithmetic, comparison, and other operatio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24CAD-C811-4BCA-8EBB-6466ACDE345B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very instruction, a processor repeats a set of four basic operations, which comprise a machine cyc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F9630-E191-481A-B3EF-1D13F8FD9DF9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1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5" name="Picture 7" descr="CFig4-05.gif"/>
          <p:cNvPicPr/>
          <p:nvPr/>
        </p:nvPicPr>
        <p:blipFill>
          <a:blip r:embed="rId1"/>
          <a:stretch/>
        </p:blipFill>
        <p:spPr>
          <a:xfrm>
            <a:off x="1981080" y="2666880"/>
            <a:ext cx="5881680" cy="3733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pic>
        <p:nvPicPr>
          <p:cNvPr id="647" name="Content Placeholder 9" descr=""/>
          <p:cNvPicPr/>
          <p:nvPr/>
        </p:nvPicPr>
        <p:blipFill>
          <a:blip r:embed="rId1"/>
          <a:stretch/>
        </p:blipFill>
        <p:spPr>
          <a:xfrm>
            <a:off x="6480" y="1596960"/>
            <a:ext cx="9051840" cy="4657680"/>
          </a:xfrm>
          <a:prstGeom prst="rect">
            <a:avLst/>
          </a:prstGeom>
          <a:ln w="0">
            <a:noFill/>
          </a:ln>
        </p:spPr>
      </p:pic>
      <p:sp>
        <p:nvSpPr>
          <p:cNvPr id="648" name="Footer Placeholder 4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Slide Number Placeholder 5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8FAB-7121-4156-B7D6-92048A03DFAC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2439"/>
                </a:solidFill>
                <a:latin typeface="Calibri"/>
              </a:rPr>
              <a:t>Regis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registers are special storage areas in the CPU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ir function is to hold instructions, data values, memory addresses of both the instructions and dat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re are 4 basic types of it: </a:t>
            </a:r>
            <a:r>
              <a:rPr b="0" lang="en-US" sz="2500" spc="-1" strike="noStrike">
                <a:solidFill>
                  <a:srgbClr val="00b050"/>
                </a:solidFill>
                <a:latin typeface="Calibri"/>
              </a:rPr>
              <a:t>CU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500" spc="-1" strike="noStrike">
                <a:solidFill>
                  <a:srgbClr val="0070c0"/>
                </a:solidFill>
                <a:latin typeface="Calibri"/>
              </a:rPr>
              <a:t>ALU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b050"/>
                </a:solidFill>
                <a:latin typeface="Calibri"/>
              </a:rPr>
              <a:t>Instruction register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old instruction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b050"/>
                </a:solidFill>
                <a:latin typeface="Calibri"/>
              </a:rPr>
              <a:t>Address register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old address of( data , next instruction 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70c0"/>
                </a:solidFill>
                <a:latin typeface="Calibri"/>
              </a:rPr>
              <a:t>Storage register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tore data retrieved from main memory prior to processing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70c0"/>
                </a:solidFill>
                <a:latin typeface="Calibri"/>
              </a:rPr>
              <a:t>Accumulator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store the results of arithmetic &amp; logic operation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19A57-3E4F-451E-9BC7-92B7A5C9E536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2439"/>
                </a:solidFill>
                <a:latin typeface="Calibri"/>
              </a:rPr>
              <a:t>System</a:t>
            </a:r>
            <a:r>
              <a:rPr b="0" lang="en-US" sz="3200" spc="-1" strike="noStrike">
                <a:solidFill>
                  <a:srgbClr val="a52439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a52439"/>
                </a:solidFill>
                <a:latin typeface="Calibri"/>
              </a:rPr>
              <a:t>clock</a:t>
            </a:r>
            <a:r>
              <a:rPr b="0" lang="en-US" sz="3200" spc="-1" strike="noStrike">
                <a:solidFill>
                  <a:srgbClr val="a5243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generates regular electronic pulses , or ticks, that control the timing of all computer operations ( i.e. set operating pace of components of system uni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ce of system  clock is </a:t>
            </a:r>
            <a:r>
              <a:rPr b="0" lang="en-US" sz="2800" spc="-1" strike="noStrike">
                <a:solidFill>
                  <a:srgbClr val="a52439"/>
                </a:solidFill>
                <a:latin typeface="Calibri"/>
              </a:rPr>
              <a:t>clock speed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clock speeds are  in the </a:t>
            </a:r>
            <a:r>
              <a:rPr b="0" lang="en-US" sz="2800" spc="-1" strike="noStrike">
                <a:solidFill>
                  <a:srgbClr val="a52439"/>
                </a:solidFill>
                <a:latin typeface="Calibri"/>
              </a:rPr>
              <a:t>gigahertz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GHz) range (1 GHz = on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llion ticks of system clock per second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EE638-9645-4CBF-B190-7BAFD11982AD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current personal computers support </a:t>
            </a:r>
            <a:r>
              <a:rPr b="0" lang="en-US" sz="2800" spc="-1" strike="noStrike">
                <a:solidFill>
                  <a:srgbClr val="a52439"/>
                </a:solidFill>
                <a:latin typeface="Calibri"/>
              </a:rPr>
              <a:t>pipeli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or begins fetching a second instruction before it completes the machine cycle for the first instr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3" name="Content Placeholder 8" descr="Fig4-06.gif"/>
          <p:cNvPicPr/>
          <p:nvPr/>
        </p:nvPicPr>
        <p:blipFill>
          <a:blip r:embed="rId1"/>
          <a:stretch/>
        </p:blipFill>
        <p:spPr>
          <a:xfrm>
            <a:off x="4648320" y="2436840"/>
            <a:ext cx="4038480" cy="2852640"/>
          </a:xfrm>
          <a:prstGeom prst="rect">
            <a:avLst/>
          </a:prstGeom>
          <a:ln w="0">
            <a:noFill/>
          </a:ln>
        </p:spPr>
      </p:pic>
      <p:sp>
        <p:nvSpPr>
          <p:cNvPr id="664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B7B33-6479-4EB1-9337-AFD9168BDEAC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s 215 – 21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allel processing uses multiple processors simultaneously to execute a single program or tas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ssively parallel processing involves hundreds or thousands of process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Footer Placeholder 4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Slide Number Placeholder 5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129E7-9BA6-47F1-8EDF-4322245CE770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2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2" name="Picture 9" descr="Fig4-11.gif"/>
          <p:cNvPicPr/>
          <p:nvPr/>
        </p:nvPicPr>
        <p:blipFill>
          <a:blip r:embed="rId1"/>
          <a:stretch/>
        </p:blipFill>
        <p:spPr>
          <a:xfrm>
            <a:off x="2819520" y="2971800"/>
            <a:ext cx="3743280" cy="3332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456840" y="1600200"/>
            <a:ext cx="2895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leading manufacturers of personal computer processor chips are Intel and AM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8F949-8794-4448-A71C-5DA0C876A276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s 216 – 21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8" name="Content Placeholder 6" descr=""/>
          <p:cNvPicPr/>
          <p:nvPr/>
        </p:nvPicPr>
        <p:blipFill>
          <a:blip r:embed="rId1"/>
          <a:stretch/>
        </p:blipFill>
        <p:spPr>
          <a:xfrm>
            <a:off x="3809880" y="1600200"/>
            <a:ext cx="5105520" cy="4724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151920" y="1600200"/>
            <a:ext cx="2667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termine how you plan to use a new computer before selecting a process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Footer Placeholder 4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Slide Number Placeholder 5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0BC0D-5161-4E9A-BC8C-DE0A8A536D84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1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4" name="Picture 2" descr=""/>
          <p:cNvPicPr/>
          <p:nvPr/>
        </p:nvPicPr>
        <p:blipFill>
          <a:blip r:embed="rId1"/>
          <a:stretch/>
        </p:blipFill>
        <p:spPr>
          <a:xfrm>
            <a:off x="2895480" y="1371600"/>
            <a:ext cx="6248520" cy="5486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5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rocessor chip generates heat that could cause the chip to burn 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quire additional coo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at sin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quid cooling technolo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7" name="Content Placeholder 9" descr="CFig4-09.gif"/>
          <p:cNvPicPr/>
          <p:nvPr/>
        </p:nvPicPr>
        <p:blipFill>
          <a:blip r:embed="rId1"/>
          <a:stretch/>
        </p:blipFill>
        <p:spPr>
          <a:xfrm>
            <a:off x="5181480" y="1752480"/>
            <a:ext cx="2895840" cy="1925640"/>
          </a:xfrm>
          <a:prstGeom prst="rect">
            <a:avLst/>
          </a:prstGeom>
          <a:ln w="0">
            <a:noFill/>
          </a:ln>
        </p:spPr>
      </p:pic>
      <p:sp>
        <p:nvSpPr>
          <p:cNvPr id="688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4ADEE-420F-4AF8-B2D9-873537CCCD57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s 219 - 22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s 4-9 – 4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1" name="Picture 10" descr="Fig4-10.gif"/>
          <p:cNvPicPr/>
          <p:nvPr/>
        </p:nvPicPr>
        <p:blipFill>
          <a:blip r:embed="rId2"/>
          <a:stretch/>
        </p:blipFill>
        <p:spPr>
          <a:xfrm>
            <a:off x="5181480" y="3809880"/>
            <a:ext cx="2895840" cy="2360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5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75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25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Objectives Overview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pic>
        <p:nvPicPr>
          <p:cNvPr id="591" name="Content Placeholder 6" descr=""/>
          <p:cNvPicPr/>
          <p:nvPr/>
        </p:nvPicPr>
        <p:blipFill>
          <a:blip r:embed="rId1"/>
          <a:stretch/>
        </p:blipFill>
        <p:spPr>
          <a:xfrm>
            <a:off x="42840" y="1596960"/>
            <a:ext cx="9120240" cy="4657680"/>
          </a:xfrm>
          <a:prstGeom prst="rect">
            <a:avLst/>
          </a:prstGeom>
          <a:ln w="0">
            <a:noFill/>
          </a:ln>
        </p:spPr>
      </p:pic>
      <p:sp>
        <p:nvSpPr>
          <p:cNvPr id="592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13CFB-49DC-42E3-8F27-8D3439263AC3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ee Page 209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or Detailed Objectiv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Data Representation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pic>
        <p:nvPicPr>
          <p:cNvPr id="693" name="Content Placeholder 6" descr=""/>
          <p:cNvPicPr/>
          <p:nvPr/>
        </p:nvPicPr>
        <p:blipFill>
          <a:blip r:embed="rId1"/>
          <a:stretch/>
        </p:blipFill>
        <p:spPr>
          <a:xfrm>
            <a:off x="30240" y="1596960"/>
            <a:ext cx="9016920" cy="4657680"/>
          </a:xfrm>
          <a:prstGeom prst="rect">
            <a:avLst/>
          </a:prstGeom>
          <a:ln w="0">
            <a:noFill/>
          </a:ln>
        </p:spPr>
      </p:pic>
      <p:sp>
        <p:nvSpPr>
          <p:cNvPr id="694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36207-63FB-4D69-8986-59B3327FB3DB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Data Representation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13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 computer circuit represents the 0 or the 1 electronically by the presence or absence of an electrical char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9" name="Content Placeholder 11" descr="Fig4-12.gif"/>
          <p:cNvPicPr/>
          <p:nvPr/>
        </p:nvPicPr>
        <p:blipFill>
          <a:blip r:embed="rId1"/>
          <a:stretch/>
        </p:blipFill>
        <p:spPr>
          <a:xfrm>
            <a:off x="457200" y="3255840"/>
            <a:ext cx="4040280" cy="258624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181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Eight bit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rouped together as a unit are called a </a:t>
            </a:r>
            <a:r>
              <a:rPr b="1" lang="en-US" sz="2200" spc="-1" strike="noStrike">
                <a:solidFill>
                  <a:srgbClr val="a52439"/>
                </a:solidFill>
                <a:latin typeface="Calibri"/>
              </a:rPr>
              <a:t>byte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. A byte represents a single character in the computer ( numbers, upper or lower case letters, or punctuation mark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1" name="Content Placeholder 12" descr="Fig4-13.gif"/>
          <p:cNvPicPr/>
          <p:nvPr/>
        </p:nvPicPr>
        <p:blipFill>
          <a:blip r:embed="rId2"/>
          <a:stretch/>
        </p:blipFill>
        <p:spPr>
          <a:xfrm>
            <a:off x="4724280" y="3581280"/>
            <a:ext cx="4191120" cy="2286000"/>
          </a:xfrm>
          <a:prstGeom prst="rect">
            <a:avLst/>
          </a:prstGeom>
          <a:ln w="0">
            <a:noFill/>
          </a:ln>
        </p:spPr>
      </p:pic>
      <p:sp>
        <p:nvSpPr>
          <p:cNvPr id="702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9B4F9-E651-4938-A251-C75C7DA5FF21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2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s 4-12 – 4-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0"/>
                            </p:stCondLst>
                            <p:childTnLst>
                              <p:par>
                                <p:cTn id="224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6" dur="50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75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Data Representation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different combinations of 0s and 1s are defined by patterns called </a:t>
            </a:r>
            <a:r>
              <a:rPr b="0" lang="en-US" sz="2400" spc="-1" strike="noStrike">
                <a:solidFill>
                  <a:srgbClr val="a52439"/>
                </a:solidFill>
                <a:latin typeface="Calibri"/>
              </a:rPr>
              <a:t>a coding schem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are two coding schemas used to represent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spcAft>
                <a:spcPts val="601"/>
              </a:spcAft>
              <a:buClr>
                <a:srgbClr val="d9443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CII—American Standard Code for Information Interchang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[Personal Computers – PCS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spcAft>
                <a:spcPts val="601"/>
              </a:spcAft>
              <a:buClr>
                <a:srgbClr val="d9443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BCDIC—Extended Binary Coded Decimal Interchange Cod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[Mainframes, Mini-computers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Footer Placeholder 6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Slide Number Placeholder 7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60D6C-F84C-4635-80CB-41E83CCB3669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2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Picture 2" descr=""/>
          <p:cNvPicPr/>
          <p:nvPr/>
        </p:nvPicPr>
        <p:blipFill>
          <a:blip r:embed="rId1"/>
          <a:stretch/>
        </p:blipFill>
        <p:spPr>
          <a:xfrm>
            <a:off x="2209680" y="4952880"/>
            <a:ext cx="4353120" cy="1467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7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7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7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Data Representation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456840" y="159984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CII is the most widely used coding scheme to represent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3" name="Content Placeholder 13" descr="Fig4-14.gif"/>
          <p:cNvPicPr/>
          <p:nvPr/>
        </p:nvPicPr>
        <p:blipFill>
          <a:blip r:embed="rId1"/>
          <a:stretch/>
        </p:blipFill>
        <p:spPr>
          <a:xfrm>
            <a:off x="1523880" y="2658960"/>
            <a:ext cx="6248520" cy="4199040"/>
          </a:xfrm>
          <a:prstGeom prst="rect">
            <a:avLst/>
          </a:prstGeom>
          <a:ln w="0">
            <a:noFill/>
          </a:ln>
        </p:spPr>
      </p:pic>
      <p:sp>
        <p:nvSpPr>
          <p:cNvPr id="714" name="Footer Placeholder 6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Slide Number Placeholder 7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12AA8-9544-4C83-90C0-23543FC5BB02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2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5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Data Representation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18" name="Footer Placeholder 4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Slide Number Placeholder 5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62AA2-FFD8-41B4-9933-B328FC906558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2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Content Placeholder 3" descr=""/>
          <p:cNvPicPr/>
          <p:nvPr/>
        </p:nvPicPr>
        <p:blipFill>
          <a:blip r:embed="rId1"/>
          <a:srcRect l="0" t="0" r="3447" b="7965"/>
          <a:stretch/>
        </p:blipFill>
        <p:spPr>
          <a:xfrm>
            <a:off x="457200" y="1676520"/>
            <a:ext cx="8305920" cy="464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The System Uni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152280" y="17521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a52439"/>
                </a:solidFill>
                <a:latin typeface="Calibri"/>
              </a:rPr>
              <a:t>system unit</a:t>
            </a:r>
            <a:r>
              <a:rPr b="0" lang="en-US" sz="2800" spc="-1" strike="noStrike">
                <a:solidFill>
                  <a:srgbClr val="a52439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a case that contains electronic components of the computer used to process da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de of metal or plastic to protects the internal components from dama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computers have a system unit. It is available in variety of shapes &amp; siz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A66A9-FE30-4138-974B-3DF2E46470AD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1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Footer Placeholder 3"/>
          <p:cNvSpPr/>
          <p:nvPr/>
        </p:nvSpPr>
        <p:spPr>
          <a:xfrm>
            <a:off x="2743200" y="6356520"/>
            <a:ext cx="380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9515C-2714-4849-80D2-88C5D8182BD4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2" name="Picture 6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458200" cy="5943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The System Uni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inside of the system unit on a desktop personal computer includ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B8AE8-C39F-424C-ABDD-6CACDC0C91A4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1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8" name="Diagram 6" descr=""/>
          <p:cNvPicPr/>
          <p:nvPr/>
        </p:nvPicPr>
        <p:blipFill>
          <a:blip r:embed="rId1"/>
          <a:stretch/>
        </p:blipFill>
        <p:spPr>
          <a:xfrm>
            <a:off x="334800" y="2706840"/>
            <a:ext cx="2389320" cy="360180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9" descr=""/>
          <p:cNvPicPr/>
          <p:nvPr/>
        </p:nvPicPr>
        <p:blipFill>
          <a:blip r:embed="rId2"/>
          <a:stretch/>
        </p:blipFill>
        <p:spPr>
          <a:xfrm>
            <a:off x="2971800" y="2743200"/>
            <a:ext cx="5487840" cy="3505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Motherboard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152280" y="1600200"/>
            <a:ext cx="4724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a52439"/>
                </a:solidFill>
                <a:latin typeface="Calibri"/>
              </a:rPr>
              <a:t>motherboar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the main circuit board of the system un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ansion slots, processor chips, and memory sl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times called a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ystem bo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AE3F8-6299-4C4C-AD17-D296ACCCE1DB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1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5" name="Picture 6" descr="CFig4-03.gif"/>
          <p:cNvPicPr/>
          <p:nvPr/>
        </p:nvPicPr>
        <p:blipFill>
          <a:blip r:embed="rId1"/>
          <a:stretch/>
        </p:blipFill>
        <p:spPr>
          <a:xfrm>
            <a:off x="5029200" y="1752480"/>
            <a:ext cx="3886200" cy="4191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7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Motherboard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grpSp>
        <p:nvGrpSpPr>
          <p:cNvPr id="617" name="Group 21"/>
          <p:cNvGrpSpPr/>
          <p:nvPr/>
        </p:nvGrpSpPr>
        <p:grpSpPr>
          <a:xfrm>
            <a:off x="7846920" y="6402240"/>
            <a:ext cx="860400" cy="271440"/>
            <a:chOff x="7846920" y="6402240"/>
            <a:chExt cx="860400" cy="271440"/>
          </a:xfrm>
        </p:grpSpPr>
        <p:sp>
          <p:nvSpPr>
            <p:cNvPr id="618" name="AutoShape 22">
              <a:hlinkClick r:id="" action="ppaction://hlinkshowjump?jump=nextslide"/>
            </p:cNvPr>
            <p:cNvSpPr/>
            <p:nvPr/>
          </p:nvSpPr>
          <p:spPr>
            <a:xfrm>
              <a:off x="7873920" y="6402240"/>
              <a:ext cx="833400" cy="271440"/>
            </a:xfrm>
            <a:custGeom>
              <a:avLst/>
              <a:gdLst>
                <a:gd name="textAreaLeft" fmla="*/ 17280 w 833400"/>
                <a:gd name="textAreaRight" fmla="*/ 816120 w 833400"/>
                <a:gd name="textAreaTop" fmla="*/ 17280 h 271440"/>
                <a:gd name="textAreaBottom" fmla="*/ 254160 h 271440"/>
              </a:gdLst>
              <a:ahLst/>
              <a:rect l="textAreaLeft" t="textAreaTop" r="textAreaRight" b="textAreaBottom"/>
              <a:pathLst>
                <a:path w="66259" h="21600">
                  <a:moveTo>
                    <a:pt x="0" y="0"/>
                  </a:moveTo>
                  <a:lnTo>
                    <a:pt x="66259" y="0"/>
                  </a:lnTo>
                  <a:lnTo>
                    <a:pt x="66259" y="21600"/>
                  </a:lnTo>
                  <a:lnTo>
                    <a:pt x="0" y="21600"/>
                  </a:lnTo>
                  <a:close/>
                </a:path>
                <a:path fill="lightenLess" w="66259" h="21600">
                  <a:moveTo>
                    <a:pt x="0" y="0"/>
                  </a:moveTo>
                  <a:lnTo>
                    <a:pt x="66259" y="0"/>
                  </a:lnTo>
                  <a:lnTo>
                    <a:pt x="64859" y="1400"/>
                  </a:lnTo>
                  <a:lnTo>
                    <a:pt x="1400" y="1400"/>
                  </a:lnTo>
                  <a:close/>
                </a:path>
                <a:path fill="darken" w="66259" h="21600">
                  <a:moveTo>
                    <a:pt x="66259" y="0"/>
                  </a:moveTo>
                  <a:lnTo>
                    <a:pt x="66259" y="21600"/>
                  </a:lnTo>
                  <a:lnTo>
                    <a:pt x="64859" y="20200"/>
                  </a:lnTo>
                  <a:lnTo>
                    <a:pt x="64859" y="1400"/>
                  </a:lnTo>
                  <a:close/>
                </a:path>
                <a:path fill="darkenLess" w="66259" h="21600">
                  <a:moveTo>
                    <a:pt x="6625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64859" y="20200"/>
                  </a:lnTo>
                  <a:close/>
                </a:path>
                <a:path fill="lighten" w="6625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66259" h="21600">
                  <a:moveTo>
                    <a:pt x="26123" y="3794"/>
                  </a:moveTo>
                  <a:lnTo>
                    <a:pt x="40136" y="10800"/>
                  </a:lnTo>
                  <a:lnTo>
                    <a:pt x="26123" y="17806"/>
                  </a:lnTo>
                  <a:close/>
                </a:path>
              </a:pathLst>
            </a:custGeom>
            <a:solidFill>
              <a:srgbClr val="ffb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Text Box 23"/>
            <p:cNvSpPr/>
            <p:nvPr/>
          </p:nvSpPr>
          <p:spPr>
            <a:xfrm>
              <a:off x="7846920" y="6407280"/>
              <a:ext cx="466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eeece1"/>
                  </a:solidFill>
                  <a:latin typeface="Times New Roman"/>
                </a:rPr>
                <a:t>Nex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0" name="Rectangle 30"/>
          <p:cNvSpPr/>
          <p:nvPr/>
        </p:nvSpPr>
        <p:spPr>
          <a:xfrm>
            <a:off x="380880" y="1752480"/>
            <a:ext cx="7782120" cy="13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st computers use integrated circuits  also called </a:t>
            </a:r>
            <a:r>
              <a:rPr b="0" lang="en-US" sz="2400" spc="-1" strike="noStrike">
                <a:solidFill>
                  <a:srgbClr val="c0504d"/>
                </a:solidFill>
                <a:latin typeface="Calibri"/>
              </a:rPr>
              <a:t>chip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, for their CPU and main memor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mory chips are installed on memory module( card) that fit in a slot on the mother boar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is a </a:t>
            </a: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chip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mall piece of semi-conducting material on which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ntegrated circuits (IC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etch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C contain many microscopic pathways capable of carrying electrical curr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IC can contain millions of elements such as resistors, capacitors, transistor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176"/>
              </a:spcBef>
              <a:buClr>
                <a:srgbClr val="d9443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Rectangle 37"/>
          <p:cNvSpPr/>
          <p:nvPr/>
        </p:nvSpPr>
        <p:spPr>
          <a:xfrm>
            <a:off x="304920" y="3000240"/>
            <a:ext cx="7781760" cy="36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02888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2" name="Picture 7" descr="04PHY011_ChipScaleClock2_HR"/>
          <p:cNvPicPr/>
          <p:nvPr/>
        </p:nvPicPr>
        <p:blipFill>
          <a:blip r:embed="rId1"/>
          <a:stretch/>
        </p:blipFill>
        <p:spPr>
          <a:xfrm rot="849600">
            <a:off x="7508520" y="2976480"/>
            <a:ext cx="1471680" cy="151308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6" descr="r100004large"/>
          <p:cNvPicPr/>
          <p:nvPr/>
        </p:nvPicPr>
        <p:blipFill>
          <a:blip r:embed="rId2"/>
          <a:stretch/>
        </p:blipFill>
        <p:spPr>
          <a:xfrm rot="1036200">
            <a:off x="7735680" y="4644720"/>
            <a:ext cx="1222200" cy="1439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75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250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6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5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a52439"/>
                </a:solidFill>
                <a:latin typeface="Calibri"/>
              </a:rPr>
              <a:t>process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also called the </a:t>
            </a:r>
            <a:r>
              <a:rPr b="1" lang="en-US" sz="3200" spc="-1" strike="noStrike">
                <a:solidFill>
                  <a:srgbClr val="a52439"/>
                </a:solidFill>
                <a:latin typeface="Calibri"/>
              </a:rPr>
              <a:t>central processing uni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3200" spc="-1" strike="noStrike">
                <a:solidFill>
                  <a:srgbClr val="a52439"/>
                </a:solidFill>
                <a:latin typeface="Calibri"/>
              </a:rPr>
              <a:t>CP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, interprets and carries out the basic instructions that operate a compu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ain a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ntrol uni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a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rithmetic logic unit (ALU)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at work together to perform processing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D7862-0FA4-472F-B48F-651ED486CC2C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9" name="Diagram 6" descr=""/>
          <p:cNvPicPr/>
          <p:nvPr/>
        </p:nvPicPr>
        <p:blipFill>
          <a:blip r:embed="rId1"/>
          <a:stretch/>
        </p:blipFill>
        <p:spPr>
          <a:xfrm>
            <a:off x="103320" y="4340160"/>
            <a:ext cx="9345600" cy="2298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pic>
        <p:nvPicPr>
          <p:cNvPr id="631" name="Content Placeholder 6" descr="Fig4-04.gif"/>
          <p:cNvPicPr/>
          <p:nvPr/>
        </p:nvPicPr>
        <p:blipFill>
          <a:blip r:embed="rId1"/>
          <a:stretch/>
        </p:blipFill>
        <p:spPr>
          <a:xfrm>
            <a:off x="1066680" y="1600200"/>
            <a:ext cx="6705720" cy="4648320"/>
          </a:xfrm>
          <a:prstGeom prst="rect">
            <a:avLst/>
          </a:prstGeom>
          <a:ln w="0">
            <a:noFill/>
          </a:ln>
        </p:spPr>
      </p:pic>
      <p:sp>
        <p:nvSpPr>
          <p:cNvPr id="632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25CDE-B148-410A-B684-7F169A0A0AAE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1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17:11:12Z</dcterms:created>
  <dc:creator>steven</dc:creator>
  <dc:description/>
  <dc:language>en-US</dc:language>
  <cp:lastModifiedBy>sara</cp:lastModifiedBy>
  <dcterms:modified xsi:type="dcterms:W3CDTF">2014-02-01T16:50:28Z</dcterms:modified>
  <cp:revision>12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CC6BB1F00AAFA34493B35981E2967FB1</vt:lpwstr>
  </property>
</Properties>
</file>