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dt" idx="3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ftr" idx="3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 type="sldNum" idx="3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299E-D9D7-4360-A0F4-F1C359118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2BA3-0FFD-4EE3-96A2-AFE131B151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4A84-DD1E-4A3E-8C9D-E1D36BD4B6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For every instruction, a processor repeats a set of four basic opera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Fetch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process of obtaining a program instruction or data item from mem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Decod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process of translating the instruction into signals the computer can execu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Execut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process of carrying out the comma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Stor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, if necessary. Means writing the result to </a:t>
            </a:r>
            <a:r>
              <a:rPr b="0" i="1" lang="en-US" sz="1200" spc="-1" strike="noStrike">
                <a:solidFill>
                  <a:srgbClr val="000000"/>
                </a:solidFill>
                <a:latin typeface="Tw Cen MT Condensed"/>
              </a:rPr>
              <a:t>memory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F72B-4DD1-49A4-A2B9-FAF3E30270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6D9C-969F-4193-AB42-2DDD24131F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Processing actions occur at each “tick” of the electronic clo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he Speed of the clock determines the speed at which the CPU can process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he faster  the clock speed, the more instruction the processor can execute per second (hertz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40C1-6F78-42ED-8CD8-BB3AF91751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4BEA-7721-4207-9797-CEAA8C79DC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16D1-254F-4589-A0D8-40E8BB07CC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hey often identify their processor chip by a model name or model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Other leading processor chip manufactur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ransme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IB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Motorol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IBM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processor had a   different design from the Intel-style process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52AB-9B9D-4742-B748-D1821F6142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87FF-3BBD-4A10-8037-24D4C2EA95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ECE7-6F54-407F-998B-0D7F7F6B87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9ECD-3871-4C49-9DFA-1F314BB06F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01E9-8FBE-4CB0-B86F-70783A1091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05B3-1FC6-4543-9499-395830A680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8EAB-4E34-421A-88E0-A2E4F68D77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C075-BAF0-4866-B9AE-C91A0F7932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0113-C392-42CF-811D-C42E9758CE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7F6B-7E6B-46C1-BC09-4FBCD58047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Processor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interprets &amp; carries out the basic instructions that operate a compu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Memory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holds data waiting to be processed &amp; instruction waiting to be execu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Processor &amp; Memory are connected to a circuit board called the </a:t>
            </a: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mother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Adapter cards 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are circuit boards that provide connections and functions not built into the mother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Devices outside the system unit often attach to the </a:t>
            </a: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po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A drive bay 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holds one or more disk dr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The Power supply 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provide the computer with the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9E97-9D88-4534-9072-40C99CE598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Many electronic components attach to the motherboard, others are built into it. Ex: adapter cards, a processor chip and a memory mod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3DB9-8665-4728-8A04-9860670473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6440" indent="-40644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d94439"/>
                </a:solidFill>
                <a:latin typeface="Times New Roman"/>
              </a:rPr>
              <a:t>dual-core processo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is a single chip that contains two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parate process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d94439"/>
                </a:solidFill>
                <a:latin typeface="Times New Roman"/>
              </a:rPr>
              <a:t>multi-core processo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is a chip with two or mor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parate process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ach processor on a dual-core/multi-core chip generall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uns at a slower clock speed, but increase overall perform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06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E758-EF0C-482A-AEC6-8ACD561A84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he operations typically performed by a CPU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PUs control the reading of programs and input fi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Its activates input unit to read program and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Controls the transmission of program &amp; data files from disk to main mem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PUs process data according to instructions in a progr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Data can be processed arithmetically- number can be added, subtracted, multiplied and divi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Logical tests can be performed on data. E.g., compari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Data can be transmitted or copied from one area of primary storage to an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PUs control the creation of outpu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C08B-4239-4F3E-9C5E-3E3CE1AB91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336AD-92AC-4107-ACB9-C8041E9069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C5243-BEB2-4A05-BCFE-55CD5FA1150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D48FDB-C9CB-4569-B253-54504F9B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C4EA1F-36B1-4CB9-BF36-152D29EF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8500AC-2AF3-4570-B370-537F3C02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426DA8-30EE-455D-ABF4-165C8347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988B5F-882D-4C92-B4F6-1E481B8D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0C6906-64A4-480C-8458-863E5424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29DFD7-2D92-445D-ADA1-BE2BC3A7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C44C28-CC67-435B-BDE9-E349128CE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C0B7D6-3D1A-40CC-B024-32728664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4F4316-1B79-45DD-9C8E-2019FD60A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09DAF-33BB-4A23-9D2B-E36A01C0FE2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8DF5AA-40C4-4F40-87DB-0DD50A5B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B9395B-1978-494D-AE9D-6B128431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4D7BF3-DBB2-43D7-B750-94083D97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4B18FC-667B-4000-8E69-0A31336E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A6B804-9B48-4634-9E8E-EE33AF3E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6F6F5D-7819-4C5B-8BBC-8B038103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4A239B-C959-4C2C-BB67-2D806684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2BFA19-E40A-408E-B061-E633DBDD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026344-3F33-4F8E-94B6-485BBE56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D3E4B2-C13A-4CDC-A583-8D52D319E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33352-730E-4B47-90B2-4C8A2E55B67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1DACCF-88B3-4726-9F12-AD3E12C97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A37D78-9C60-4170-ACBF-ED8B9742A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7ECE1A-766D-4FAF-98E1-F92BF5DA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07026F-40A0-4DDE-B531-44DF43C7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3DA758-7584-48E4-B962-423B50B3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B446D5-C0F8-4BAA-B02C-952D42D0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3F3062-41CB-42AF-AF10-44F3C40D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D6E8EF-92E1-4D55-A7DF-FB0195C0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0F5E66-C8DF-4FE5-A23F-2D760C0B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E20B54-FF64-4794-8111-1797D677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9D8E8A-EAA0-4BC0-8AA7-0116BF18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5A6654-3E21-4CD6-A43D-73C026DD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96750B-2862-49B9-9B9A-2F7CBE842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9DF46B-B4B5-4E84-BEFC-DEECF493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DFA485-9D04-472F-BDEB-8F687AFD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352331-CF75-49A5-806E-854AE206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4C489E-899E-4EEC-9839-58D36AF5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67DBD9-21F6-4128-978A-6F5D2803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BC89B1-45C9-41D3-A8A6-70A5355D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D38630-E6AF-4471-923A-88718DB9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C2C38D-7046-409B-93B0-3C9A6E20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E23284-154A-4BC0-8B09-DA1669A6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5AD0D1-7CAA-4E15-832A-ED0F5838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64E70E-E364-4DDA-AF74-1DC5BE2B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5EBFAF-3AA4-446D-A3F3-552024AB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6F7C7D-0AB9-46C1-AEF3-EDE3FC8E8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12947D-C8C3-4B44-A6D0-FFB5136C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5E7201-FD98-46C1-83B9-C3136B1C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325F26-1E94-4764-A7D6-78D56194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FF3ECE-00AB-4E17-AFD4-EBE812D0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86F71C-D837-4E98-9BFB-1D110C96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5B81FC-E7ED-4319-A1E7-2F24699A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840EC6-AAB4-47B5-952D-618CF4B1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40BFF5-8CC2-4FD4-BEC8-9D9868DA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D0FAAD-0737-4A83-B80E-64DEB871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4857279-2C1C-45D6-BB55-2577191A0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B2EDEC-F244-4709-B7F3-CF5725BFB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19632-FC41-4FD0-836E-B05703D5BF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A2916-7F4C-4E49-B79D-FE10CE51D85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14BA2-DAE2-455E-8F78-9DC81B2DF1B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4065E-3369-4D59-A529-B38FF10E9C2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5B914-EF5F-44B2-B131-CAE28C7A88C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181DC-3651-4527-A353-905D1AD311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CC6B2-FDBF-4224-A13F-6487D858A7C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2F133-EFBF-4DFC-BA4E-5B6E6839D6D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4E1A4-2177-47FE-B4FF-B22C04640B0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9F6C4-62EF-464C-B1B5-37EF9C5BBE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DD242-56C4-412D-89FD-5AA3C7DABB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3C24D-D22B-4D58-BF20-79117A3FAE6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337E3-64A1-4A5C-A0FE-DB5FA541984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98C9A-497F-4603-9E99-1CFD7D7DA4C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74A9F6-A0E6-418A-84E1-86678BF87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330332-5782-498E-BA28-C81C09EA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438BE5-B979-4E69-8468-6D8FECCD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F9669-EB37-4BFE-9C9E-69FAEDF2123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18AF60-C51C-4903-9C72-C0EAD2EC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10371B-B7A8-4EA1-9AEC-5383937C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E1BA0D-5FD9-4F67-912C-3011E57A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0407E7-3C39-412C-B88C-58462189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798D92-C6A3-4B1B-891B-981FEEB3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4D4C98-E870-458C-A5BF-5BE83EBC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A13100-3C24-461B-97AD-0A5EFC8E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8E6DE7-3364-4952-A026-E817A83C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223F8B-3181-4FE1-9246-DC93A44E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5103D-3C1B-4515-B538-49FA2EB615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3D5BF-9D51-4BA5-9724-65F36A05065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C0D15-16A6-468B-A14C-7F6F3A81F93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2DEE1-1110-4E38-831B-F9B638A02A5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527FF-19B6-45A9-AC6F-EC546F19368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1C2BF-77C5-49E9-9897-1B5BD4C2D1E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87024-259E-4A8F-8BD6-FF1F7F55E23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E06F2-65E5-4422-82F3-0B118129869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96065-2251-4C32-BD03-0AA1D3C545B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29052-F228-4CA4-8A58-AAF1BBA17DE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EC2F4-B032-4E89-8195-81981570F74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D1DE5-BA8A-4F46-A561-2CF7922336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6ABC2-F37F-4EDE-B75A-44E5848CCE2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D8538-02D6-4F82-B379-FCB1F9BA911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95AF1F-F057-4069-9E91-E3DDA4264F5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E13B24-4CB5-4BAA-A23A-FF1175F515C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F4A952-DB7F-42D9-9DA9-F1985565C4C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321537-7040-482F-83B2-D971EBDD330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CAC7B9-0B87-499C-BF9E-9790DBAE6DE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DEC8C4-57E4-423E-820D-4A3E34A97A6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CE75F5-60B8-4B72-A9A3-E7CD7EBBA46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3F2047-7926-4E18-97A7-3B7E106141B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6298EC-E241-48A9-A02F-33E896C359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DEB9D-40B2-46B2-94DC-82E7E0E02D6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B201BF-684E-4BCD-BEF5-10E790BB452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2FBF13-7999-43B4-8726-CD097D41484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0EA4FE-7B1D-4303-90C4-FFE4D908299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946183-9D60-42EC-9698-4E9DEC63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51F5C8-25D7-46AC-B2BC-E328E8F0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928A6A-1705-4FF9-B445-4AE7CB4B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9F4E3D-D87E-48FB-ACD2-A7C35E04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259258-06DE-46A5-AEF3-E8C539E4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385FAE-F533-4C49-AD48-B9CA6256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0C3A7A-56D8-484E-9AD6-ED4F5E1A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C8415-D379-4EAB-BE22-A7472CF5BD5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E2432B-D9DC-4EEA-9F1F-341C5A0D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301185-3F69-479A-9534-A8BB405B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908125-188D-4348-9C78-EE6320C5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6F2870-73F6-44C1-9AF1-C7AA3469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BCFAD3-AB4E-4080-BCDA-629F388A6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EC8382-188F-4A58-9BA2-9D43F6CC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FB25E9-4AE9-46BB-83C9-65198D5D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092824-C1F2-4796-8A2A-C928DCCF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11F572-B058-4066-8C43-54FD1D91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DCEFAC-EDB7-4CA0-8C40-173E1FFD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707A0-192C-44FE-BC51-52EFF697216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CD50AF-609C-4848-981F-DB30C209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406D65-E38D-4260-8192-D6C3197C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4145DA-A96E-4C5F-97BB-C9EE369C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B56148-8A04-44DF-8F72-3CDCF666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DE575B-5383-4112-AC37-3CC75270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1C33D4-D9BA-44FD-B958-4B4AF4C83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F07474-4575-44B3-BC8A-B6E43051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9B9D02-3172-41EA-BDFF-0005BCD0F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28A096-7F73-4936-B092-34981759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4B533B-CFDC-4C25-A1C5-C32777E9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Rectangle 8"/>
          <p:cNvGrpSpPr/>
          <p:nvPr/>
        </p:nvGrpSpPr>
        <p:grpSpPr>
          <a:xfrm>
            <a:off x="-6480" y="1212840"/>
            <a:ext cx="9156960" cy="469800"/>
            <a:chOff x="-6480" y="1212840"/>
            <a:chExt cx="9156960" cy="469800"/>
          </a:xfrm>
        </p:grpSpPr>
        <p:pic>
          <p:nvPicPr>
            <p:cNvPr id="3" name="Rectangle 8" descr=""/>
            <p:cNvPicPr/>
            <p:nvPr/>
          </p:nvPicPr>
          <p:blipFill>
            <a:blip r:embed="rId3"/>
            <a:stretch/>
          </p:blipFill>
          <p:spPr>
            <a:xfrm>
              <a:off x="-6480" y="1212840"/>
              <a:ext cx="91569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6F04-2F47-4A6B-A6D4-1680C440A9EC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981080" y="6370560"/>
            <a:ext cx="472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Rectangle 8"/>
          <p:cNvGrpSpPr/>
          <p:nvPr/>
        </p:nvGrpSpPr>
        <p:grpSpPr>
          <a:xfrm>
            <a:off x="-6480" y="1212840"/>
            <a:ext cx="9156960" cy="469800"/>
            <a:chOff x="-6480" y="1212840"/>
            <a:chExt cx="9156960" cy="469800"/>
          </a:xfrm>
        </p:grpSpPr>
        <p:pic>
          <p:nvPicPr>
            <p:cNvPr id="403" name="Rectangle 8" descr=""/>
            <p:cNvPicPr/>
            <p:nvPr/>
          </p:nvPicPr>
          <p:blipFill>
            <a:blip r:embed="rId3"/>
            <a:stretch/>
          </p:blipFill>
          <p:spPr>
            <a:xfrm>
              <a:off x="-6480" y="1212840"/>
              <a:ext cx="91569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2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3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DC28-EB5B-4D46-8EAA-FB0A589E4AE0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Rectangle 8"/>
          <p:cNvGrpSpPr/>
          <p:nvPr/>
        </p:nvGrpSpPr>
        <p:grpSpPr>
          <a:xfrm>
            <a:off x="-6480" y="1212840"/>
            <a:ext cx="9156960" cy="469800"/>
            <a:chOff x="-6480" y="1212840"/>
            <a:chExt cx="9156960" cy="469800"/>
          </a:xfrm>
        </p:grpSpPr>
        <p:pic>
          <p:nvPicPr>
            <p:cNvPr id="448" name="Rectangle 8" descr=""/>
            <p:cNvPicPr/>
            <p:nvPr/>
          </p:nvPicPr>
          <p:blipFill>
            <a:blip r:embed="rId3"/>
            <a:stretch/>
          </p:blipFill>
          <p:spPr>
            <a:xfrm>
              <a:off x="-6480" y="1212840"/>
              <a:ext cx="91569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5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26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8A84-5D95-4E10-B667-C3201B950B6B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Rectangle 8"/>
          <p:cNvGrpSpPr/>
          <p:nvPr/>
        </p:nvGrpSpPr>
        <p:grpSpPr>
          <a:xfrm>
            <a:off x="-6480" y="1212840"/>
            <a:ext cx="9156960" cy="469800"/>
            <a:chOff x="-6480" y="1212840"/>
            <a:chExt cx="9156960" cy="469800"/>
          </a:xfrm>
        </p:grpSpPr>
        <p:pic>
          <p:nvPicPr>
            <p:cNvPr id="493" name="Rectangle 8" descr=""/>
            <p:cNvPicPr/>
            <p:nvPr/>
          </p:nvPicPr>
          <p:blipFill>
            <a:blip r:embed="rId3"/>
            <a:stretch/>
          </p:blipFill>
          <p:spPr>
            <a:xfrm>
              <a:off x="-6480" y="1212840"/>
              <a:ext cx="91569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28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29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7C42-441C-478E-A5FD-DDFEE9591E6B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Rectangle 8"/>
          <p:cNvGrpSpPr/>
          <p:nvPr/>
        </p:nvGrpSpPr>
        <p:grpSpPr>
          <a:xfrm>
            <a:off x="-6480" y="1212840"/>
            <a:ext cx="9156960" cy="469800"/>
            <a:chOff x="-6480" y="1212840"/>
            <a:chExt cx="9156960" cy="469800"/>
          </a:xfrm>
        </p:grpSpPr>
        <p:pic>
          <p:nvPicPr>
            <p:cNvPr id="538" name="Rectangle 8" descr=""/>
            <p:cNvPicPr/>
            <p:nvPr/>
          </p:nvPicPr>
          <p:blipFill>
            <a:blip r:embed="rId3"/>
            <a:stretch/>
          </p:blipFill>
          <p:spPr>
            <a:xfrm>
              <a:off x="-6480" y="1212840"/>
              <a:ext cx="91569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0"/>
          </p:nvPr>
        </p:nvSpPr>
        <p:spPr>
          <a:xfrm>
            <a:off x="196848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1"/>
          </p:nvPr>
        </p:nvSpPr>
        <p:spPr>
          <a:xfrm>
            <a:off x="1981080" y="6370560"/>
            <a:ext cx="472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2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55E8-2DB7-4DF0-89A9-2A910ED81038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8"/>
          <p:cNvGrpSpPr/>
          <p:nvPr/>
        </p:nvGrpSpPr>
        <p:grpSpPr>
          <a:xfrm>
            <a:off x="-6480" y="1212840"/>
            <a:ext cx="9156960" cy="469800"/>
            <a:chOff x="-6480" y="1212840"/>
            <a:chExt cx="9156960" cy="469800"/>
          </a:xfrm>
        </p:grpSpPr>
        <p:pic>
          <p:nvPicPr>
            <p:cNvPr id="45" name="Rectangle 8" descr=""/>
            <p:cNvPicPr/>
            <p:nvPr/>
          </p:nvPicPr>
          <p:blipFill>
            <a:blip r:embed="rId3"/>
            <a:stretch/>
          </p:blipFill>
          <p:spPr>
            <a:xfrm>
              <a:off x="-6480" y="1212840"/>
              <a:ext cx="91569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4"/>
          <a:stretch/>
        </p:blipFill>
        <p:spPr>
          <a:xfrm>
            <a:off x="5105520" y="3203640"/>
            <a:ext cx="4038480" cy="3654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23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Title 1"/>
          <p:cNvSpPr/>
          <p:nvPr/>
        </p:nvSpPr>
        <p:spPr>
          <a:xfrm>
            <a:off x="1219320" y="548640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Your Interactive Guide to the Digital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426708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iscover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puters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Rectangle 8"/>
          <p:cNvGrpSpPr/>
          <p:nvPr/>
        </p:nvGrpSpPr>
        <p:grpSpPr>
          <a:xfrm>
            <a:off x="-6480" y="1212840"/>
            <a:ext cx="9156960" cy="469800"/>
            <a:chOff x="-6480" y="1212840"/>
            <a:chExt cx="9156960" cy="469800"/>
          </a:xfrm>
        </p:grpSpPr>
        <p:pic>
          <p:nvPicPr>
            <p:cNvPr id="91" name="Rectangle 8" descr=""/>
            <p:cNvPicPr/>
            <p:nvPr/>
          </p:nvPicPr>
          <p:blipFill>
            <a:blip r:embed="rId3"/>
            <a:stretch/>
          </p:blipFill>
          <p:spPr>
            <a:xfrm>
              <a:off x="-6480" y="1212840"/>
              <a:ext cx="91569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3"/>
          </p:nvPr>
        </p:nvSpPr>
        <p:spPr>
          <a:xfrm>
            <a:off x="274284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4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87A2-FFFA-4617-B929-BC91643B7C83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Rectangle 8"/>
          <p:cNvGrpSpPr/>
          <p:nvPr/>
        </p:nvGrpSpPr>
        <p:grpSpPr>
          <a:xfrm>
            <a:off x="-6480" y="1212840"/>
            <a:ext cx="9156960" cy="469800"/>
            <a:chOff x="-6480" y="1212840"/>
            <a:chExt cx="9156960" cy="469800"/>
          </a:xfrm>
        </p:grpSpPr>
        <p:pic>
          <p:nvPicPr>
            <p:cNvPr id="135" name="Rectangle 8" descr=""/>
            <p:cNvPicPr/>
            <p:nvPr/>
          </p:nvPicPr>
          <p:blipFill>
            <a:blip r:embed="rId3"/>
            <a:stretch/>
          </p:blipFill>
          <p:spPr>
            <a:xfrm>
              <a:off x="-6480" y="1212840"/>
              <a:ext cx="91569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6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7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9CF7-D6A3-43C4-8689-3756D692E07F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Rectangle 8"/>
          <p:cNvGrpSpPr/>
          <p:nvPr/>
        </p:nvGrpSpPr>
        <p:grpSpPr>
          <a:xfrm>
            <a:off x="-6480" y="1212840"/>
            <a:ext cx="9156960" cy="469800"/>
            <a:chOff x="-6480" y="1212840"/>
            <a:chExt cx="9156960" cy="469800"/>
          </a:xfrm>
        </p:grpSpPr>
        <p:pic>
          <p:nvPicPr>
            <p:cNvPr id="180" name="Rectangle 8" descr=""/>
            <p:cNvPicPr/>
            <p:nvPr/>
          </p:nvPicPr>
          <p:blipFill>
            <a:blip r:embed="rId3"/>
            <a:stretch/>
          </p:blipFill>
          <p:spPr>
            <a:xfrm>
              <a:off x="-6480" y="1212840"/>
              <a:ext cx="91569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8"/>
          </p:nvPr>
        </p:nvSpPr>
        <p:spPr>
          <a:xfrm>
            <a:off x="274284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sldNum" idx="9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4F84-B95C-4F2A-A414-EFE1AC1B957A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ectangle 8"/>
          <p:cNvGrpSpPr/>
          <p:nvPr/>
        </p:nvGrpSpPr>
        <p:grpSpPr>
          <a:xfrm>
            <a:off x="-6480" y="1212840"/>
            <a:ext cx="9156960" cy="469800"/>
            <a:chOff x="-6480" y="1212840"/>
            <a:chExt cx="9156960" cy="469800"/>
          </a:xfrm>
        </p:grpSpPr>
        <p:pic>
          <p:nvPicPr>
            <p:cNvPr id="224" name="Rectangle 8" descr=""/>
            <p:cNvPicPr/>
            <p:nvPr/>
          </p:nvPicPr>
          <p:blipFill>
            <a:blip r:embed="rId3"/>
            <a:stretch/>
          </p:blipFill>
          <p:spPr>
            <a:xfrm>
              <a:off x="-6480" y="1212840"/>
              <a:ext cx="91569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0"/>
          </p:nvPr>
        </p:nvSpPr>
        <p:spPr>
          <a:xfrm>
            <a:off x="274284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1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38F7-F973-496C-810B-AFEB38F43B38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Rectangle 8"/>
          <p:cNvGrpSpPr/>
          <p:nvPr/>
        </p:nvGrpSpPr>
        <p:grpSpPr>
          <a:xfrm>
            <a:off x="-6480" y="1212840"/>
            <a:ext cx="9156960" cy="469800"/>
            <a:chOff x="-6480" y="1212840"/>
            <a:chExt cx="9156960" cy="469800"/>
          </a:xfrm>
        </p:grpSpPr>
        <p:pic>
          <p:nvPicPr>
            <p:cNvPr id="268" name="Rectangle 8" descr=""/>
            <p:cNvPicPr/>
            <p:nvPr/>
          </p:nvPicPr>
          <p:blipFill>
            <a:blip r:embed="rId3"/>
            <a:stretch/>
          </p:blipFill>
          <p:spPr>
            <a:xfrm>
              <a:off x="-6480" y="1212840"/>
              <a:ext cx="91569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3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4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445C-19B9-4633-AFC0-26B64D64CF4D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Rectangle 8"/>
          <p:cNvGrpSpPr/>
          <p:nvPr/>
        </p:nvGrpSpPr>
        <p:grpSpPr>
          <a:xfrm>
            <a:off x="-6480" y="1212840"/>
            <a:ext cx="9156960" cy="469800"/>
            <a:chOff x="-6480" y="1212840"/>
            <a:chExt cx="9156960" cy="469800"/>
          </a:xfrm>
        </p:grpSpPr>
        <p:pic>
          <p:nvPicPr>
            <p:cNvPr id="313" name="Rectangle 8" descr=""/>
            <p:cNvPicPr/>
            <p:nvPr/>
          </p:nvPicPr>
          <p:blipFill>
            <a:blip r:embed="rId3"/>
            <a:stretch/>
          </p:blipFill>
          <p:spPr>
            <a:xfrm>
              <a:off x="-6480" y="1212840"/>
              <a:ext cx="91569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6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17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DAA4-F590-4F23-98ED-E2FAD8F2866A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Rectangle 8"/>
          <p:cNvGrpSpPr/>
          <p:nvPr/>
        </p:nvGrpSpPr>
        <p:grpSpPr>
          <a:xfrm>
            <a:off x="-6480" y="1212840"/>
            <a:ext cx="9156960" cy="469800"/>
            <a:chOff x="-6480" y="1212840"/>
            <a:chExt cx="9156960" cy="469800"/>
          </a:xfrm>
        </p:grpSpPr>
        <p:pic>
          <p:nvPicPr>
            <p:cNvPr id="358" name="Rectangle 8" descr=""/>
            <p:cNvPicPr/>
            <p:nvPr/>
          </p:nvPicPr>
          <p:blipFill>
            <a:blip r:embed="rId3"/>
            <a:stretch/>
          </p:blipFill>
          <p:spPr>
            <a:xfrm>
              <a:off x="-6480" y="1212840"/>
              <a:ext cx="91569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19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0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75A6-EB4D-4FA3-8DE4-EAB3BBEC7FC4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Box 1"/>
          <p:cNvSpPr/>
          <p:nvPr/>
        </p:nvSpPr>
        <p:spPr>
          <a:xfrm>
            <a:off x="609480" y="647712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ted by : Noor Alhareq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000" spc="-1" strike="noStrike">
                <a:solidFill>
                  <a:srgbClr val="a52439"/>
                </a:solidFill>
                <a:latin typeface="Calibri"/>
              </a:rPr>
              <a:t>control unit</a:t>
            </a:r>
            <a:r>
              <a:rPr b="0" lang="en-US" sz="30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the component of the processor that directs and coordinates most of the operations in the compu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ndles the transmission of data into and out of the CPU and supervises its overall opera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s interprets each instruction issued by a program &amp; then initiates the appropriate action to carry out the instruc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000" spc="-1" strike="noStrike">
                <a:solidFill>
                  <a:srgbClr val="a52439"/>
                </a:solidFill>
                <a:latin typeface="Calibri"/>
              </a:rPr>
              <a:t>arithmetic logic unit</a:t>
            </a:r>
            <a:r>
              <a:rPr b="0" lang="en-US" sz="30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ALU) performs arithmetic, comparison, and other oper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EFB5-0C15-4574-827B-ED61186E6CDD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very instruction, a processor repeats a set of four basic operations, which comprise a machine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5EB7-1414-4AD2-8139-19C930B8271B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5" name="Picture 7" descr="CFig4-05.gif"/>
          <p:cNvPicPr/>
          <p:nvPr/>
        </p:nvPicPr>
        <p:blipFill>
          <a:blip r:embed="rId1"/>
          <a:stretch/>
        </p:blipFill>
        <p:spPr>
          <a:xfrm>
            <a:off x="1981080" y="2666880"/>
            <a:ext cx="5881680" cy="37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647" name="Content Placeholder 9" descr=""/>
          <p:cNvPicPr/>
          <p:nvPr/>
        </p:nvPicPr>
        <p:blipFill>
          <a:blip r:embed="rId1"/>
          <a:stretch/>
        </p:blipFill>
        <p:spPr>
          <a:xfrm>
            <a:off x="6480" y="1596960"/>
            <a:ext cx="9051840" cy="4657680"/>
          </a:xfrm>
          <a:prstGeom prst="rect">
            <a:avLst/>
          </a:prstGeom>
          <a:ln w="0">
            <a:noFill/>
          </a:ln>
        </p:spPr>
      </p:pic>
      <p:sp>
        <p:nvSpPr>
          <p:cNvPr id="648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1803-9FA4-47EA-BE77-32754FC15651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registers are special storage areas in the CP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ir function is to hold instructions, data values, memory addresses of both the instructions and dat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re are 4 basic types of it: </a:t>
            </a: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CU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AL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Instruction register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ld instruction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Address register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ld address of( data , next instruction 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Storage register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tore data retrieved from main memory prior to processing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Accumulato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store the results of arithmetic &amp; logic opera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09EF-1FE6-444A-A216-A4B4B2FEF1E4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System</a:t>
            </a:r>
            <a:r>
              <a:rPr b="0" lang="en-US" sz="32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clock</a:t>
            </a:r>
            <a:r>
              <a:rPr b="0" lang="en-US" sz="3200" spc="-1" strike="noStrike">
                <a:solidFill>
                  <a:srgbClr val="a5243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generates regular electronic pulses , or ticks, that control the timing of all computer operations ( i.e. set operating pace of components of system uni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e of system  clock is 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clock speed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clock speeds are  in the 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gigahertz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GHz) range (1 GHz = 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llion ticks of system clock per second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CFC4-3905-4B0F-9812-84BCD217F3E3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current personal computers support 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pipel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or begins fetching a second instruction before it completes the machine cycle for the first instr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3" name="Content Placeholder 8" descr="Fig4-06.gif"/>
          <p:cNvPicPr/>
          <p:nvPr/>
        </p:nvPicPr>
        <p:blipFill>
          <a:blip r:embed="rId1"/>
          <a:stretch/>
        </p:blipFill>
        <p:spPr>
          <a:xfrm>
            <a:off x="4648320" y="2436840"/>
            <a:ext cx="4038480" cy="2852640"/>
          </a:xfrm>
          <a:prstGeom prst="rect">
            <a:avLst/>
          </a:prstGeom>
          <a:ln w="0">
            <a:noFill/>
          </a:ln>
        </p:spPr>
      </p:pic>
      <p:sp>
        <p:nvSpPr>
          <p:cNvPr id="664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9967-8221-4F58-A951-EDFA8435243C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s 215 – 21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llel processing uses multiple processors simultaneously to execute a single program or ta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ssively parallel processing involves hundreds or thousands of process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B4B5-0706-4F25-BBD0-8154E4C7BABA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2" name="Picture 9" descr="Fig4-11.gif"/>
          <p:cNvPicPr/>
          <p:nvPr/>
        </p:nvPicPr>
        <p:blipFill>
          <a:blip r:embed="rId1"/>
          <a:stretch/>
        </p:blipFill>
        <p:spPr>
          <a:xfrm>
            <a:off x="2819520" y="2971800"/>
            <a:ext cx="3743280" cy="333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684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eading manufacturers of personal computer processor chips are Intel and A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60DF-B157-4686-8147-1B1A1CA21DCC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s 216 – 21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8" name="Content Placeholder 6" descr=""/>
          <p:cNvPicPr/>
          <p:nvPr/>
        </p:nvPicPr>
        <p:blipFill>
          <a:blip r:embed="rId1"/>
          <a:stretch/>
        </p:blipFill>
        <p:spPr>
          <a:xfrm>
            <a:off x="3809880" y="1600200"/>
            <a:ext cx="5105520" cy="472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51920" y="1600200"/>
            <a:ext cx="2667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 how you plan to use a new computer before selecting a process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688F-073E-4887-BDC1-97E485A6E8C5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4" name="Picture 2" descr=""/>
          <p:cNvPicPr/>
          <p:nvPr/>
        </p:nvPicPr>
        <p:blipFill>
          <a:blip r:embed="rId1"/>
          <a:stretch/>
        </p:blipFill>
        <p:spPr>
          <a:xfrm>
            <a:off x="2895480" y="1371600"/>
            <a:ext cx="6248520" cy="548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rocessor chip generates heat that could cause the chip to burn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 additional coo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t sin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quid cooling techn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7" name="Content Placeholder 9" descr="CFig4-09.gif"/>
          <p:cNvPicPr/>
          <p:nvPr/>
        </p:nvPicPr>
        <p:blipFill>
          <a:blip r:embed="rId1"/>
          <a:stretch/>
        </p:blipFill>
        <p:spPr>
          <a:xfrm>
            <a:off x="5181480" y="1752480"/>
            <a:ext cx="2895840" cy="1925640"/>
          </a:xfrm>
          <a:prstGeom prst="rect">
            <a:avLst/>
          </a:prstGeom>
          <a:ln w="0">
            <a:noFill/>
          </a:ln>
        </p:spPr>
      </p:pic>
      <p:sp>
        <p:nvSpPr>
          <p:cNvPr id="688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6FF3-AD82-44DD-9036-5F720A3768ED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s 219 - 2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s 4-9 – 4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Picture 10" descr="Fig4-10.gif"/>
          <p:cNvPicPr/>
          <p:nvPr/>
        </p:nvPicPr>
        <p:blipFill>
          <a:blip r:embed="rId2"/>
          <a:stretch/>
        </p:blipFill>
        <p:spPr>
          <a:xfrm>
            <a:off x="5181480" y="3809880"/>
            <a:ext cx="2895840" cy="236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Objectives Overview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591" name="Content Placeholder 6" descr=""/>
          <p:cNvPicPr/>
          <p:nvPr/>
        </p:nvPicPr>
        <p:blipFill>
          <a:blip r:embed="rId1"/>
          <a:stretch/>
        </p:blipFill>
        <p:spPr>
          <a:xfrm>
            <a:off x="42840" y="1596960"/>
            <a:ext cx="9120240" cy="4657680"/>
          </a:xfrm>
          <a:prstGeom prst="rect">
            <a:avLst/>
          </a:prstGeom>
          <a:ln w="0">
            <a:noFill/>
          </a:ln>
        </p:spPr>
      </p:pic>
      <p:sp>
        <p:nvSpPr>
          <p:cNvPr id="592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0FBB-C2F7-4FF6-99CA-55F73DBF02A1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e Page 209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r Detailed Objectiv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693" name="Content Placeholder 6" descr=""/>
          <p:cNvPicPr/>
          <p:nvPr/>
        </p:nvPicPr>
        <p:blipFill>
          <a:blip r:embed="rId1"/>
          <a:stretch/>
        </p:blipFill>
        <p:spPr>
          <a:xfrm>
            <a:off x="30240" y="1596960"/>
            <a:ext cx="9016920" cy="4657680"/>
          </a:xfrm>
          <a:prstGeom prst="rect">
            <a:avLst/>
          </a:prstGeom>
          <a:ln w="0">
            <a:noFill/>
          </a:ln>
        </p:spPr>
      </p:pic>
      <p:sp>
        <p:nvSpPr>
          <p:cNvPr id="694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A5EC-3DB4-4F1C-BD71-AECABD185FE3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13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 computer circuit represents the 0 or the 1 electronically by the presence or absence of an electrical char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Content Placeholder 11" descr="Fig4-12.gif"/>
          <p:cNvPicPr/>
          <p:nvPr/>
        </p:nvPicPr>
        <p:blipFill>
          <a:blip r:embed="rId1"/>
          <a:stretch/>
        </p:blipFill>
        <p:spPr>
          <a:xfrm>
            <a:off x="457200" y="3255840"/>
            <a:ext cx="4040280" cy="258624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181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Eight bit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rouped together as a unit are called a </a:t>
            </a:r>
            <a:r>
              <a:rPr b="1" lang="en-US" sz="2200" spc="-1" strike="noStrike">
                <a:solidFill>
                  <a:srgbClr val="a52439"/>
                </a:solidFill>
                <a:latin typeface="Calibri"/>
              </a:rPr>
              <a:t>byte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. A byte represents a single character in the computer ( numbers, upper or lower case letters, or punctuation mark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Content Placeholder 12" descr="Fig4-13.gif"/>
          <p:cNvPicPr/>
          <p:nvPr/>
        </p:nvPicPr>
        <p:blipFill>
          <a:blip r:embed="rId2"/>
          <a:stretch/>
        </p:blipFill>
        <p:spPr>
          <a:xfrm>
            <a:off x="4724280" y="3581280"/>
            <a:ext cx="4191120" cy="2286000"/>
          </a:xfrm>
          <a:prstGeom prst="rect">
            <a:avLst/>
          </a:prstGeom>
          <a:ln w="0">
            <a:noFill/>
          </a:ln>
        </p:spPr>
      </p:pic>
      <p:sp>
        <p:nvSpPr>
          <p:cNvPr id="702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4338-F7AC-4790-8CCA-6C5B95E5DA8E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s 4-12 – 4-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5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7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ifferent combinations of 0s and 1s are defined by patterns called </a:t>
            </a:r>
            <a:r>
              <a:rPr b="0" lang="en-US" sz="2400" spc="-1" strike="noStrike">
                <a:solidFill>
                  <a:srgbClr val="a52439"/>
                </a:solidFill>
                <a:latin typeface="Calibri"/>
              </a:rPr>
              <a:t>a coding schem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two coding schemas used to represent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CII—American Standard Code for Information Interchan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[Personal Computers – PCS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BCDIC—Extended Binary Coded Decimal Interchange Co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[Mainframes, Mini-computers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Footer Placeholder 6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Slide Number Placeholder 7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70D3-F94A-4E33-B47E-5A6F518874A8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2209680" y="4952880"/>
            <a:ext cx="4353120" cy="146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56840" y="15998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CII is the most widely used coding scheme to represent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3" name="Content Placeholder 13" descr="Fig4-14.gif"/>
          <p:cNvPicPr/>
          <p:nvPr/>
        </p:nvPicPr>
        <p:blipFill>
          <a:blip r:embed="rId1"/>
          <a:stretch/>
        </p:blipFill>
        <p:spPr>
          <a:xfrm>
            <a:off x="1523880" y="2658960"/>
            <a:ext cx="6248520" cy="4199040"/>
          </a:xfrm>
          <a:prstGeom prst="rect">
            <a:avLst/>
          </a:prstGeom>
          <a:ln w="0">
            <a:noFill/>
          </a:ln>
        </p:spPr>
      </p:pic>
      <p:sp>
        <p:nvSpPr>
          <p:cNvPr id="714" name="Footer Placeholder 6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Slide Number Placeholder 7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F104-3619-48DB-9503-C059B6E5FD6D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18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AFD1-743C-4FA3-AD14-8E188CB95E13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Content Placeholder 3" descr=""/>
          <p:cNvPicPr/>
          <p:nvPr/>
        </p:nvPicPr>
        <p:blipFill>
          <a:blip r:embed="rId1"/>
          <a:srcRect l="0" t="0" r="3447" b="7965"/>
          <a:stretch/>
        </p:blipFill>
        <p:spPr>
          <a:xfrm>
            <a:off x="457200" y="1676520"/>
            <a:ext cx="8305920" cy="464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The System Uni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152280" y="17521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system unit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case that contains electronic components of the computer used to process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de of metal or plastic to protects the internal components from dam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computers have a system unit. It is available in variety of shapes &amp; siz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231D-B0F4-4691-9054-DDC1E24C740B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Footer Placeholder 3"/>
          <p:cNvSpPr/>
          <p:nvPr/>
        </p:nvSpPr>
        <p:spPr>
          <a:xfrm>
            <a:off x="274320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CBEF-BB59-4C78-B25E-BD7375D935DB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2" name="Picture 6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458200" cy="59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The System Uni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side of the system unit on a desktop personal computer includ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34D7-CADE-4C5C-9640-CDD144DDCC8F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8" name="Diagram 6" descr=""/>
          <p:cNvPicPr/>
          <p:nvPr/>
        </p:nvPicPr>
        <p:blipFill>
          <a:blip r:embed="rId1"/>
          <a:stretch/>
        </p:blipFill>
        <p:spPr>
          <a:xfrm>
            <a:off x="334800" y="2706840"/>
            <a:ext cx="2389320" cy="36018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9" descr=""/>
          <p:cNvPicPr/>
          <p:nvPr/>
        </p:nvPicPr>
        <p:blipFill>
          <a:blip r:embed="rId2"/>
          <a:stretch/>
        </p:blipFill>
        <p:spPr>
          <a:xfrm>
            <a:off x="2971800" y="2743200"/>
            <a:ext cx="5487840" cy="350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Motherboard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152280" y="1600200"/>
            <a:ext cx="4724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motherboa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the main circuit board of the system un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ansion slots, processor chips, and memory sl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imes called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ystem bo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D404-BF87-44EE-B639-C27793539842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5" name="Picture 6" descr="CFig4-03.gif"/>
          <p:cNvPicPr/>
          <p:nvPr/>
        </p:nvPicPr>
        <p:blipFill>
          <a:blip r:embed="rId1"/>
          <a:stretch/>
        </p:blipFill>
        <p:spPr>
          <a:xfrm>
            <a:off x="5029200" y="1752480"/>
            <a:ext cx="3886200" cy="4191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Motherboard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grpSp>
        <p:nvGrpSpPr>
          <p:cNvPr id="617" name="Group 21"/>
          <p:cNvGrpSpPr/>
          <p:nvPr/>
        </p:nvGrpSpPr>
        <p:grpSpPr>
          <a:xfrm>
            <a:off x="7846920" y="6402240"/>
            <a:ext cx="860400" cy="271440"/>
            <a:chOff x="7846920" y="6402240"/>
            <a:chExt cx="860400" cy="271440"/>
          </a:xfrm>
        </p:grpSpPr>
        <p:sp>
          <p:nvSpPr>
            <p:cNvPr id="618" name="AutoShape 22">
              <a:hlinkClick r:id="" action="ppaction://hlinkshowjump?jump=nextslide"/>
            </p:cNvPr>
            <p:cNvSpPr/>
            <p:nvPr/>
          </p:nvSpPr>
          <p:spPr>
            <a:xfrm>
              <a:off x="7873920" y="6402240"/>
              <a:ext cx="833400" cy="271440"/>
            </a:xfrm>
            <a:custGeom>
              <a:avLst/>
              <a:gdLst>
                <a:gd name="textAreaLeft" fmla="*/ 17280 w 833400"/>
                <a:gd name="textAreaRight" fmla="*/ 816120 w 833400"/>
                <a:gd name="textAreaTop" fmla="*/ 17280 h 271440"/>
                <a:gd name="textAreaBottom" fmla="*/ 254160 h 271440"/>
              </a:gdLst>
              <a:ahLst/>
              <a:rect l="textAreaLeft" t="textAreaTop" r="textAreaRight" b="textAreaBottom"/>
              <a:pathLst>
                <a:path w="66259" h="21600">
                  <a:moveTo>
                    <a:pt x="0" y="0"/>
                  </a:moveTo>
                  <a:lnTo>
                    <a:pt x="66259" y="0"/>
                  </a:lnTo>
                  <a:lnTo>
                    <a:pt x="66259" y="21600"/>
                  </a:lnTo>
                  <a:lnTo>
                    <a:pt x="0" y="21600"/>
                  </a:lnTo>
                  <a:close/>
                </a:path>
                <a:path fill="lightenLess" w="66259" h="21600">
                  <a:moveTo>
                    <a:pt x="0" y="0"/>
                  </a:moveTo>
                  <a:lnTo>
                    <a:pt x="66259" y="0"/>
                  </a:lnTo>
                  <a:lnTo>
                    <a:pt x="64859" y="1400"/>
                  </a:lnTo>
                  <a:lnTo>
                    <a:pt x="1400" y="1400"/>
                  </a:lnTo>
                  <a:close/>
                </a:path>
                <a:path fill="darken" w="66259" h="21600">
                  <a:moveTo>
                    <a:pt x="66259" y="0"/>
                  </a:moveTo>
                  <a:lnTo>
                    <a:pt x="66259" y="21600"/>
                  </a:lnTo>
                  <a:lnTo>
                    <a:pt x="64859" y="20200"/>
                  </a:lnTo>
                  <a:lnTo>
                    <a:pt x="64859" y="1400"/>
                  </a:lnTo>
                  <a:close/>
                </a:path>
                <a:path fill="darkenLess" w="66259" h="21600">
                  <a:moveTo>
                    <a:pt x="6625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859" y="20200"/>
                  </a:lnTo>
                  <a:close/>
                </a:path>
                <a:path fill="lighten" w="6625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66259" h="21600">
                  <a:moveTo>
                    <a:pt x="26123" y="3794"/>
                  </a:moveTo>
                  <a:lnTo>
                    <a:pt x="40136" y="10800"/>
                  </a:lnTo>
                  <a:lnTo>
                    <a:pt x="26123" y="17806"/>
                  </a:lnTo>
                  <a:close/>
                </a:path>
              </a:pathLst>
            </a:custGeom>
            <a:solidFill>
              <a:srgbClr val="ffb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Text Box 23"/>
            <p:cNvSpPr/>
            <p:nvPr/>
          </p:nvSpPr>
          <p:spPr>
            <a:xfrm>
              <a:off x="7846920" y="6407280"/>
              <a:ext cx="46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eeece1"/>
                  </a:solidFill>
                  <a:latin typeface="Times New Roman"/>
                </a:rPr>
                <a:t>Nex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0" name="Rectangle 30"/>
          <p:cNvSpPr/>
          <p:nvPr/>
        </p:nvSpPr>
        <p:spPr>
          <a:xfrm>
            <a:off x="380880" y="1752480"/>
            <a:ext cx="778212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computers use integrated circuits  also called </a:t>
            </a:r>
            <a:r>
              <a:rPr b="0" lang="en-US" sz="2400" spc="-1" strike="noStrike">
                <a:solidFill>
                  <a:srgbClr val="c0504d"/>
                </a:solidFill>
                <a:latin typeface="Calibri"/>
              </a:rPr>
              <a:t>chip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, for their CPU and main memo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mory chips are installed on memory module( card) that fit in a slot on the mother boa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s a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chi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 piece of semi-conducting material on which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tegrated circuits (IC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etch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C contain many microscopic pathways capable of carrying electrical curr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IC can contain millions of elements such as resistors, capacitors, transisto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176"/>
              </a:spcBef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Rectangle 37"/>
          <p:cNvSpPr/>
          <p:nvPr/>
        </p:nvSpPr>
        <p:spPr>
          <a:xfrm>
            <a:off x="304920" y="3000240"/>
            <a:ext cx="778176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02888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2" name="Picture 7" descr="04PHY011_ChipScaleClock2_HR"/>
          <p:cNvPicPr/>
          <p:nvPr/>
        </p:nvPicPr>
        <p:blipFill>
          <a:blip r:embed="rId1"/>
          <a:stretch/>
        </p:blipFill>
        <p:spPr>
          <a:xfrm rot="849600">
            <a:off x="7508520" y="2976480"/>
            <a:ext cx="1471680" cy="151308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6" descr="r100004large"/>
          <p:cNvPicPr/>
          <p:nvPr/>
        </p:nvPicPr>
        <p:blipFill>
          <a:blip r:embed="rId2"/>
          <a:stretch/>
        </p:blipFill>
        <p:spPr>
          <a:xfrm rot="1036200">
            <a:off x="7735680" y="4644720"/>
            <a:ext cx="122220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25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process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lso called the 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central processing uni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CP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, interprets and carries out the basic instructions that operate a compu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ain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trol uni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a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ithmetic logic unit (ALU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 work together to perform processing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77EA-8919-439C-B1D5-7BA290847029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9" name="Diagram 6" descr=""/>
          <p:cNvPicPr/>
          <p:nvPr/>
        </p:nvPicPr>
        <p:blipFill>
          <a:blip r:embed="rId1"/>
          <a:stretch/>
        </p:blipFill>
        <p:spPr>
          <a:xfrm>
            <a:off x="103320" y="4340160"/>
            <a:ext cx="9345600" cy="2298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631" name="Content Placeholder 6" descr="Fig4-04.gif"/>
          <p:cNvPicPr/>
          <p:nvPr/>
        </p:nvPicPr>
        <p:blipFill>
          <a:blip r:embed="rId1"/>
          <a:stretch/>
        </p:blipFill>
        <p:spPr>
          <a:xfrm>
            <a:off x="1066680" y="1600200"/>
            <a:ext cx="6705720" cy="4648320"/>
          </a:xfrm>
          <a:prstGeom prst="rect">
            <a:avLst/>
          </a:prstGeom>
          <a:ln w="0">
            <a:noFill/>
          </a:ln>
        </p:spPr>
      </p:pic>
      <p:sp>
        <p:nvSpPr>
          <p:cNvPr id="632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9AB5-D0FF-4136-B1DB-3E4BA9267B94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7:11:12Z</dcterms:created>
  <dc:creator>steven</dc:creator>
  <dc:description/>
  <dc:language>en-US</dc:language>
  <cp:lastModifiedBy>sara</cp:lastModifiedBy>
  <dcterms:modified xsi:type="dcterms:W3CDTF">2014-02-01T16:50:28Z</dcterms:modified>
  <cp:revision>12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C6BB1F00AAFA34493B35981E2967FB1</vt:lpwstr>
  </property>
</Properties>
</file>