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6F85-CEE5-4C6E-8AD7-13B7868D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D74-35F7-4135-9541-0978D9AC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66F8-ECBF-4372-A54E-F603D0F4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1F7-4FB8-4757-8784-A1CF3477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9ADE-8BC4-49A2-A0FF-179AE3E0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574-E851-402D-992C-6C8B7283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3AA-9BC5-4A97-8075-92013AF5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91F-695C-4749-B310-69F76BF7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1FA-7894-474B-9DE6-F3BB257D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85D-B143-4D4F-8143-7FF27FA2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978F-339B-44A8-A1EE-31D02679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2FE2-C86F-48D0-A159-AA7513D4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D2C8-2037-4B94-B741-ADB57E7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710-3986-4B0F-A578-6B5237D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C98-2A86-4DAD-A0BF-2392BA3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539-FB70-46C4-B9AD-8D9AE3F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3AB-3869-470A-BBCD-48B2A47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1D31-EE03-4937-92B4-B91E3AEC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C6F3-2735-4058-A0AD-43F016B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985-DC3E-4BC5-8F8B-25A9BCC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D9A-E354-4B2A-A44B-F9B21BA2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332-8080-439B-B3F5-7D9FA09C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6456-125C-4B57-9797-E5C9ED9C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02C3-02C8-46B5-9CC8-3822401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D2AB-F5E2-48C8-BB16-93AFBEA8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6307-F50B-4456-8BF9-3C669FF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DE09-0DFA-4E8E-AB71-BFC5541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3DC-C812-4129-A2E6-DFE59D5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8903-30DD-4833-A43E-9C350932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020E-60DE-4E87-9BB5-226735E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D2EE-5C42-4EFC-8D3B-DB6B869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5670-563B-4FE1-A8D7-CDE2D39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4F79-ACAD-4F41-B20B-71E1356F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915F-05D5-48C4-9B35-3C043E57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EED3-AD8F-4560-8964-2089D262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E032-3CC7-40F3-86F8-204E5513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E37A-E62C-4AF5-B546-3B4678B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E597-CFAC-42CB-8533-10B4D4C2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128-E47F-47C9-BF10-0C6F621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15F7-C99E-4F6F-B3A7-E10BA8A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1380-5631-4D2F-ABFC-4AEC709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23A2-8968-4C5D-BA41-0AEB122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AB92-2D48-47D1-B856-38A47DE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88C9-64B4-4EE1-8D12-6811115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706F-E7F0-4277-BB7D-2C4CA1F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503E-F644-4BA7-AF6B-8124A02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2758-6F13-4775-96EB-A2037CD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9129-C71F-4268-9441-BCBFE41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13B-A696-478C-B0E1-F6A51FD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F48-17FA-4BE2-9312-304C7382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397-A498-4BBB-BA76-F588DC9D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F80-B2B9-4B94-806E-1107B95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B23-78C2-4D60-BA92-4F26941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CC30-A05D-4C86-B06D-C8537CCA6BD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3A76-3E21-4DE8-8424-33AC43A6EB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CCC-A6E2-4A5C-8A7D-ADDECEFF4C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5F1-FCDA-4C9B-8D07-B35F3BB694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53880" y="2511360"/>
            <a:ext cx="803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eign Key approach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hoose one of the relations-say S-and include a foreign key in S the primary key of T. It is better to choose an entity typ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t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particip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R in the role of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1:1 relation MANAGES is mapped by choosing the participating entity type DEPARTMENT to serve in the role of S, because its participation in the MANAGES relationship type is tot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binary 1:N relationship type R, identify the relation S that represent the participating entity type at the N-side of the relationship typ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in S the primary key of the relation T that represents the other entity type participating in 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ny simple attributes of the 1:N relation type as attributes of 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1:N relationship types WORKS_FOR, CONTROLS, and SUPERVISION in the fig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WORKS_FOR we include the primary key DNUMBER of the DEPARTMENT relation as foreign key in the EMPLOYEE relation and call it DN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each regular binary M:N relationship type R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reate a new rel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 to represent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;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heir combination will form the primary ke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f 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include any simple attributes of the M:N relationship type (or simple components of composite attributes) as attributes of 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 The M:N relationship type WORKS_ON from the ER  diagram is mapped by creating a relation WORKS_ON in the relational database sch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rimary keys of the PROJECT and EMPLOYEE relations are included as foreign keys in WORKS_ON and renamed PNO and ESSN, respective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ttribute HOURS in WORKS_ON represents the HOURS attribute of the relation type. The primary key of the WORKS_ON relation is the combination of the foreign key attributes {ESSN, PNO}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multivalued attribute A, create a new relation 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relation R will include an attribute corresponding to A, plus the primary key attribute K-as a foreign key in R-of the relation that represents the entity type of relationship type that has A as an attribut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A and K. If the multivalued attribute is composite, we include its simple componen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 relation DEPT_LOCATIONS is creat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attribute DLOCATION represents the multivalued attribute LOCATIONS of DEPARTMENT, while DNUMBER-as foreign key-represents the primary key of the DEPARTMENT rel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{DNUMBER, DLOCATION}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67280" y="5661000"/>
            <a:ext cx="26672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n-ary relationship type R, where n&gt;2, create a new relationship S to represent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 include any simple attributes of the n-ary relationship type (or simple components of composite attributes) as attributes of S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R-to-Relational Mapping Algorith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1: Mapping of Regular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2: Mapping of Weak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3: Mapping of Binary 1:1 Relation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4: Mapping of Binary 1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5: Mapping of Binary M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6: Mapping of Multivalued attribu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7: Mapping of N-ary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pping EER Model Constructs to Rela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8: Options for Mapping Specialization or Genera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onship type SUPPY in the ER on the next sl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an be mapped to the relation SUPPLY shown in the relational schema, whose primary key is the combination of the three foreign keys {SNAME, PARTNO, PROJNAME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989600" cy="170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14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ummary of Mapping constructs and constrai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533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12600" y="2057400"/>
            <a:ext cx="7322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4617b"/>
                </a:solidFill>
                <a:latin typeface="Times New Roman"/>
              </a:rPr>
              <a:t>Table 7.1 Correspondence between ER and Relation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ER Model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Entity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Entity” re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1:1 or 1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Foreign key (or “relationship” rel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two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4617b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-ary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n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impl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Composit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et of simple component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ultivalued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Relation and foreign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Value set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Key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Primary (or secondary)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pping EER Model Constructs to Rel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8: Options for Mapping Specialization or Generaliz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vert each specialization with m subclasses {S1, S2,….,Sm} and generalized superclass C, where the attributes of C are {k,a1,…an} and k is the (primary) key, into relational schemas using one of the four following opt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 for C with attributes Attrs(L) = {k,a1,…an} and PK(L) = k. Create a relation Li for each subclass Si, 1 &lt; i &lt; m, with the attributesAttrs(Li) = {k} U {attributes of Si} and PK(Li)=k. This option works for any specialization (total or partial, disjoint of over-lapping)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1828800" y="5257800"/>
            <a:ext cx="5638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i for each subclass Si, 1 &lt; i &lt; m, with the attributes Attr(Li) = {attributes of Si} U {k,a1…,an} and PK(Li) = k. This option only works for a  specialization whose subclasses are total (every entity in the superclass must belong to (at least) one of the subclass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094000" cy="233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5562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} and PK(L) = k. The attribute t is called a type (or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discriminating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 attribute that indicates the subclass to which each tuple belong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p 1: Mapping of Regular Entity Typ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(strong) entity type E in the ER schema, create a relation R that includes all the simple attributes of 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one of the key attributes of E as the primary key for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chosen key of E is composite, the set of simple attributes that form it will together form the primary key of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095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1219320" y="5410080"/>
            <a:ext cx="67816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schema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…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and PK(L) = k. Each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1 &lt; I &lt; m, is a Boolean type attribute indicating whether a tuple belongs to the subclas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43556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7775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ER-to-Relational Map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pping of Shared Subclasses (Multiple Inheritan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hared subclass, such as STUDENT_ASSISTANT, is a subclass of several classes, indicating multiple inheritance. These classes must all have the same key attribute; otherwise, the shared subclass would be modeled as a catego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apply any of the options discussed in Step 8 to a shared subclass, subject to the restriction discussed in Step 8 of the mapping algorithm. Below both 8C and 8D are used for the shared class STUDENT_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1965240" y="152280"/>
            <a:ext cx="5691240" cy="6553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9"/>
          <p:cNvGrpSpPr/>
          <p:nvPr/>
        </p:nvGrpSpPr>
        <p:grpSpPr>
          <a:xfrm>
            <a:off x="685800" y="1828800"/>
            <a:ext cx="7924680" cy="3132000"/>
            <a:chOff x="685800" y="1828800"/>
            <a:chExt cx="7924680" cy="3132000"/>
          </a:xfrm>
        </p:grpSpPr>
        <p:pic>
          <p:nvPicPr>
            <p:cNvPr id="279" name="Picture 6" descr="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777240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7"/>
            <p:cNvSpPr/>
            <p:nvPr/>
          </p:nvSpPr>
          <p:spPr>
            <a:xfrm>
              <a:off x="365760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j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7696080" y="2925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We create the relations EMPLOYEE, DEPARTMENT, and PROJECT in the relational schema corresponding to the regular entities in the ER diagr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SN, DNUMBER, and PNUMBER are the primary keys for the relations EMPLOYEE, DEPARTMENT, and PROJECT as sh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weak entity type W in the ER schema with owner entity type E, create a relation R &amp; include all simple attributes (or simple components of composite attributes) of W as attributes of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, include as foreign key attributes of R the primary key attribute(s) of the relation(s) that correspond to the owner entity type(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ombination of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the primary key(s) of the owner(s) and the partial key of the weak entity type W, if an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reate the relation DEPENDENT in this step to correspond to the weak entity type DEPEND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the primary key SSN of the EMPLOYEE relation as a foreign key attribute of DEPENDENT (renamed to ESSN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the DEPENDENT relation is the combination {ESSN, DEPENDENT_NAME} because DEPENDENT_NAME is the partial key of DEPEND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each binary 1:1 relationship type R in the ER schema, identify the relations S and T that correspond to the entity types participating in 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51:27Z</dcterms:created>
  <dc:creator>Bernard Chen</dc:creator>
  <dc:description/>
  <dc:language>en-US</dc:language>
  <cp:lastModifiedBy>balqrashi</cp:lastModifiedBy>
  <dcterms:modified xsi:type="dcterms:W3CDTF">2016-10-02T09:03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