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133-98CE-45E3-8C74-B976C5E8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20F8-3388-4D4C-9218-2BF10D79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283-3AEF-4090-BBE1-B8C5AB5F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E329-EF40-419D-A852-53B1C86E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6CCE-E0A1-42EC-BC5B-90E2141E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8E0-B9D3-4CE5-AD98-D266CF0F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927-79DB-42E2-9DFA-D3F86EF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0AA-5AF7-4876-B2F0-E8997424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82E-86BC-4DF4-AC51-6F69EDD2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2292-E1F7-4867-90A2-E8B65DEE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34E0-25C1-4A42-8535-F05F413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AE48-F314-406C-978E-3B99D8A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6B0C-B0F5-4ABE-B498-E3CBAE1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DF8-E547-46CC-A9AA-D3E5CBC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948-4AF6-4CE0-855E-96FC330A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7096-4D55-4366-A812-438FFDA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96E-2164-4C90-9624-C35B9859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E58E-8687-4E3B-92A6-86FA3D2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6938-3EF9-4DB8-B4EA-3D24B46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67C8-E8BC-4108-9F25-F54B60FC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6AC8-D35C-430C-AFF6-DCBB508F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359-92E4-458D-9248-D8370E25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C266-CDA8-46D2-B7F6-063A0B9A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536C-0C60-4371-877F-7D7AFAF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B18F-879E-46DD-AEA6-212E647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C245-16B4-4177-9F32-CEFCEC9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0D1F-022E-4CEA-B8E8-B19FEFAE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6DE-DE66-4A58-8563-C053060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7AF9-CA9A-4E67-8C24-6DA9500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6E73-2BF6-448E-88E5-8FBA623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787F-0F0F-480B-B27C-A45EB26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0067-A713-4162-B948-A091A0E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2431-4370-44D2-B36A-793ACF7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6109-ADC6-47F6-9F5A-D2DC4DAE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F31B-C211-4788-8A8C-BECF7374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EB82-4299-4714-B318-8CF83D81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4780-8EE5-4F33-AF49-DD70F0F5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9FFD-9424-4C0E-8C43-FE4281A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942-778F-4C8B-AF59-A28F329C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2B2D-D301-4321-9A23-E5AC967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54FF-AA3F-48D1-93C7-AEF4F41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5275-0B6B-43D1-B2A2-A42A9BD6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D739-52DC-4EEC-A2A5-C35DE37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25CC-491A-4698-82F9-DD57476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D75F4-08A6-4027-B5FB-88836E6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35DD-BF5E-4A37-AFE8-45C2389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2659-8C3B-481F-A800-D6FF7EC4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E295-7EAD-4669-84E4-0D76D950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FE9-C77B-4269-9FBB-030A7A8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E4F-785E-4E79-9106-3393BECB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539-31B9-47B0-BB7C-1E0048F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357-1CDF-4272-975A-2C30A6E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49F-F98E-44F5-8126-5BE9D468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DFA7-092B-4141-B3BC-2F7BFFE900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C48-EE0E-4BC2-A6D5-EE3ED08332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EBFA-5CAC-448B-929A-361C441650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590-0E57-4038-AEFC-A1ED6B323C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53880" y="2511360"/>
            <a:ext cx="803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eign Key approach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hoose one of the relations-say S-and include a foreign key in S the primary key of T. It is better to choose an entity typ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t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particip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R in the role of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1:1 relation MANAGES is mapped by choosing the participating entity type DEPARTMENT to serve in the role of S, because its participation in the MANAGES relationship type is tot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binary 1:N relationship type R, identify the relation S that represent the participating entity type at the N-side of the relationship typ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in S the primary key of the relation T that represents the other entity type participating in 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ny simple attributes of the 1:N relation type as attributes of 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1:N relationship types WORKS_FOR, CONTROLS, and SUPERVISION in the fig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WORKS_FOR we include the primary key DNUMBER of the DEPARTMENT relation as foreign key in the EMPLOYEE relation and call it DN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each regular binary M:N relationship type R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reate a new rel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 to represent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;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heir combination will form the primary ke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f 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include any simple attributes of the M:N relationship type (or simple components of composite attributes) as attributes of 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 The M:N relationship type WORKS_ON from the ER  diagram is mapped by creating a relation WORKS_ON in the relational database sch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rimary keys of the PROJECT and EMPLOYEE relations are included as foreign keys in WORKS_ON and renamed PNO and ESSN, respective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ttribute HOURS in WORKS_ON represents the HOURS attribute of the relation type. The primary key of the WORKS_ON relation is the combination of the foreign key attributes {ESSN, PNO}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multivalued attribute A, create a new relation 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relation R will include an attribute corresponding to A, plus the primary key attribute K-as a foreign key in R-of the relation that represents the entity type of relationship type that has A as an attribut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A and K. If the multivalued attribute is composite, we include its simple componen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 relation DEPT_LOCATIONS is creat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attribute DLOCATION represents the multivalued attribute LOCATIONS of DEPARTMENT, while DNUMBER-as foreign key-represents the primary key of the DEPARTMENT rel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{DNUMBER, DLOCATION}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67280" y="5661000"/>
            <a:ext cx="26672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n-ary relationship type R, where n&gt;2, create a new relationship S to represent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 include any simple attributes of the n-ary relationship type (or simple components of composite attributes) as attributes of S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R-to-Relational Mapping Algorith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1: Mapping of Regular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2: Mapping of Weak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3: Mapping of Binary 1:1 Relation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4: Mapping of Binary 1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5: Mapping of Binary M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6: Mapping of Multivalued attribu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7: Mapping of N-ary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pping EER Model Constructs to Rela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8: Options for Mapping Specialization or Genera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onship type SUPPY in the ER on the next sl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an be mapped to the relation SUPPLY shown in the relational schema, whose primary key is the combination of the three foreign keys {SNAME, PARTNO, PROJNAME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989600" cy="170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14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ummary of Mapping constructs and constrai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533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12600" y="2057400"/>
            <a:ext cx="7322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4617b"/>
                </a:solidFill>
                <a:latin typeface="Times New Roman"/>
              </a:rPr>
              <a:t>Table 7.1 Correspondence between ER and Relation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ER Model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Entity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Entity” re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1:1 or 1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Foreign key (or “relationship” rel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two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4617b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-ary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n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impl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Composit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et of simple component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ultivalued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Relation and foreign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Value set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Key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Primary (or secondary)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pping EER Model Constructs to Rel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8: Options for Mapping Specialization or Generaliz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vert each specialization with m subclasses {S1, S2,….,Sm} and generalized superclass C, where the attributes of C are {k,a1,…an} and k is the (primary) key, into relational schemas using one of the four following opt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 for C with attributes Attrs(L) = {k,a1,…an} and PK(L) = k. Create a relation Li for each subclass Si, 1 &lt; i &lt; m, with the attributesAttrs(Li) = {k} U {attributes of Si} and PK(Li)=k. This option works for any specialization (total or partial, disjoint of over-lapping)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1828800" y="5257800"/>
            <a:ext cx="5638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i for each subclass Si, 1 &lt; i &lt; m, with the attributes Attr(Li) = {attributes of Si} U {k,a1…,an} and PK(Li) = k. This option only works for a  specialization whose subclasses are total (every entity in the superclass must belong to (at least) one of the subclass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094000" cy="233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5562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} and PK(L) = k. The attribute t is called a type (or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discriminating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 attribute that indicates the subclass to which each tuple belong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p 1: Mapping of Regular Entity Typ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(strong) entity type E in the ER schema, create a relation R that includes all the simple attributes of 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one of the key attributes of E as the primary key for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chosen key of E is composite, the set of simple attributes that form it will together form the primary key of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095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1219320" y="5410080"/>
            <a:ext cx="67816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schema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…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and PK(L) = k. Each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1 &lt; I &lt; m, is a Boolean type attribute indicating whether a tuple belongs to the subclas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43556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7775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ER-to-Relational Map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pping of Shared Subclasses (Multiple Inheritan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hared subclass, such as STUDENT_ASSISTANT, is a subclass of several classes, indicating multiple inheritance. These classes must all have the same key attribute; otherwise, the shared subclass would be modeled as a catego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apply any of the options discussed in Step 8 to a shared subclass, subject to the restriction discussed in Step 8 of the mapping algorithm. Below both 8C and 8D are used for the shared class STUDENT_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1965240" y="152280"/>
            <a:ext cx="5691240" cy="6553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9"/>
          <p:cNvGrpSpPr/>
          <p:nvPr/>
        </p:nvGrpSpPr>
        <p:grpSpPr>
          <a:xfrm>
            <a:off x="685800" y="1828800"/>
            <a:ext cx="7924680" cy="3132000"/>
            <a:chOff x="685800" y="1828800"/>
            <a:chExt cx="7924680" cy="3132000"/>
          </a:xfrm>
        </p:grpSpPr>
        <p:pic>
          <p:nvPicPr>
            <p:cNvPr id="279" name="Picture 6" descr="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777240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7"/>
            <p:cNvSpPr/>
            <p:nvPr/>
          </p:nvSpPr>
          <p:spPr>
            <a:xfrm>
              <a:off x="365760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j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7696080" y="2925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We create the relations EMPLOYEE, DEPARTMENT, and PROJECT in the relational schema corresponding to the regular entities in the ER diagr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SN, DNUMBER, and PNUMBER are the primary keys for the relations EMPLOYEE, DEPARTMENT, and PROJECT as sh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weak entity type W in the ER schema with owner entity type E, create a relation R &amp; include all simple attributes (or simple components of composite attributes) of W as attributes of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, include as foreign key attributes of R the primary key attribute(s) of the relation(s) that correspond to the owner entity type(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ombination of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the primary key(s) of the owner(s) and the partial key of the weak entity type W, if an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reate the relation DEPENDENT in this step to correspond to the weak entity type DEPEND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the primary key SSN of the EMPLOYEE relation as a foreign key attribute of DEPENDENT (renamed to ESSN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the DEPENDENT relation is the combination {ESSN, DEPENDENT_NAME} because DEPENDENT_NAME is the partial key of DEPEND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each binary 1:1 relationship type R in the ER schema, identify the relations S and T that correspond to the entity types participating in 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51:27Z</dcterms:created>
  <dc:creator>Bernard Chen</dc:creator>
  <dc:description/>
  <dc:language>en-US</dc:language>
  <cp:lastModifiedBy>balqrashi</cp:lastModifiedBy>
  <dcterms:modified xsi:type="dcterms:W3CDTF">2016-10-02T09:03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