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080-84F3-495F-8EBC-B14CC8CE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9DA-C886-4865-8F17-9A104105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490-973D-4361-A742-ED43234B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189-28E1-4968-B9BB-774C72EE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FD63-3E19-40AA-B983-EF540289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BFD1-CC8C-42F8-BEEE-009B9240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5987-D142-4BF7-9D19-239201C8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7F02-B5DF-4293-BC6F-92805895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87A-29DD-47AC-880A-D4E0FE79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4261-0B9B-42CB-ABC2-461C9735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C61-F692-456E-A144-6CA1CCF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36E-8A91-444E-8C86-E1C201C5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0EBA-57CF-4818-8A43-E8132DD5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486-1D62-414A-BDFE-CA4B597B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2EF5-AA15-42F6-A77A-506B6961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B355-4DA0-47CD-85EC-C7BF6BCA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AA20-E82C-41CA-A622-C3AB7C00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9C5-8AC9-4449-85F4-18F67FA7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0F3-0925-45F3-887C-AE3D890D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3C9-FD0F-4AA6-8E98-4F953E2A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0D6-3163-4570-951E-F0D19B27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580-327C-46F6-A941-3997E930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3B5-8162-40F3-864C-49067AA4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934-D2EE-434D-88B9-454B28E3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D7AB-BA8E-40F4-9A7F-021BF536E90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4380-1944-4169-ABC4-69DD1BEE767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of them are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n-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ير 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(no staining)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of them are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الحيات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cteri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as 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5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ط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962520" y="3181320"/>
            <a:ext cx="5105160" cy="3510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الأحياء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الأحياء الدقي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7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synthesis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676520" y="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can be used       by a prokaryote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1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6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1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457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743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4724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2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A)- Prokaryo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6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85800" y="1187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7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5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8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1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4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7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0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5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od-shaped, sphere-shaped, or spiral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spirill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 chains similar to a string of beads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pto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mall amount of  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do not appear stained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لا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ظهر الصبغ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purple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كلية العوم</cp:lastModifiedBy>
  <dcterms:modified xsi:type="dcterms:W3CDTF">2013-01-26T06:00:09Z</dcterms:modified>
  <cp:revision>468</cp:revision>
  <dc:subject/>
  <dc:title>Slide 1</dc:title>
</cp:coreProperties>
</file>