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477-F45F-4BB7-B856-FBDC1E53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026-DFFC-4154-94E7-6FC552CA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20A-2961-43CC-B2B4-F22DA32B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945-A306-480D-B660-6477B1F2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A15E-DD3B-42B9-BA95-F25B72A6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A4DD-93D5-44FC-812B-30F0805A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18C8-91B7-4F08-BBAF-A5A832A9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AF52-20B5-44F6-87A9-6244EC0C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56E7-23DC-4DF2-B080-69A10920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6BA4-EA32-4754-9B9D-A9D3FF60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43EA-526F-4AB6-93F0-53436150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1C1-A59F-49BF-BB01-480F2B65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5181-6336-449D-9C11-FC9958B9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C599-06A1-4BE7-AA3A-CF6A13B6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9D78-645C-4139-80F8-4C401011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F51A-549E-4C3A-B39A-D7FD0642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F58C-EAD9-4960-B168-A9BFF406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4585-1D29-47C3-92F0-3D1AE43C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05FF-BF0F-438D-9962-450E963F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9ABC-A9C3-4AF8-B8A8-3090B604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D025-D746-4059-837D-C4946A28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D705-D996-4279-9A61-B1060D2C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944-7CA4-422F-A10B-F0345E03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A9080-E457-42AA-BF1A-92A36CC7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C5AA-53B7-494B-8292-D5DF97F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7BE6-51B4-4786-94C1-A68F04DF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25F7-E4E5-4DF7-B8C0-367E050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B0CE-8A0F-4EA7-8012-61A50CC4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6B4F8-BF9E-4CDB-B805-CD71384E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4D27-36F5-404C-AF4A-25A2FBD3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B031D-DE24-405D-9591-76A36BAF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08E08-FC61-47F6-851B-4711F0D4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6BF4-D8B4-46B9-B316-275EBEF5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7FF-2577-4FEF-B19A-55C30346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61F56-1E1D-4562-9D8D-AFA819CE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A74EA-AF61-43B0-BB1B-3FC7AC68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48855-F766-46A4-9DC6-E38B904F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A6AF-09C7-4330-A78A-0358C75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925CB-79BF-477D-9DC6-DB1D7452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C4086-6295-40CC-A05D-B00F6B38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45BC5-14EB-479D-8E2C-C07336BD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3271-BAE3-4B0C-87D9-3301C101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E7813-E2D9-4A98-896E-6A05D286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C25-1509-4012-86F9-AC5D5502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354-C6AE-411C-985D-8C66D67F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081-0D53-461A-9371-F49C3FE3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41B-061A-49DB-AC2B-468CF62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508-6A35-4D31-A636-5868893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FF9A-27E3-42AB-93F0-CDB098C7A97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4B84-DFD9-44A8-89C0-AE1164A8A96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40C7-A375-4816-8410-9DFCBDC478E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B31B-BA65-4A66-AADE-6EE8DA99287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96880" y="853920"/>
            <a:ext cx="5127480" cy="524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9B77-F28B-4D3F-9B9F-1732F433F85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المستخدم</cp:lastModifiedBy>
  <dcterms:modified xsi:type="dcterms:W3CDTF">2013-09-04T14:12:26Z</dcterms:modified>
  <cp:revision>95</cp:revision>
  <dc:subject/>
  <dc:title>Principals of General Zoology (Zoo-103)</dc:title>
</cp:coreProperties>
</file>