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BB7-42B7-4FB2-B32B-C251E776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5CE-CD07-41EF-8C8A-5E9CF6E0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22A-39C5-4039-86F6-3E83B592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1FB-8B66-4991-85CA-68776D91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D1C1-8912-4734-9DCF-CB3FBAA4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0B5D-091A-4FEB-95F1-6B3109D6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64DE-ABD0-4504-B90F-7D7C7463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906C-D675-4E56-9E29-2F2706C8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3F2F-7B92-475D-B676-D9D5B7E5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1CE0-EADF-4298-BC47-DA67DDB0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22CC-5A6E-47F0-A875-BB78867E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5F2-9323-45E1-9C85-789C0CE2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F747-E4DB-4F73-8EB9-38244CF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4CE9-2DCE-4A76-910A-D622A50C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488C-B8E5-41C8-B9D1-274D84B9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AFAE-03DC-4C99-A85F-CAD03559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4149-93AE-47EE-9146-41FBD75E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BA15D-CC40-4CB2-A65C-A4941C83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90FE-E310-415B-A11A-5DEDAC90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FE73-FDE1-4A1F-B5E5-65E3B41D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05AB-AA63-405F-9C02-362DF50C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943B-DC86-4251-8E0A-4D1CEBCD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B0E-CE02-4D4F-96ED-A1711A49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77815-FDAA-40F5-A2EB-532C7023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AECE-69B4-4A66-B5DF-5F3CAA22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AAFF-9D49-43A0-97F8-36B70AED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29113-677D-4950-8E8B-EB97F0C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FCB6-32C8-4BB7-9458-DF11FAC3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B799-B7BF-4F11-A6D4-BBDE8E3E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A193-07CD-49C0-B912-8AEB0656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B1668-9271-45E6-AA12-7F4D16E3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E2980-0628-46CE-BDBA-17562537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02412-607F-4475-B6B3-22F0202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1B9-B7D7-4489-B45E-AF9A16D6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68F0C-D06D-425D-82F5-3E75DC97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067B0-D96B-4C23-A323-8D229B8A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47D6F-D6C5-4E7F-B909-1C1B37D8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A3AAC-AA23-4D2C-BF4C-1416038D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6D26-EB53-4C6C-8B63-B0165C3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B579C-C31F-4629-A01B-8E45964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1A3B-0044-470A-B2F4-18D9F9E3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0BC1-8D7A-4F0D-B77E-EB339B75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3861-5C69-4695-9BC9-9EC9D004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654-5508-4B34-B27F-5CC25933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0DA-73D6-4106-ACA4-4E7D131D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142-49A4-4EC8-B49E-498E9233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F7D-AD8C-4133-AA03-0B3BFFF1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608-1F1C-4B2F-9C4B-AD1CFBA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A7A3-A2B0-46CA-BA39-E1138157203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450C-9171-4CE9-A442-F4E41F887DB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902-EE16-4C54-B20A-E345BFF6663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59D3-7850-419B-B96A-657BD6C0B40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96880" y="853920"/>
            <a:ext cx="512748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FF82-A771-44C4-B0B8-A662DC3AF26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المستخدم</cp:lastModifiedBy>
  <dcterms:modified xsi:type="dcterms:W3CDTF">2013-09-04T14:12:26Z</dcterms:modified>
  <cp:revision>95</cp:revision>
  <dc:subject/>
  <dc:title>Principals of General Zoology (Zoo-103)</dc:title>
</cp:coreProperties>
</file>