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EBB-F601-494F-B0E1-19D3FA96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BA8-C431-4367-B6AE-B96C264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78C-78AE-45C0-9001-44586104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C07-F33D-472C-B83A-693B128A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2A78-6262-438A-B11E-88BA8E02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55B1-5D96-43C0-BBCE-DE4DCC0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6EA-ED62-438E-BCE9-43E2E34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31A4-42E3-4AA3-8895-69BBD000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732E-73A4-4642-9C31-2437E913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D42-D704-4A93-96BA-D9B794B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804D-185B-4798-A402-DA1E28D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BF0-C498-4B5D-8609-49F5687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097-CBAE-4DF6-BFEC-2BED056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7158-8BBB-4E3F-81A4-E30CC89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41B2-328F-4F63-AE1D-5C9DD03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28EF-4571-4201-92B6-BCB587B2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2E0C-4C02-4ABB-A9CC-32F04ABC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6D1B-7B40-4409-B983-A32FD6C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03C0-FA6F-4C78-91E1-A98D3E2F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B82F-DBC2-495A-8DE2-427FCE32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B9D9-FDE0-4589-91EA-73ED93D0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B75E-B6AA-4E23-8D90-5F80F307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78F-68FF-4B51-81B6-9BD8F4C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47A4-CF4C-4601-A063-DE35D0B5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15AF-B010-4A81-8E76-CE66D18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836B-920A-4570-B9E5-862007D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AAF3-2901-43E0-8408-58E4E81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B463-654D-4D66-AA28-DF75D38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B2AA-44C8-48E0-A347-C6E8F8F3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5FA7-C340-48DF-B90B-6FF39893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80AA-9475-40D1-9E76-7CCC0BBF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8A33-7321-4891-B40E-781C1EFE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EDBD-218D-4E70-8B22-7661B28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8D7-4C93-4897-B2B0-6737ABF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D409-3051-40DA-91B1-54D76E71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26FF-A6CE-42D3-85D7-E8B096F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DE86F-72B8-4B8E-B0F8-ACCABA1F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E324-2E63-471D-A406-05130D7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5921-59E9-4546-ABB2-E7F93F73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BBB0-B533-44FD-B996-5585A08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D6F6-1C37-4849-B262-4E28C8A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0302-F877-47A3-BF19-32D70212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79A3-D017-408A-BB6D-24C6099C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C15-E572-41AC-B310-81377481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721-E2CC-4019-A94E-C1D69968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13E-42DB-4EAF-98FB-36FD875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209-B251-4B97-AD12-532C0E6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B4D-6FB7-42DC-A060-8554A3F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A73-F1DF-4C0E-A4D6-96EB96C5E0E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3DC7-5095-4CC5-887D-F390E076A5E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C09-D65A-4F72-AF56-49D297677D2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103E-ABDD-4A0E-90DD-36675A25340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603360" y="858960"/>
            <a:ext cx="5114880" cy="645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E700-21E0-4868-9DAE-9E62AD94D2A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3-11T03:50:48Z</dcterms:modified>
  <cp:revision>95</cp:revision>
  <dc:subject/>
  <dc:title>Principals of General Zoology (Zoo-103)</dc:title>
</cp:coreProperties>
</file>