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CC1-09EA-4A1B-AAF8-C5AFA4CE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217-F828-4010-9B01-656CB7E4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070-714F-4765-8CFC-CE0C1B11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777-E0DD-4971-916C-FC8B4AC1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D3B8-360E-4E12-A32F-D478A281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0AB4-F59F-43C3-B463-75C2D9AB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931F-142B-441F-91F4-6B56E857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4076-31A7-4AE2-93E3-6C4D5FCC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75EE-67F5-49D6-A14E-5B1815AD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FA96-BA54-4E77-8E1F-71513C1B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F538-181E-41A3-AE46-1F60C2E4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F8E-62F6-4022-BDDD-06AFD0BC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0471-9852-4152-A904-4E8CE7E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CB8B-B2FF-4B29-84E9-1B92A50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0D30-6933-4559-B456-B4DA89F3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7C81-2EDD-4017-8331-530F3C79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CA71-E4C0-48BC-892E-81F9A2F1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4A2B1-F6D8-4820-85AF-B8BB9714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9ECF6-6604-4C51-8B93-BF2A364E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7306-DBFC-4D23-9601-A63E69DF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6CF3-D6BA-40B5-9803-4993A994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9A47-37F4-4662-A439-887C6251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930-965E-4883-8BB8-B01234FB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9B26-933A-4551-BC64-7DC4B8DC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E3CC4-B515-4B94-A621-5CEADD4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BCA8-E266-4FB3-81AA-8375C31B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485E-B37E-4A14-8AF9-85842B4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0BAE-BBA1-44FC-AA7A-84FE9B64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2728-CB6B-4C88-A9A9-97342B7B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F687-6623-43CB-809E-37E248BE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3CDDC-F6A1-4D24-8C07-695C3B48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C996-B89D-4AA7-BA2F-9E9DF289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17C1-69E5-4953-8295-82415BA1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923-846B-4270-809E-EFAE4534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DB88-5579-4D73-A13A-BB69B2B9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480B-63FA-4097-A942-6C6A5F95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EAED-15D4-4232-BCDC-48E9F5EA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9B8D-8B74-4F70-A9EE-9129EE51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4AF8-2B0C-4AEF-B054-972E538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6296-8FF6-4B70-9799-AD977DA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9C13-D641-43B7-B703-E33EBA23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1EA5-B141-435C-A1C1-B42A621D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44BB-1AD8-437F-B025-DEEEA64B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A1A-56F6-4563-AD42-FE4B9606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818-0FFC-49EE-8DC7-4F3C3719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E43-82F2-4D00-A320-0CBB357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02C-9A5A-4B55-8FE9-6CF05143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4D5-055D-4E45-B2AB-D88A6503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04C-2AC8-451C-AF22-B77F0275599D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A0A4-2BEF-41FB-AF0A-60F46D6EF4EC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656D-B967-4514-8477-1849B97533FD}" type="slidenum">
              <a:rPr b="0" lang="ar-S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E022-48BD-4D67-BE11-6EEF0352228C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Life Made o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078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rything is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ing things are made up of cell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lls are made up of ato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714240" y="565200"/>
            <a:ext cx="7715520" cy="7207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Lecture 2: Bio-molecules</a:t>
            </a: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714240" y="1714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Consisted of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hundre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to few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thousands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of monosacchar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55480" y="3071880"/>
            <a:ext cx="815976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y are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Starch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lant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نش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Glycoge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a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ellulose in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plants (cell wall) and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hitin 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th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62400" y="1000080"/>
            <a:ext cx="40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Polysaccharides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السكر العدي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p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25239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long chains of carbon and hydrogen atoms (with some oxyge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energy, repel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fats and oils (butter, cheese, oi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5" descr="http://www.sc2000.net/~czaremba/images/triglycerides1.jpg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185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603360" y="858960"/>
            <a:ext cx="5114880" cy="645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1357200"/>
            <a:ext cx="77724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cc"/>
                </a:solidFill>
                <a:latin typeface="Impact"/>
              </a:rPr>
              <a:t>Most animal fats are saturat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Saturated fats-rich diet results in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42960" y="4379760"/>
            <a:ext cx="70866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Most vegetable fats (oils)</a:t>
            </a:r>
            <a:r>
              <a:rPr b="1" lang="ar-EG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They are liquid at room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714240" y="387504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مشبعة</a:t>
            </a: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52C8-4FC9-4F20-A3A6-D1CBB55CFC64}" type="slidenum">
              <a:rPr b="0" lang="ar-S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2280" y="1177560"/>
            <a:ext cx="830592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e phosphate group carries a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egative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35080" y="201600"/>
            <a:ext cx="87501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Phospholipids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major components of cell membran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6320" y="2819520"/>
            <a:ext cx="342900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400" y="26334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de of: Nitrogen, Carbon, Hydrogen, and other ato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b: Many different jobs in our bodies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include structural support, storage, transport of other substances, intercellular signaling </a:t>
            </a:r>
            <a:r>
              <a:rPr b="1" lang="ar-EG" sz="1800" spc="-1" strike="noStrike">
                <a:solidFill>
                  <a:srgbClr val="04617b"/>
                </a:solidFill>
                <a:latin typeface="Constantia"/>
                <a:cs typeface="Majalla UI"/>
              </a:rPr>
              <a:t>الإشارات بين الخلوية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s: enzymes, muscles,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788160" y="-4680"/>
            <a:ext cx="2355840" cy="2361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cleic Ac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4904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Phosphorous, Carbon, Nitrogen, Oxygen, and Hydro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Store genetic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DNA, R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999120" y="-4680"/>
            <a:ext cx="2144880" cy="186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5600" y="1279440"/>
            <a:ext cx="4429080" cy="720720"/>
          </a:xfrm>
          <a:prstGeom prst="rect">
            <a:avLst/>
          </a:prstGeom>
          <a:solidFill>
            <a:srgbClr val="089ca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Bio-molecules</a:t>
            </a:r>
            <a:r>
              <a:rPr b="0" lang="en-GB" sz="4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8200" y="2708280"/>
            <a:ext cx="67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ucture of Wa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r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rganic molecules </a:t>
            </a:r>
            <a:r>
              <a:rPr b="0" lang="ar-SA" sz="2000" spc="-1" strike="noStrike">
                <a:solidFill>
                  <a:srgbClr val="000000"/>
                </a:solidFill>
                <a:latin typeface="Constantia"/>
                <a:cs typeface="Majalla UI"/>
              </a:rPr>
              <a:t>الجزيئات العضو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Carbohydrates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كربوهيدر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Lipids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دهون</a:t>
            </a:r>
            <a:r>
              <a:rPr b="1" lang="ar-SA" sz="1800" spc="-1" strike="noStrike">
                <a:solidFill>
                  <a:srgbClr val="0000ff"/>
                </a:solidFill>
                <a:latin typeface="Constantia"/>
                <a:ea typeface="Majalla UI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Proteins</a:t>
            </a:r>
            <a:r>
              <a:rPr b="1" lang="en-GB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بروتين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Nucleic acids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أحماض النووي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400" y="2088720"/>
            <a:ext cx="70578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Life exists on Earth because of the abundant liquid water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Water has been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universal solvent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Aqueous solutions: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re solutions 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at have materials dissolved in water)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So, it has slightly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posi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and a slightly</a:t>
            </a:r>
            <a:r>
              <a:rPr b="1" lang="ar-SA" sz="2000" spc="-1" strike="noStrike">
                <a:solidFill>
                  <a:srgbClr val="0000ff"/>
                </a:solidFill>
                <a:latin typeface="Constantia"/>
                <a:ea typeface="Majalla UI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egative</a:t>
            </a: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 sides</a:t>
            </a:r>
            <a:r>
              <a:rPr b="1" lang="en-GB" sz="2000" spc="-1" strike="noStrike">
                <a:solidFill>
                  <a:srgbClr val="0000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6049800" y="3857760"/>
            <a:ext cx="2737080" cy="24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1073880" y="1214280"/>
            <a:ext cx="19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 Water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0040" y="2214720"/>
            <a:ext cx="810108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ilic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محب للماء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any substance that has an affinity for water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ب الماء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Hydrophobic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للماء</a:t>
            </a:r>
            <a:r>
              <a:rPr b="1" lang="ar-EG" sz="1400" spc="-1" strike="noStrike" u="sng">
                <a:solidFill>
                  <a:srgbClr val="000000"/>
                </a:solidFill>
                <a:uFillTx/>
                <a:latin typeface="Constantia"/>
                <a:ea typeface="Majalla U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s the substances that have no affinity for water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لا تحب الماء</a:t>
            </a:r>
            <a:r>
              <a:rPr b="1" lang="ar-EG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GB" sz="1600" spc="-1" strike="noStrike">
                <a:solidFill>
                  <a:srgbClr val="000000"/>
                </a:solidFill>
                <a:latin typeface="Constantia"/>
              </a:rPr>
              <a:t>Because they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hav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nstantia"/>
              </a:rPr>
              <a:t>non-ionic and non-polar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covalent bo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Constanti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Arial"/>
              </a:rPr>
              <a:t>Thus, water molecules cannot form hydrogen bonds with these molec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Amphipathic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Constantia"/>
              </a:rPr>
              <a:t> 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onstantia"/>
                <a:cs typeface="Majalla UI"/>
              </a:rPr>
              <a:t>كاره ومحب للماء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onstantia"/>
              </a:rPr>
              <a:t>(Phospholipid)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onstantia"/>
              </a:rPr>
              <a:t>Has end with affinity for water and the other end with no affinity for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nstantia"/>
              </a:rPr>
              <a:t>The Hydrophobic molecules are the major ingredients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84160" y="1071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rganisms are sensitive to changes in p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761760"/>
            <a:ext cx="555768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aci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increas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onstantia"/>
              </a:rPr>
              <a:t>hydrogen ion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)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hen hydrochloric acid is added to water, hydrogen ions dissociate  </a:t>
            </a:r>
            <a:r>
              <a:rPr b="0" lang="ar-EG" sz="1400" spc="-1" strike="noStrike">
                <a:solidFill>
                  <a:srgbClr val="000000"/>
                </a:solidFill>
                <a:latin typeface="Constantia"/>
                <a:cs typeface="Majalla UI"/>
              </a:rPr>
              <a:t>تنفصل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rom chloride ions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300"/>
              </a:spcBef>
              <a:buClr>
                <a:srgbClr val="339933"/>
              </a:buClr>
              <a:buSzPct val="70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HCl          H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 + Cl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458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Constantia"/>
              </a:rPr>
              <a:t>Addition of an acid makes a solution more acidic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The ba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s any substance that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nstantia"/>
              </a:rPr>
              <a:t>reduces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the hydrogen ion concentration in a solu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me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directly by accepting hydrogen ion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339933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Other bases reduce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indirectly by releasing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hat combines with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NaOH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Na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 O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→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 H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176"/>
              </a:spcBef>
              <a:buClr>
                <a:srgbClr val="339933"/>
              </a:buClr>
              <a:buSzPct val="8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Solutions with mo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tha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onstantia"/>
              </a:rPr>
              <a:t>+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nstantia"/>
              </a:rPr>
              <a:t>are basic solutio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690560" y="2428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643120" y="542916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072120" y="928800"/>
            <a:ext cx="2955960" cy="5286240"/>
            <a:chOff x="6072120" y="928800"/>
            <a:chExt cx="2955960" cy="5286240"/>
          </a:xfrm>
        </p:grpSpPr>
        <p:pic>
          <p:nvPicPr>
            <p:cNvPr id="211" name="Picture 5" descr=""/>
            <p:cNvPicPr/>
            <p:nvPr/>
          </p:nvPicPr>
          <p:blipFill>
            <a:blip r:embed="rId1"/>
            <a:stretch/>
          </p:blipFill>
          <p:spPr>
            <a:xfrm>
              <a:off x="6072120" y="928800"/>
              <a:ext cx="2955960" cy="52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6"/>
            <p:cNvSpPr/>
            <p:nvPr/>
          </p:nvSpPr>
          <p:spPr>
            <a:xfrm>
              <a:off x="8174160" y="2184120"/>
              <a:ext cx="572760" cy="16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Biomolec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35744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14400" y="27795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ain molecules involved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28560" y="900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05120" y="1362240"/>
            <a:ext cx="5562360" cy="1066320"/>
            <a:chOff x="1905120" y="1362240"/>
            <a:chExt cx="5562360" cy="1066320"/>
          </a:xfrm>
        </p:grpSpPr>
        <p:sp>
          <p:nvSpPr>
            <p:cNvPr id="218" name="Line 4"/>
            <p:cNvSpPr/>
            <p:nvPr/>
          </p:nvSpPr>
          <p:spPr>
            <a:xfrm>
              <a:off x="3581280" y="136224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4800600" y="136224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1905120" y="19717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190512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480060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7467480" y="197172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885960" y="3586320"/>
            <a:ext cx="79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833400" y="5813280"/>
            <a:ext cx="8024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871560" y="4884840"/>
            <a:ext cx="7843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ar-EG" sz="18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231" name="Text Box 18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nom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2362320"/>
            <a:ext cx="3770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bohydr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p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ic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5800" y="2405160"/>
            <a:ext cx="42260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Constantia"/>
              </a:rPr>
              <a:t>Mono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saccharide (suga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ocarbon ch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ino aci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rbohydr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7720" y="2666520"/>
            <a:ext cx="800748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de of: carbon, hydrogen, and oxygen ato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b: provide living things with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: sugars and starches (corn, rice, potato, brea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rcRect l="9811" t="18704" r="9811" b="7014"/>
          <a:stretch/>
        </p:blipFill>
        <p:spPr>
          <a:xfrm>
            <a:off x="6188040" y="0"/>
            <a:ext cx="2955960" cy="2292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13:50Z</dcterms:created>
  <dc:creator>Dr. A A</dc:creator>
  <dc:description/>
  <dc:language>en-US</dc:language>
  <cp:lastModifiedBy>User</cp:lastModifiedBy>
  <dcterms:modified xsi:type="dcterms:W3CDTF">2015-03-11T03:50:48Z</dcterms:modified>
  <cp:revision>95</cp:revision>
  <dc:subject/>
  <dc:title>Principals of General Zoology (Zoo-103)</dc:title>
</cp:coreProperties>
</file>