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06FD-FA75-4CCB-B313-FE3E964DD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9D92-C0D4-440F-84F2-9DD59F9B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713E-C40A-41CB-8B62-BE98CB8AC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078A-BB44-4899-BAE0-8ECBBE821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5651-91D5-4BD6-A4C3-AE4259632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8D4B-79BC-43D4-99CF-2EFED0FF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F2D9-1968-4EE9-B6D5-32CC2980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2704-6FB4-422F-929C-5431AAED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C293-9FB5-439E-9021-006EB2C5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4C6E-D222-4CC7-A746-366096EF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00EB-07A5-440D-B525-0B3C2484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4E60-0841-404F-B5E5-E102F8EA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B843-3C91-49EF-A18C-14D0541F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881E-465E-48CB-BCC4-2E84BD25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0577-8F20-4259-8C53-0A087B63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F9C6A-487D-4121-BBC6-C3E8B6508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847E-8A1F-4FC1-8801-0B3A19EC8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AF90B-D494-4E3C-800E-FE070BCB1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FFC66-D0F8-4553-A263-C6236A27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CA8C3-F4D2-4501-87FE-5DC026C8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AAB1A-404A-47AB-8847-4FB386FF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3ED31-5EB8-4245-9850-F77C0681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15A0-A664-45E7-8BD3-DCBF1266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9D137-50B7-4952-BFC4-E7C731F5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AB0F2-E352-4F3B-9065-932EB5FC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F41A4-5A48-4559-9228-97366553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2A5BC-93E6-4F83-B493-F8448091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FB4EE-271B-4469-A209-BBA766C0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89451-EE5D-4D20-8924-D4E3D6845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6F7D7-90A3-446D-B7C3-DD6C06548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D4E7B-5950-46B0-83C5-0DFBE15E7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1C6B1-2358-418D-9044-86AED7FB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39E6A-4399-4756-A190-DE00C4BA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0AD8-03E0-4DB3-9B12-C93BC79E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2A960-A935-43DC-8590-AF4216AC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2C218-BC21-4FA9-AE0D-9A2569EB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B55F5-5400-4C2C-98F0-DB29A3DCB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64BC5-A0CA-45EA-B15A-D4F410DA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63892-C566-47F9-B2BF-D539F47E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7B3D5-EB1D-4AF3-B637-09E3BEBD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43BE4-F3E7-40F8-B9CD-76E6BEC1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E7CDD-5A3E-4FF0-81D2-802502FC2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AB5CB-820F-4882-B4C8-DA102E94E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14E6-0B5E-4671-8B72-9232137C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437A-9919-411B-8115-DD34B6AA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91DB-AB22-4D17-97CE-A0D6A5A1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4142-F0DD-4A44-9C0C-B06BE30F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C86D-112C-4D1F-B7FD-CEE0571D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D28A-3C20-492A-B939-6CA48C13F05D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2D3A-7F88-4505-A42A-3E13BCD467DF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D891-28E7-4278-9A04-E25D7041929A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F914-78D7-416F-AFFD-17C389EF506D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78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What is Life Made of?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3528720"/>
            <a:ext cx="8229600" cy="27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verything is made up of atom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iving organisms are made up of cell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ells are made up of atom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714240" y="979560"/>
            <a:ext cx="7715520" cy="720720"/>
          </a:xfrm>
          <a:prstGeom prst="rect">
            <a:avLst/>
          </a:prstGeom>
          <a:solidFill>
            <a:srgbClr val="21b2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alibri"/>
              </a:rPr>
              <a:t>Lecture 2: Bio-molecules</a:t>
            </a:r>
            <a:r>
              <a:rPr b="0" lang="en-GB" sz="4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3"/>
          <p:cNvSpPr/>
          <p:nvPr/>
        </p:nvSpPr>
        <p:spPr>
          <a:xfrm>
            <a:off x="324000" y="1989000"/>
            <a:ext cx="770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Consisted of few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nstantia"/>
              </a:rPr>
              <a:t>hundreds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 to few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nstantia"/>
              </a:rPr>
              <a:t>thousands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 of monosacchar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555480" y="2565360"/>
            <a:ext cx="8480520" cy="37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They are two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1- Storage: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ar-EG" sz="2400" spc="-1" strike="noStrike">
                <a:solidFill>
                  <a:srgbClr val="080808"/>
                </a:solidFill>
                <a:latin typeface="Tahoma"/>
              </a:rPr>
              <a:t>تخزين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Provide sugar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cell by hydrolysis </a:t>
            </a:r>
            <a:r>
              <a:rPr b="0" lang="ar-EG" sz="2000" spc="-1" strike="noStrike">
                <a:solidFill>
                  <a:srgbClr val="080808"/>
                </a:solidFill>
                <a:latin typeface="Arial"/>
              </a:rPr>
              <a:t>إضافة ماء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s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 Starch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plants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نش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 Glycogen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animals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جليكو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ج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ن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2- Structural: </a:t>
            </a:r>
            <a:r>
              <a:rPr b="0" lang="ar-EG" sz="2400" spc="-1" strike="noStrike">
                <a:solidFill>
                  <a:srgbClr val="000000"/>
                </a:solidFill>
                <a:latin typeface="Tahoma"/>
              </a:rPr>
              <a:t>تركيب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Serve as </a:t>
            </a:r>
            <a:r>
              <a:rPr b="0" lang="en-GB" sz="2000" spc="-1" strike="noStrike" u="sng">
                <a:solidFill>
                  <a:srgbClr val="080808"/>
                </a:solidFill>
                <a:uFillTx/>
                <a:latin typeface="Arial"/>
              </a:rPr>
              <a:t>building materials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for the organis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Tahoma"/>
              </a:rPr>
              <a:t>as 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Cellulose in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plants (cell wall) and 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Chitin </a:t>
            </a:r>
            <a:r>
              <a:rPr b="0" lang="ar-EG" sz="2000" spc="-1" strike="noStrike" u="sng">
                <a:solidFill>
                  <a:srgbClr val="000000"/>
                </a:solidFill>
                <a:uFillTx/>
                <a:latin typeface="Arial"/>
              </a:rPr>
              <a:t>الكيتين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 the </a:t>
            </a:r>
            <a:r>
              <a:rPr b="0" lang="en-GB" sz="2000" spc="-1" strike="noStrike" u="sng">
                <a:solidFill>
                  <a:srgbClr val="080808"/>
                </a:solidFill>
                <a:uFillTx/>
                <a:latin typeface="Arial"/>
              </a:rPr>
              <a:t>cuticle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80808"/>
                </a:solidFill>
                <a:latin typeface="Arial"/>
              </a:rPr>
              <a:t>الجُـلَيد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of ins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-397800" y="907920"/>
            <a:ext cx="7102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4800" spc="-1" strike="noStrike">
                <a:solidFill>
                  <a:srgbClr val="0000ff"/>
                </a:solidFill>
                <a:latin typeface="Constantia"/>
              </a:rPr>
              <a:t>Polysaccharides</a:t>
            </a:r>
            <a:r>
              <a:rPr b="1" lang="en-GB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السكر العدي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1560" y="990360"/>
            <a:ext cx="2098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Lipid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37720" y="3316320"/>
            <a:ext cx="800748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Made of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ong chains of carbon and hydrogen atoms (with some oxygen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Job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ore energ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Example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fats and oils (butter, olive oil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5" name="Picture 5" descr="http://www.sc2000.net/~czaremba/images/triglycerides1.jpg"/>
          <p:cNvPicPr/>
          <p:nvPr/>
        </p:nvPicPr>
        <p:blipFill>
          <a:blip r:embed="rId1"/>
          <a:stretch/>
        </p:blipFill>
        <p:spPr>
          <a:xfrm>
            <a:off x="3419640" y="1066680"/>
            <a:ext cx="5067000" cy="1857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Rectangle 2" descr=""/>
          <p:cNvPicPr/>
          <p:nvPr/>
        </p:nvPicPr>
        <p:blipFill>
          <a:blip r:embed="rId1"/>
          <a:stretch/>
        </p:blipFill>
        <p:spPr>
          <a:xfrm>
            <a:off x="542880" y="781200"/>
            <a:ext cx="5175360" cy="7920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642960" y="1357200"/>
            <a:ext cx="80326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 algn="just">
              <a:lnSpc>
                <a:spcPct val="100000"/>
              </a:lnSpc>
              <a:spcBef>
                <a:spcPts val="1125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re is no double bonds between the carbons. All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C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are linked with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1125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us, it is saturated with 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1125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Most animal fats are saturat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1125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y are solid at room tempera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1125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Saturated fats-rich diet results in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onstantia"/>
              </a:rPr>
              <a:t>Atherosclerosis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</a:rPr>
              <a:t>تصلب الشر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ا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</a:rPr>
              <a:t>ي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ين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642960" y="4379760"/>
            <a:ext cx="82501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 algn="just">
              <a:lnSpc>
                <a:spcPct val="100000"/>
              </a:lnSpc>
              <a:spcBef>
                <a:spcPts val="1125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se double bonds are formed by the removal of H at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1125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Most vegetable fats (oils)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fish fats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are unsaturat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1125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y are liquid at room tempera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spcBef>
                <a:spcPts val="1125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y can be synthetically converted to saturated (solid) by adding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H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  (</a:t>
            </a:r>
            <a:r>
              <a:rPr b="0" lang="en-GB" sz="1800" spc="-1" strike="noStrike">
                <a:solidFill>
                  <a:srgbClr val="0000cc"/>
                </a:solidFill>
                <a:latin typeface="Constantia"/>
              </a:rPr>
              <a:t>Hydrogenation</a:t>
            </a:r>
            <a:r>
              <a:rPr b="1" lang="en-GB" sz="1800" spc="-1" strike="noStrike">
                <a:solidFill>
                  <a:srgbClr val="0000cc"/>
                </a:solidFill>
                <a:latin typeface="Constantia"/>
              </a:rPr>
              <a:t> 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</a:rPr>
              <a:t>الهَدْرَﭽـَ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) (</a:t>
            </a:r>
            <a:r>
              <a:rPr b="0" lang="en-GB" sz="1800" spc="-1" strike="noStrike">
                <a:solidFill>
                  <a:srgbClr val="0000ff"/>
                </a:solidFill>
                <a:latin typeface="Constantia"/>
              </a:rPr>
              <a:t>dehydrogenation</a:t>
            </a: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نزع الهيدروجين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2"/>
          <p:cNvSpPr/>
          <p:nvPr/>
        </p:nvSpPr>
        <p:spPr>
          <a:xfrm>
            <a:off x="714240" y="3875040"/>
            <a:ext cx="60962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Constantia"/>
              </a:rPr>
              <a:t>B) Unsaturated Fats</a:t>
            </a:r>
            <a:r>
              <a:rPr b="0" lang="en-GB" sz="28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غير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مشبعة</a:t>
            </a:r>
            <a:r>
              <a:rPr b="0" lang="en-US" sz="20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لدهون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C:\Users\User\Downloads\fattyacid.png"/>
          <p:cNvPicPr/>
          <p:nvPr/>
        </p:nvPicPr>
        <p:blipFill>
          <a:blip r:embed="rId1"/>
          <a:stretch/>
        </p:blipFill>
        <p:spPr>
          <a:xfrm>
            <a:off x="1332000" y="1305000"/>
            <a:ext cx="6419880" cy="4572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C49E-8477-4C1D-B760-133AAFBBF15D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151920" y="1730520"/>
            <a:ext cx="8883720" cy="97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Phospholipid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have two fatty acids attached to glycerol and a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phosphate group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t the third positio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phosphate group carries a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negative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charge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450720" y="586800"/>
            <a:ext cx="2826000" cy="825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Phospholipid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Line 4"/>
          <p:cNvSpPr/>
          <p:nvPr/>
        </p:nvSpPr>
        <p:spPr>
          <a:xfrm>
            <a:off x="152280" y="155736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179280" y="3768840"/>
            <a:ext cx="396108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fatty acid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tail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re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hydrophobic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, but the phosphate group and its attachments form a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hydrophilic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hea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us, it i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amphipath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6" descr=""/>
          <p:cNvPicPr/>
          <p:nvPr/>
        </p:nvPicPr>
        <p:blipFill>
          <a:blip r:embed="rId1"/>
          <a:srcRect l="0" t="0" r="30845" b="4769"/>
          <a:stretch/>
        </p:blipFill>
        <p:spPr>
          <a:xfrm>
            <a:off x="4457880" y="2822400"/>
            <a:ext cx="4435200" cy="3846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nstantia"/>
              </a:rPr>
              <a:t>Protein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28400" y="2133360"/>
            <a:ext cx="8319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ade of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itrogen, Carbon, Hydrogen, and other ato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Job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y different jobs in our bodies include structural support, storage, transport of other substances, intercellular signaling 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إشارات بين الخلوي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movement, and defense against microb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xamples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nzymes, musc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9" name="Picture 5" descr="C:\Users\User\Downloads\download.png"/>
          <p:cNvPicPr/>
          <p:nvPr/>
        </p:nvPicPr>
        <p:blipFill>
          <a:blip r:embed="rId1"/>
          <a:stretch/>
        </p:blipFill>
        <p:spPr>
          <a:xfrm>
            <a:off x="5364000" y="4376880"/>
            <a:ext cx="2232360" cy="22161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Nucleic Acid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4920" y="2490480"/>
            <a:ext cx="8209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ade of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hosphorous, Carbon, Nitrogen, Oxygen, and Hydrogen ato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Job: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Store genetic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xamples: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DNA, RNA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5388120" y="3213000"/>
            <a:ext cx="2984400" cy="2592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85600" y="1279440"/>
            <a:ext cx="4429080" cy="720720"/>
          </a:xfrm>
          <a:prstGeom prst="rect">
            <a:avLst/>
          </a:prstGeom>
          <a:solidFill>
            <a:srgbClr val="089ca3"/>
          </a:solidFill>
          <a:ln w="93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Bio-molecules</a:t>
            </a:r>
            <a:r>
              <a:rPr b="0" lang="en-GB" sz="45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898200" y="2708280"/>
            <a:ext cx="67690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1- Structure of Wat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2- Organic molecules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جزيئات العضو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1700" spc="-1" strike="noStrike">
                <a:solidFill>
                  <a:srgbClr val="0000ff"/>
                </a:solidFill>
                <a:latin typeface="Constantia"/>
              </a:rPr>
              <a:t>a- Carbohydrates 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كربوهيدرات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Constantia"/>
              </a:rPr>
              <a:t>           </a:t>
            </a:r>
            <a:r>
              <a:rPr b="1" lang="en-US" sz="1700" spc="-1" strike="noStrike">
                <a:solidFill>
                  <a:srgbClr val="0000ff"/>
                </a:solidFill>
                <a:latin typeface="Constantia"/>
              </a:rPr>
              <a:t>b- Lipids</a:t>
            </a:r>
            <a:r>
              <a:rPr b="1" lang="ar-SA" sz="17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هون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Constantia"/>
              </a:rPr>
              <a:t>           </a:t>
            </a:r>
            <a:r>
              <a:rPr b="1" lang="en-US" sz="1700" spc="-1" strike="noStrike">
                <a:solidFill>
                  <a:srgbClr val="0000ff"/>
                </a:solidFill>
                <a:latin typeface="Constantia"/>
              </a:rPr>
              <a:t>c- Proteins</a:t>
            </a:r>
            <a:r>
              <a:rPr b="1" lang="ar-SA" sz="17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1" lang="en-GB" sz="17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ar-SA" sz="17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روتينات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Constantia"/>
              </a:rPr>
              <a:t>           </a:t>
            </a:r>
            <a:r>
              <a:rPr b="1" lang="en-US" sz="1700" spc="-1" strike="noStrike">
                <a:solidFill>
                  <a:srgbClr val="0000ff"/>
                </a:solidFill>
                <a:latin typeface="Constantia"/>
              </a:rPr>
              <a:t>d- Nucleic acids</a:t>
            </a:r>
            <a:r>
              <a:rPr b="1" lang="ar-SA" sz="17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حماض النوو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28400" y="2088720"/>
            <a:ext cx="738324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Life exists on Earth because of the abundant liquid water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Water has been referred to as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universal solvent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Aqueous solutions: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are solutions that have materials dissolved in water.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So, it has slightly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ositive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and a slightly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negative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sides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6227640" y="3857760"/>
            <a:ext cx="2737080" cy="240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2" name="Rectangle 4"/>
          <p:cNvSpPr/>
          <p:nvPr/>
        </p:nvSpPr>
        <p:spPr>
          <a:xfrm>
            <a:off x="957240" y="1214280"/>
            <a:ext cx="21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nstantia"/>
                <a:ea typeface="Times New Roman"/>
              </a:rPr>
              <a:t>I</a:t>
            </a:r>
            <a:r>
              <a:rPr b="1" lang="en-US" sz="3600" spc="-1" strike="noStrike">
                <a:solidFill>
                  <a:srgbClr val="0000ff"/>
                </a:solidFill>
                <a:latin typeface="Constantia"/>
              </a:rPr>
              <a:t>- Water</a:t>
            </a:r>
            <a:r>
              <a:rPr b="1" lang="en-GB" sz="3600" spc="-1" strike="noStrike">
                <a:solidFill>
                  <a:srgbClr val="0000ff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500040" y="2214720"/>
            <a:ext cx="810108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Hydrophilic </a:t>
            </a:r>
            <a:r>
              <a:rPr b="0" lang="ar-EG" sz="20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محب للماء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(Glucose)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Is any substance that has an affinity for water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حب الماء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Hydrophobic </a:t>
            </a:r>
            <a:r>
              <a:rPr b="0" lang="ar-EG" sz="20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كاره للماء</a:t>
            </a:r>
            <a:r>
              <a:rPr b="1" lang="ar-EG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(Lipid)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Is the substances that have no affinity for water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لا تحب الماء</a:t>
            </a:r>
            <a:r>
              <a:rPr b="1" lang="ar-EG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Because they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have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nstantia"/>
              </a:rPr>
              <a:t>non-ionic and non-polar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covalent bon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Constanti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  <a:ea typeface="Arial"/>
              </a:rPr>
              <a:t>Thus, water molecules cannot form hydrogen bonds with these molecu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Amphipathic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Constantia"/>
              </a:rPr>
              <a:t> </a:t>
            </a:r>
            <a:r>
              <a:rPr b="0" lang="ar-EG" sz="20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كاره ومحب للماء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(Phospholipid)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Constantia"/>
              </a:rPr>
              <a:t>Has end with affinity for water and the other end with no affinity for w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The Hydrophobic molecules are the major ingredients of cell membra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884160" y="107172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nstantia"/>
              </a:rPr>
              <a:t>Types of solu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7627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Organisms are sensitive to changes in p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28240" y="1115640"/>
            <a:ext cx="6072120" cy="585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he acid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Is a substance that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nstantia"/>
              </a:rPr>
              <a:t>increases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the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Constantia"/>
              </a:rPr>
              <a:t>hydrogen ion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1" lang="en-US" sz="14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4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) concentration in a solution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34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When hydrochloric acid is added to water, hydrogen ions dissociate 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نفصل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from chloride ions: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45880">
              <a:spcBef>
                <a:spcPts val="300"/>
              </a:spcBef>
              <a:buClr>
                <a:srgbClr val="339933"/>
              </a:buClr>
              <a:buSzPct val="70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tantia"/>
              </a:rPr>
              <a:t>HCl                H</a:t>
            </a:r>
            <a:r>
              <a:rPr b="1" lang="en-US" sz="12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200" spc="-1" strike="noStrike">
                <a:solidFill>
                  <a:srgbClr val="ff0000"/>
                </a:solidFill>
                <a:latin typeface="Constantia"/>
              </a:rPr>
              <a:t> + Cl</a:t>
            </a:r>
            <a:r>
              <a:rPr b="1" lang="en-US" sz="12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458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Constantia"/>
              </a:rPr>
              <a:t>Addition of an acid makes a solution more acidic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he bas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Is any substance that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nstantia"/>
              </a:rPr>
              <a:t>reduces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the hydrogen ion concentration in a solution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Some bases reduce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directly by accepting hydrogen ion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Other bases reduce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indirectly by releasing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O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that combines with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to form water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NaOH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→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Na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+ O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 O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+ 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→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H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176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Solutions with more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OH</a:t>
            </a:r>
            <a:r>
              <a:rPr b="1" lang="en-US" sz="18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than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8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800" spc="-1" strike="noStrike" baseline="30000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are basic solution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152280" y="83664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6"/>
          <p:cNvSpPr/>
          <p:nvPr/>
        </p:nvSpPr>
        <p:spPr>
          <a:xfrm>
            <a:off x="1814400" y="285264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643120" y="5805360"/>
            <a:ext cx="1389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7"/>
          <p:cNvGrpSpPr/>
          <p:nvPr/>
        </p:nvGrpSpPr>
        <p:grpSpPr>
          <a:xfrm>
            <a:off x="6156360" y="1197000"/>
            <a:ext cx="2955960" cy="5286240"/>
            <a:chOff x="6156360" y="1197000"/>
            <a:chExt cx="2955960" cy="5286240"/>
          </a:xfrm>
        </p:grpSpPr>
        <p:pic>
          <p:nvPicPr>
            <p:cNvPr id="211" name="Picture 5" descr=""/>
            <p:cNvPicPr/>
            <p:nvPr/>
          </p:nvPicPr>
          <p:blipFill>
            <a:blip r:embed="rId1"/>
            <a:stretch/>
          </p:blipFill>
          <p:spPr>
            <a:xfrm>
              <a:off x="6156360" y="1197000"/>
              <a:ext cx="2955960" cy="52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Rectangle 6"/>
            <p:cNvSpPr/>
            <p:nvPr/>
          </p:nvSpPr>
          <p:spPr>
            <a:xfrm>
              <a:off x="8258400" y="2452320"/>
              <a:ext cx="572760" cy="1659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2. Bio-molecul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357440" y="2666520"/>
            <a:ext cx="38862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bohydra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p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te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cleic Ac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914400" y="277956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 main molecules involved in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628560" y="900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(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Carbohydrates, Lipids, Proteins and nucleic acids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"/>
          <p:cNvGrpSpPr/>
          <p:nvPr/>
        </p:nvGrpSpPr>
        <p:grpSpPr>
          <a:xfrm>
            <a:off x="1905120" y="1362240"/>
            <a:ext cx="5562360" cy="1066320"/>
            <a:chOff x="1905120" y="1362240"/>
            <a:chExt cx="5562360" cy="1066320"/>
          </a:xfrm>
        </p:grpSpPr>
        <p:sp>
          <p:nvSpPr>
            <p:cNvPr id="218" name="Line 4"/>
            <p:cNvSpPr/>
            <p:nvPr/>
          </p:nvSpPr>
          <p:spPr>
            <a:xfrm>
              <a:off x="3581280" y="1362240"/>
              <a:ext cx="27432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5"/>
            <p:cNvSpPr/>
            <p:nvPr/>
          </p:nvSpPr>
          <p:spPr>
            <a:xfrm>
              <a:off x="4800600" y="1362240"/>
              <a:ext cx="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6"/>
            <p:cNvSpPr/>
            <p:nvPr/>
          </p:nvSpPr>
          <p:spPr>
            <a:xfrm>
              <a:off x="1905120" y="1971720"/>
              <a:ext cx="5562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7"/>
            <p:cNvSpPr/>
            <p:nvPr/>
          </p:nvSpPr>
          <p:spPr>
            <a:xfrm>
              <a:off x="1905120" y="197172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8"/>
            <p:cNvSpPr/>
            <p:nvPr/>
          </p:nvSpPr>
          <p:spPr>
            <a:xfrm>
              <a:off x="4800600" y="197172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9"/>
            <p:cNvSpPr/>
            <p:nvPr/>
          </p:nvSpPr>
          <p:spPr>
            <a:xfrm>
              <a:off x="7467480" y="197172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10"/>
          <p:cNvSpPr/>
          <p:nvPr/>
        </p:nvSpPr>
        <p:spPr>
          <a:xfrm>
            <a:off x="838080" y="243828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Mono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3809880" y="243828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D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6324480" y="243828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Poly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885960" y="3586320"/>
            <a:ext cx="79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Polymer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is a long molecule consists of a chain of similar building molecules (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nomers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) covalently bounded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833400" y="5813280"/>
            <a:ext cx="8024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Polymer can be broken down </a:t>
            </a:r>
            <a:r>
              <a:rPr b="0" lang="ar-EG" sz="2000" spc="-1" strike="noStrike">
                <a:solidFill>
                  <a:srgbClr val="080808"/>
                </a:solidFill>
                <a:latin typeface="Tahoma"/>
              </a:rPr>
              <a:t>يـُكَســًر إلى</a:t>
            </a:r>
            <a:r>
              <a:rPr b="0" lang="en-GB" sz="20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to its monomers by hydrolysis (adding H</a:t>
            </a:r>
            <a:r>
              <a:rPr b="1" lang="en-GB" sz="2400" spc="-1" strike="noStrike" baseline="-25000">
                <a:solidFill>
                  <a:srgbClr val="080808"/>
                </a:solidFill>
                <a:latin typeface="Tahoma"/>
              </a:rPr>
              <a:t>2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871560" y="4884840"/>
            <a:ext cx="7843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Polymer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can be </a:t>
            </a:r>
            <a:r>
              <a:rPr b="1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built up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ar-EG" sz="2000" spc="-1" strike="noStrike">
                <a:solidFill>
                  <a:srgbClr val="080808"/>
                </a:solidFill>
                <a:latin typeface="Tahoma"/>
              </a:rPr>
              <a:t>يـُبـْنَى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by linking its </a:t>
            </a:r>
            <a:r>
              <a:rPr b="0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monomers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by dehydration (removing H</a:t>
            </a:r>
            <a:r>
              <a:rPr b="1" lang="en-GB" sz="2400" spc="-1" strike="noStrike" baseline="-25000">
                <a:solidFill>
                  <a:srgbClr val="080808"/>
                </a:solidFill>
                <a:latin typeface="Tahoma"/>
              </a:rPr>
              <a:t>2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17"/>
          <p:cNvGrpSpPr/>
          <p:nvPr/>
        </p:nvGrpSpPr>
        <p:grpSpPr>
          <a:xfrm>
            <a:off x="1219320" y="2971800"/>
            <a:ext cx="6858000" cy="1100520"/>
            <a:chOff x="1219320" y="2971800"/>
            <a:chExt cx="6858000" cy="1100520"/>
          </a:xfrm>
        </p:grpSpPr>
        <p:sp>
          <p:nvSpPr>
            <p:cNvPr id="231" name="Text Box 18"/>
            <p:cNvSpPr/>
            <p:nvPr/>
          </p:nvSpPr>
          <p:spPr>
            <a:xfrm>
              <a:off x="1219320" y="3003480"/>
              <a:ext cx="1218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200" spc="-1" strike="noStrike">
                  <a:solidFill>
                    <a:srgbClr val="ff0000"/>
                  </a:solidFill>
                  <a:latin typeface="Arial"/>
                </a:rPr>
                <a:t>أحاد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9"/>
            <p:cNvSpPr/>
            <p:nvPr/>
          </p:nvSpPr>
          <p:spPr>
            <a:xfrm>
              <a:off x="4343400" y="297180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200" spc="-1" strike="noStrike">
                  <a:solidFill>
                    <a:srgbClr val="ff0000"/>
                  </a:solidFill>
                  <a:latin typeface="Arial"/>
                </a:rPr>
                <a:t>ثنائ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0"/>
            <p:cNvSpPr/>
            <p:nvPr/>
          </p:nvSpPr>
          <p:spPr>
            <a:xfrm>
              <a:off x="6858000" y="300348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200" spc="-1" strike="noStrike">
                  <a:solidFill>
                    <a:srgbClr val="ff0000"/>
                  </a:solidFill>
                  <a:latin typeface="Arial"/>
                </a:rPr>
                <a:t>عديد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ff"/>
                </a:solidFill>
                <a:uFillTx/>
                <a:latin typeface="Calibri"/>
              </a:rPr>
              <a:t>Monomers</a:t>
            </a:r>
            <a:r>
              <a:rPr b="1" lang="en-US" sz="5000" spc="-1" strike="noStrike" u="sng">
                <a:solidFill>
                  <a:srgbClr val="0000ff"/>
                </a:solidFill>
                <a:uFillTx/>
                <a:latin typeface="Calibri"/>
              </a:rPr>
              <a:t>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37720" y="2362320"/>
            <a:ext cx="377028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0000"/>
                </a:solidFill>
                <a:uFillTx/>
                <a:latin typeface="Constantia"/>
              </a:rPr>
              <a:t>Polym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bohydra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p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te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cleic ac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95280" y="2359080"/>
            <a:ext cx="482436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0000"/>
                </a:solidFill>
                <a:uFillTx/>
                <a:latin typeface="Constantia"/>
              </a:rPr>
              <a:t>Monom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nosaccharides (single suga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atty acid and glycero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mino ac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cleotid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133280"/>
            <a:ext cx="4691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Carbohydrat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3409560"/>
            <a:ext cx="8712000" cy="27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Made of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bon, hydrogen, and oxygen ato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Job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vide for living organisms an energ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Examples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gars and starches (corn, rice, potato, bread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5" descr=""/>
          <p:cNvPicPr/>
          <p:nvPr/>
        </p:nvPicPr>
        <p:blipFill>
          <a:blip r:embed="rId1"/>
          <a:srcRect l="9811" t="18704" r="9811" b="7014"/>
          <a:stretch/>
        </p:blipFill>
        <p:spPr>
          <a:xfrm>
            <a:off x="5651640" y="776160"/>
            <a:ext cx="2955960" cy="2292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8:13:50Z</dcterms:created>
  <dc:creator>Dr. A A</dc:creator>
  <dc:description/>
  <dc:language>en-US</dc:language>
  <cp:lastModifiedBy>User</cp:lastModifiedBy>
  <dcterms:modified xsi:type="dcterms:W3CDTF">2015-09-07T10:40:09Z</dcterms:modified>
  <cp:revision>146</cp:revision>
  <dc:subject/>
  <dc:title>Principals of General Zoology (Zoo-103)</dc:title>
</cp:coreProperties>
</file>