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B07-DD96-453E-9677-FD8D0CF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746-11DA-47CC-B048-95B25A77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5FC-251A-4280-905B-A7BB13F7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CF2-9349-4612-B08B-21BA525A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84C6-AAC1-4592-87A6-90143AFC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2989-C7AC-49C2-A323-8E56B77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B1B-7445-4971-AFA7-C6A1D40E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204-B6FF-49EC-ACB9-CFEC5F5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7FA-B7B7-423C-8B36-AA07E399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8979-6E06-4AEB-B8D2-88D7A7E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44C3-BAAF-41C9-A635-AEF35F0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A1B-DF7D-47B6-BDE6-15CB9D7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7B1-D61B-48FB-9B66-7B615F4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E373-95A6-4349-800E-2222C78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E019-AD52-4130-9A47-482C885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D235-FF3D-43F0-8CBD-B85A2C64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916-97C9-4094-9138-6C07D964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92BE-F591-4245-830F-EFB6043E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2EAB-AD12-4683-BC19-1F290FA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252A-06C5-4B1F-A802-AA28D8B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428C-581F-494C-87E1-3CA64125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3AD0-27A4-494D-817A-B7FDE91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1DA-B024-46FD-B928-F285B6D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AD6F-E565-487D-B4C1-BEB51BD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094C-A014-4254-9982-A3EC6EB3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3337-179A-443B-80C1-5035028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4A67-134B-491A-AB30-80E0859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684D-2CA8-4493-81AB-9A2E6ADA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5300-9B3B-4716-9A3A-8BAFC1F3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4245-009F-46A5-A72C-C1A39ED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3138-44EE-4732-81B7-65C832CE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D6C8-D85B-4525-A18F-E266848F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6E51-F4E2-4E3B-BD1C-2C454BCD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618-A47E-466C-945F-3A05A69E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8960-7E34-45FD-AE3E-938FD27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828D-6E7B-4700-8C85-AB00B2DB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7C63-3708-4671-B64D-DB75A9C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B7EE-70B4-45F6-AD55-F9F7E50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7625-C658-4E52-BC1F-0F2A41D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4111-F3B4-4CF2-B756-1B030E2A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0A36-A5A1-4487-84A8-BA92A31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076D-7434-4E26-A629-B647922A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4543-6270-444A-8190-56C85C3A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113-FF32-4C17-9731-222C37E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679-DA43-4C24-BA48-FB6BA02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B91-E641-47A0-8523-3404E30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F2C-A3F5-4858-BF7E-D257A90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351-7A45-4E16-BCBF-772D2674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C778-D023-43D5-B34E-A3FE218F2D0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91E-7383-4AB3-92C4-06B501D9384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0B5A-73C6-43AB-AA71-C84822C3C23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77C-E2A7-490F-BB17-258E5A5E9A5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at is Life Made of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528720"/>
            <a:ext cx="822960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organism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97956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324000" y="1989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nsisted of few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hundre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to few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thousan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of monosacchar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2565360"/>
            <a:ext cx="848052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: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20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Starch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Glycogen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ليك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: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-397800" y="907920"/>
            <a:ext cx="710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1560" y="990360"/>
            <a:ext cx="209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3316320"/>
            <a:ext cx="8007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ore ener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fats and oils (butter, olive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3419640" y="1066680"/>
            <a:ext cx="5067000" cy="18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42880" y="781200"/>
            <a:ext cx="5175360" cy="792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803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re is no double bonds between the carbons. All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C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linked with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us, it is saturated with 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ost animal fats are 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sol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Saturated fats-rich diet results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Atherosclerosi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تصلب الش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ين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82501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double bonds are formed by the removal of H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ost vegetable fats (oils)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ish fat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re un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liqu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can be synthetically converted to saturated (solid) by adding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H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  (</a:t>
            </a:r>
            <a:r>
              <a:rPr b="0" lang="en-GB" sz="1800" spc="-1" strike="noStrike">
                <a:solidFill>
                  <a:srgbClr val="0000cc"/>
                </a:solidFill>
                <a:latin typeface="Constantia"/>
              </a:rPr>
              <a:t>Hydrogenation</a:t>
            </a:r>
            <a:r>
              <a:rPr b="1" lang="en-GB" sz="1800" spc="-1" strike="noStrike">
                <a:solidFill>
                  <a:srgbClr val="0000cc"/>
                </a:solidFill>
                <a:latin typeface="Constantia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الهَدْرَﭽـَ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(</a:t>
            </a: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dehydrogenation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نزع الهيدروجين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B) Unsaturated Fats</a:t>
            </a:r>
            <a:r>
              <a:rPr b="0" lang="en-GB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دهون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User\Downloads\fattyacid.png"/>
          <p:cNvPicPr/>
          <p:nvPr/>
        </p:nvPicPr>
        <p:blipFill>
          <a:blip r:embed="rId1"/>
          <a:stretch/>
        </p:blipFill>
        <p:spPr>
          <a:xfrm>
            <a:off x="1332000" y="1305000"/>
            <a:ext cx="6419880" cy="45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8C9-886E-4BF1-9AB2-4CCDAAED26A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51920" y="1730520"/>
            <a:ext cx="888372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0720" y="586800"/>
            <a:ext cx="2826000" cy="82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hospholipi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52280" y="1557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79280" y="3768840"/>
            <a:ext cx="3961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atty aci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a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but the phosphate group and its attachments form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us, it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mphipat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4457880" y="2822400"/>
            <a:ext cx="4435200" cy="3846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Protein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400" y="2133360"/>
            <a:ext cx="8319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different jobs in our bodies include structural support, storage, transport of other substances, intercellular signal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شارات بين الخلو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zymes, mus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5" descr="C:\Users\User\Downloads\download.png"/>
          <p:cNvPicPr/>
          <p:nvPr/>
        </p:nvPicPr>
        <p:blipFill>
          <a:blip r:embed="rId1"/>
          <a:stretch/>
        </p:blipFill>
        <p:spPr>
          <a:xfrm>
            <a:off x="5364000" y="4376880"/>
            <a:ext cx="2232360" cy="221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Nucleic Ac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4920" y="2490480"/>
            <a:ext cx="820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osphorous, Carbon, Nitrogen, Oxygen, and Hydrogen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Job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ore genetic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NA, R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5388120" y="3213000"/>
            <a:ext cx="298440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- Structure of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- Organic molecul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a- Carbohydrates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b- Lipid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c- Protein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en-GB" sz="17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d- Nucleic acid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3832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that have materials dissolved in water.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22764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957240" y="12142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- Water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ypes of solu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240" y="1115640"/>
            <a:ext cx="6072120" cy="58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836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814400" y="2852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8053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56360" y="1197000"/>
            <a:ext cx="2955960" cy="5286240"/>
            <a:chOff x="6156360" y="11970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156360" y="11970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258400" y="24523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2. Bio-molecul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971800"/>
            <a:ext cx="6858000" cy="1100520"/>
            <a:chOff x="1219320" y="2971800"/>
            <a:chExt cx="6858000" cy="1100520"/>
          </a:xfrm>
        </p:grpSpPr>
        <p:sp>
          <p:nvSpPr>
            <p:cNvPr id="231" name="Text Box 18"/>
            <p:cNvSpPr/>
            <p:nvPr/>
          </p:nvSpPr>
          <p:spPr>
            <a:xfrm>
              <a:off x="1219320" y="3003480"/>
              <a:ext cx="1218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30034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Calibri"/>
              </a:rPr>
              <a:t>Monomers</a:t>
            </a:r>
            <a:r>
              <a:rPr b="1" lang="en-US" sz="50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Poly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95280" y="2359080"/>
            <a:ext cx="48243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s (single 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tty acid and glyce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13328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arbohydrat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3409560"/>
            <a:ext cx="8712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for living organisms an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5651640" y="77616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7T10:40:09Z</dcterms:modified>
  <cp:revision>146</cp:revision>
  <dc:subject/>
  <dc:title>Principals of General Zoology (Zoo-103)</dc:title>
</cp:coreProperties>
</file>