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038-C844-49F0-942B-B5F368FA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851-B8C1-44E3-8E6A-4F4D0309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82A-AD31-4284-8FF9-6D6202F1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2CA-409F-44DB-930A-05E8EAB4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43F0-E547-4BE8-8C7E-78735EC4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9B94-597A-463D-AB16-C263B748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CA31-69CC-4766-AF22-70245705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B9D7-C61E-4977-A4CC-22C722FE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DB84-36D6-4789-87C6-170EF8E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16D3-8738-4C7B-8C01-24ABE75B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91E-DE63-420F-83E6-7873048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B76-4BAD-4459-9745-05F6DC4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A886-541E-476D-88DA-4CAD221F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9F09-D8AF-4A6D-B93D-3FD2863A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9B13-5629-4245-9D40-4AF7732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02F0-4493-4F5B-894F-4A5EF00E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2A2-2E17-44F6-B148-17526789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A1DB-6E42-48DE-B499-E682BAAB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6205-6A20-4F2F-8E11-96A8C595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4488-A436-4DE4-B44F-4F24A7E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A741-BA57-4442-ADAC-E08DB5F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3929-24B1-41D6-B811-7EE11D9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2A9-FF1E-488D-92BC-5E516BF5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CA70-A5E3-4160-AFE7-56DA0D80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CEC9-265A-4FB1-8CDD-9A5C6B4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E842-ABE1-4C3F-A758-43FDA3B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768A-5834-4D24-B56B-000B684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F01F-CBE5-41AA-A1AC-DDC05C1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399F-18FC-41E2-9E1D-4486556D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F193-A96B-45BA-BB7B-77B96FD4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4DB2-42D8-403B-BB99-D3206DC6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49A2-BA99-4C0F-AEB1-999EB74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AFE6-4479-4970-9597-BFA9169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0A-E22E-485A-A165-7CDB90B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8AD7-8A11-4F36-B85F-9A517DC4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1448-567E-4A5F-9515-D390A00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9D99-05A5-42A3-950D-577249B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1DB3-268C-4973-B640-12B81030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7B25-5B2A-4344-ADDA-670D536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FE62-682C-41EE-B9BB-0103681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5A8A-CB1D-4F5E-852B-4BD7BF3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1E3C-DEC7-48CF-93D0-AEC9CCDF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F90A-5BA3-49C2-8EDD-9F3306CE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0E0-D9FA-4206-95AD-F6025069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48F-2182-40E6-BB72-2787ED74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C6F-1B61-4FEA-A9A5-4C5CBC9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BB3-A3D4-4A22-85B5-48F4F88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F16-276D-4464-879D-B2ADC0A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20E3-1F57-423B-92A7-46C52541CEB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4F25-14D0-4F2B-AF07-1802DE446A6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EB2C-8B74-49CB-BDEA-C1621AE23FB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454B-09D3-483A-8280-DD21FEAC941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603360" y="858960"/>
            <a:ext cx="5114880" cy="645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7C2-D0FF-4E8A-B61C-E75A9F96172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4-02-12T11:52:28Z</dcterms:modified>
  <cp:revision>95</cp:revision>
  <dc:subject/>
  <dc:title>Principals of General Zoology (Zoo-103)</dc:title>
</cp:coreProperties>
</file>