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7BF-4F35-406E-A673-DCA78648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50A-EDD7-4329-8C26-8A2CD5C9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E89-0256-47CE-9CB0-D4953BEF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1C0-77F3-47E6-AD38-C3EFE32E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CC81-8DDF-4924-B4DD-68F72E76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CF23-F458-46E4-BD7D-09087DD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6077-DB30-493F-92C6-EB9BC7ED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2E09-F11E-49F1-8097-5F3E8430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AB49-9D88-44CB-B6B5-D96414DB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1DB4-BC79-4093-A048-5D50C19C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F9C3-C63B-411B-9568-E2511589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AE9-9C0D-4DF0-9D43-3E3D69CB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0E84-95A4-4437-BB83-2A2A311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ADC6-0C72-4421-A941-B2799A00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47BC-E550-4A9B-BE25-E3F6B341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60D4-AB03-4A31-96EA-BC86F2FA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42DC-D033-4CF3-AD1B-8EF9E1F9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830E-A3B2-49E9-AD12-BBF33301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4B07-7C0E-4D70-AFF8-4AFCB72A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F60F-E3C2-4CB7-8036-BFAB70E4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FC9A-8B86-4008-BD7D-8EAD9B04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128D-4226-4003-B0FE-38A019E6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48F-7B1C-4561-85A3-EBA6ED5B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0DF4-1714-466E-B2A5-B94B54F0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82A6-900F-475F-B959-CF825BDE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19FF-78D8-42E3-8709-7A6E82F9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AA7B-04F1-4A64-9575-F7E301E7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10E8-15A6-4811-89DB-A48EEF8D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9FE1-58B2-40CC-A863-71CC59B0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50E7-0459-4210-B1FD-532100A0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EC33C-6026-47AD-882C-2DFE2AAB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392DD-4CF3-4B14-A68E-1EC5286E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BDD9-031F-475F-9552-DD29FD22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A34-763A-416B-86EC-2D4345F4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279A-3E8E-4AF9-B12B-9B39131F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F7A2-9607-4538-AEE4-8FDCA0B1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69C4-CCF2-4146-B126-F55C7DB6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B1F8B-7951-4F9D-AD5C-AB1EE225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591C-06EB-4081-80C1-C2516EC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5254-2217-496E-AEB4-72C02F4C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F064-48C6-4F70-8CE4-168B8ACE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EAA8-6576-4C91-8919-41DF636B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7E78-9E5F-48DB-9E49-1CDFFD7D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9C9-81A6-47F9-84D9-8B661EF0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51E-DC5C-4D4F-BD75-3BDCC5A0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F57-3B6E-4A02-A4B3-FF30F939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725-B8C0-468F-B897-989CBDF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C4B-E82A-4EA8-B805-C59D1D85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7695-B4E7-4C10-A194-A51F37A287B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A6B-7DFB-4307-BCEB-2994B1D7F26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041F-C796-499C-87DC-9D25DC1AF50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9632-61F2-495E-B426-74D61178BAE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96880" y="853920"/>
            <a:ext cx="5127480" cy="524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F2A5-88B1-44DD-A39E-130B6ADBB7B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المستخدم</cp:lastModifiedBy>
  <dcterms:modified xsi:type="dcterms:W3CDTF">2013-09-04T14:12:26Z</dcterms:modified>
  <cp:revision>95</cp:revision>
  <dc:subject/>
  <dc:title>Principals of General Zoology (Zoo-103)</dc:title>
</cp:coreProperties>
</file>