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B94-D37B-410D-ABCF-4A937143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362-A23A-4DCC-BE96-8680E446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F500-BFBE-45DF-BB49-9223FA7F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51D-3A3E-4E8F-8BCA-876B18EC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2ED7-6539-4FE1-84F7-66371CD3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75BD-43F3-475C-97A6-A72A6266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CA5A-4C8B-4665-B4D0-460EE589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9E14-B165-43E9-BCD3-DCF5B2CB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E3B9-25A1-4393-BF21-48D2B65C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953D-AB6E-4366-8E7B-FF86BB9B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0DFB-35ED-4469-BF48-F9BE4220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0332-1997-458D-B9A7-CBF40A1D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659D-D2A4-4553-B091-00B317F2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7AE5-453F-4C3E-BD24-272F8320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3C9D-DE42-44C0-8FAD-BE97910E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97B4-5311-4EBB-8030-DB60F843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DD33-63BC-4D0E-9ED9-0F72D00A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D6DB0-2633-415F-B246-2A2DCB15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96D50-E3AB-4B56-AC84-CABFE4AC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7F0F3-6CFC-4864-B8E7-C94E2FB9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29CEB-C596-452A-9383-CE1F6D3B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36DA9-C4BC-4292-94CB-8E8EACC4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E209-7421-4FDC-ADCE-F60930E5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5916B-D73D-401B-95D7-25DA370E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4FEC2-4C0D-4662-B13F-784FF1E3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2FD12-8237-465A-B55F-C0BAE170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EDC2F-C95C-4D6F-B434-EBF4CACC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7EAE1-F46E-4151-AF0B-A8476BAE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1735A-8166-4623-8F39-CC220BED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26C5F-314B-4D87-B034-4B83C109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23636-3686-47DD-B6FD-BBD73647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14128-1AC1-4B0D-9398-64AAD6FB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37218-8E87-4CE8-8165-688085CB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D6A5-AACC-429F-A2E9-2E28E5BF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6817A-CFB1-44C0-95DF-F63445DF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582AA-E5AB-4EAE-965E-D4360842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DA478-2472-477B-ADA0-0F76A466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30088-1981-4C82-8E37-827C7352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3C314-E76A-405E-872A-3AF3EE4D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A1724-B059-4858-A54C-5BCF274C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EF456-B4FD-49A5-A5B2-457497FC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B9056-8592-415B-9694-9F1A1688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9E8FE-56C0-41D6-944F-CADCEF78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B06E-AC39-4CDF-A0E0-F321AD73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20CB-C5EF-47CB-B533-479322F1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9D3-82E6-401F-8AC9-5AD3B7DB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6E3-3A65-4534-88A7-799FB09E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C87-96B0-4E9A-9015-9BB7D0A5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6CCD-7199-4EB4-8C69-084C8440F8F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9704-B389-4846-8313-6A7685874DE4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050A-4F75-4C51-A3E5-29499025C33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018B-48D8-47BA-9E7A-953E2CE946D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Life Made of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3078000"/>
            <a:ext cx="822960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verything is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ving things are made up of cel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ells are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714240" y="565200"/>
            <a:ext cx="7715520" cy="720720"/>
          </a:xfrm>
          <a:prstGeom prst="rect">
            <a:avLst/>
          </a:prstGeom>
          <a:solidFill>
            <a:srgbClr val="21b2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Lecture 2: Bio-molecules</a:t>
            </a: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714240" y="171468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Consisted of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hundre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to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thousan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of monosacchar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555480" y="3071880"/>
            <a:ext cx="815976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y are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Starch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plant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نش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Glycogen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as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ellulose in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plants (cell wall) and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hitin 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 th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of 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62400" y="1000080"/>
            <a:ext cx="403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Polysaccharides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السكر العدي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p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7720" y="25239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long chains of carbon and hydrogen atoms (with some oxygen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energy, repel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fats and oils (butter, cheese, oi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5" descr="http://www.sc2000.net/~czaremba/images/triglycerides1.jpg"/>
          <p:cNvPicPr/>
          <p:nvPr/>
        </p:nvPicPr>
        <p:blipFill>
          <a:blip r:embed="rId1"/>
          <a:stretch/>
        </p:blipFill>
        <p:spPr>
          <a:xfrm>
            <a:off x="4076640" y="0"/>
            <a:ext cx="5067360" cy="1857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596880" y="853920"/>
            <a:ext cx="5127480" cy="5241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642960" y="1357200"/>
            <a:ext cx="77724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(there is no double bonds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us, it is saturat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cc"/>
                </a:solidFill>
                <a:latin typeface="Impact"/>
              </a:rPr>
              <a:t>Most animal fats are saturat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are sol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Saturated fats-rich diet results in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therosclerosi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صلب الشريانى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42960" y="4379760"/>
            <a:ext cx="70866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Most vegetable fats (oils)</a:t>
            </a:r>
            <a:r>
              <a:rPr b="1" lang="ar-EG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fish fats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 are unsaturated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They are liqu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714240" y="387504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B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مشبعة</a:t>
            </a:r>
            <a:r>
              <a:rPr b="0" lang="en-US" sz="2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8ACD-6D4A-4A88-94AF-40A4554C32E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52280" y="1177560"/>
            <a:ext cx="8305920" cy="103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olipi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two fatty acids attached to glycerol and a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ate group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t the third posi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phosphate group carries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gativ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harg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235080" y="201600"/>
            <a:ext cx="875016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Phospholipids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 major components of cell membran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6320" y="2819520"/>
            <a:ext cx="342900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3809880" y="2286000"/>
            <a:ext cx="5181840" cy="4495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i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8400" y="26334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de of: Nitrogen, Carbon, Hydrogen, and other ato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b: Many different jobs in our bodies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include structural support, storage, transport of other substances, intercellular signaling </a:t>
            </a:r>
            <a:r>
              <a:rPr b="1" lang="ar-EG" sz="1800" spc="-1" strike="noStrike">
                <a:solidFill>
                  <a:srgbClr val="04617b"/>
                </a:solidFill>
                <a:latin typeface="Constantia"/>
                <a:cs typeface="Majalla UI"/>
              </a:rPr>
              <a:t>الإشارات بين الخلوية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, movement, and defense against microb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ples: enzymes, muscles,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6788160" y="-4680"/>
            <a:ext cx="2355840" cy="2361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ucleic Ac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8080" y="24904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Phosphorous, Carbon, Nitrogen, Oxygen, and Hydro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genetic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DNA, RN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6999120" y="-4680"/>
            <a:ext cx="2144880" cy="186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5600" y="1279440"/>
            <a:ext cx="4429080" cy="720720"/>
          </a:xfrm>
          <a:prstGeom prst="rect">
            <a:avLst/>
          </a:prstGeom>
          <a:solidFill>
            <a:srgbClr val="089ca3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Bio-molecules</a:t>
            </a:r>
            <a:r>
              <a:rPr b="0" lang="en-GB" sz="45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98200" y="2708280"/>
            <a:ext cx="6769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ructure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rganic molecul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زيئات العضو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ربوهيدر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و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روتين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ucleic acids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حماض النووي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28400" y="2088720"/>
            <a:ext cx="7057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Life exists on Earth because of the abundant liquid water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Water has been referred to as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universal solve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Aqueous solutions: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re soluti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at have materials dissolved in water)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So, it has slightl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osi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nd a slightl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ga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sides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6049800" y="3857760"/>
            <a:ext cx="2737080" cy="24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Rectangle 4"/>
          <p:cNvSpPr/>
          <p:nvPr/>
        </p:nvSpPr>
        <p:spPr>
          <a:xfrm>
            <a:off x="1073880" y="1214280"/>
            <a:ext cx="19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 Water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00040" y="2214720"/>
            <a:ext cx="81010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ilic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محب للماء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Glucose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any substance that has an affinity for water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حب الماء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obic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للماء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Lipid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the substances that have no affinity for water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لا تحب الماء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Because they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hav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non-ionic and non-polar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covalent bo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Constanti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Arial"/>
              </a:rPr>
              <a:t>Thus, water molecules cannot form hydrogen bonds with these molec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Amphipathic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ومحب للماء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Phospholipid)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Has end with affinity for water and the other end with no affinity for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Hydrophobic molecules are the major ingredients of cell membr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884160" y="1071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rganisms are sensitive to changes in p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761760"/>
            <a:ext cx="555768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aci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increas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onstantia"/>
              </a:rPr>
              <a:t>hydrogen ion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14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4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)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4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hen hydrochloric acid is added to water, hydrogen ions dissociate 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نفصل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rom chloride ions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300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HCl          H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 + Cl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Constantia"/>
              </a:rPr>
              <a:t>Addition of an acid makes a solution more acidic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bas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ny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reduc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hydrogen ion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me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directly by accepting hydrogen io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ther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indirectly by releasing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hat combines with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o form wat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NaOH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Na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olutions with mor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tha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re basic solu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1690560" y="24289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643120" y="5429160"/>
            <a:ext cx="138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7"/>
          <p:cNvGrpSpPr/>
          <p:nvPr/>
        </p:nvGrpSpPr>
        <p:grpSpPr>
          <a:xfrm>
            <a:off x="6072120" y="928800"/>
            <a:ext cx="2955960" cy="5286240"/>
            <a:chOff x="6072120" y="928800"/>
            <a:chExt cx="2955960" cy="5286240"/>
          </a:xfrm>
        </p:grpSpPr>
        <p:pic>
          <p:nvPicPr>
            <p:cNvPr id="211" name="Picture 5" descr=""/>
            <p:cNvPicPr/>
            <p:nvPr/>
          </p:nvPicPr>
          <p:blipFill>
            <a:blip r:embed="rId1"/>
            <a:stretch/>
          </p:blipFill>
          <p:spPr>
            <a:xfrm>
              <a:off x="6072120" y="928800"/>
              <a:ext cx="2955960" cy="52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6"/>
            <p:cNvSpPr/>
            <p:nvPr/>
          </p:nvSpPr>
          <p:spPr>
            <a:xfrm>
              <a:off x="8174160" y="2184120"/>
              <a:ext cx="572760" cy="16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. Biomolecu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35744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14400" y="277956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 main molecules involved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28560" y="900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905120" y="1362240"/>
            <a:ext cx="5562360" cy="1066320"/>
            <a:chOff x="1905120" y="1362240"/>
            <a:chExt cx="5562360" cy="1066320"/>
          </a:xfrm>
        </p:grpSpPr>
        <p:sp>
          <p:nvSpPr>
            <p:cNvPr id="218" name="Line 4"/>
            <p:cNvSpPr/>
            <p:nvPr/>
          </p:nvSpPr>
          <p:spPr>
            <a:xfrm>
              <a:off x="3581280" y="136224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4800600" y="136224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1905120" y="19717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7"/>
            <p:cNvSpPr/>
            <p:nvPr/>
          </p:nvSpPr>
          <p:spPr>
            <a:xfrm>
              <a:off x="190512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>
              <a:off x="480060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>
              <a:off x="746748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0"/>
          <p:cNvSpPr/>
          <p:nvPr/>
        </p:nvSpPr>
        <p:spPr>
          <a:xfrm>
            <a:off x="8380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38098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3244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885960" y="3586320"/>
            <a:ext cx="79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u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833400" y="5813280"/>
            <a:ext cx="8024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can be broken down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كَســًر إل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o its monomers by hydrolysis (add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871560" y="4884840"/>
            <a:ext cx="7843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can b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built up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بـْنَ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by linking its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by dehydration (remov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7"/>
          <p:cNvGrpSpPr/>
          <p:nvPr/>
        </p:nvGrpSpPr>
        <p:grpSpPr>
          <a:xfrm>
            <a:off x="1219320" y="2895480"/>
            <a:ext cx="6858000" cy="1267560"/>
            <a:chOff x="1219320" y="2895480"/>
            <a:chExt cx="6858000" cy="1267560"/>
          </a:xfrm>
        </p:grpSpPr>
        <p:sp>
          <p:nvSpPr>
            <p:cNvPr id="231" name="Text Box 18"/>
            <p:cNvSpPr/>
            <p:nvPr/>
          </p:nvSpPr>
          <p:spPr>
            <a:xfrm>
              <a:off x="1219320" y="289548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4343400" y="297180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0"/>
            <p:cNvSpPr/>
            <p:nvPr/>
          </p:nvSpPr>
          <p:spPr>
            <a:xfrm>
              <a:off x="6858000" y="28954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Monom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37720" y="2362320"/>
            <a:ext cx="37702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acromolecu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5800" y="2405160"/>
            <a:ext cx="42260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onom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osaccharide (suga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ydrocarbon ch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ino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ot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bohyd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37720" y="2666520"/>
            <a:ext cx="800748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carbon, hydrogen, and oxy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provide living things with ener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sugars and starches (corn, rice, potato, brea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rcRect l="9811" t="18704" r="9811" b="7014"/>
          <a:stretch/>
        </p:blipFill>
        <p:spPr>
          <a:xfrm>
            <a:off x="6188040" y="0"/>
            <a:ext cx="2955960" cy="2292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المستخدم</cp:lastModifiedBy>
  <dcterms:modified xsi:type="dcterms:W3CDTF">2013-09-04T14:12:26Z</dcterms:modified>
  <cp:revision>95</cp:revision>
  <dc:subject/>
  <dc:title>Principals of General Zoology (Zoo-103)</dc:title>
</cp:coreProperties>
</file>