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204-779D-45F8-A728-6549CDAC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1DF-9136-4B40-BD69-1663DCE8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BA8-E569-468F-A486-07F78D02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8B6-2D6E-4AED-9C5F-360D38B2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BC5E-773B-490B-A2EB-56458208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1044-BFC9-4C62-9773-2FF5B7C3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DA68-F1D2-410F-BD35-F45B7B0D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9378-82DE-4DF3-B115-04746E8A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FCE3-1195-4744-85A8-4F4390E9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11EA-2217-40DF-8793-E3DDD6A9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61CB-8E4E-4A47-BA25-C59B74EC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3F6-A372-455A-A05C-BB779D12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824B-D685-4C73-B9BF-F4B49BA6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EC35-2933-44E7-B16D-1EF510CC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57BC-2958-4125-8C04-9430BF58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44F9-4AA0-40D6-BB89-64B3A454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D8CD-01B2-4019-9F06-10DCF778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1EB1-ADB6-491B-B3AD-B32D9643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10C7-C2AA-4196-80C7-F0BA1EA5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06E6A-FB49-4637-B07C-F0F18E78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927C-F796-437F-8B1D-FFCF332D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31B5-8366-417C-819B-CEFC9E8C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30E-6156-4E7B-845D-F6B1826F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F51B-27F0-4EF1-95B5-715171FB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FEDA-85A2-4282-B752-5390E10E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8004-2D08-4937-8115-2855E108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9AA8-CE87-42EC-AFFA-D59F3D82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17CD1-0A67-4AD9-BD6F-B97822D1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1537-538A-46BC-B92B-E113C70B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22F3-1450-47D1-9CA4-C36E18F4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FF702-54F2-4A8F-9F69-1E92EF2A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0CFE8-6D25-4C55-B96E-B0804023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8C25C-18F8-46BF-97CA-964D1F2F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DF0-3429-408D-9B00-3BCA9932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DD0E8-8D24-40A0-A4F0-25B5FA80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40D9F-C14A-4610-B31B-27FA1C86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4619-20BD-4ABB-95F9-7372F548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B98F6-714F-4992-BF7E-06745D1D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DD292-7CA3-46EE-B12C-21097FD0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5D0B6-DA84-40AE-A622-CFEAED9B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FDED9-EF94-4B93-934F-255AAF95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75DD-1845-4CA9-B7CE-A6B04673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D81AF-0A77-4379-ADD7-B8F8166A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E59-CBF7-4052-B869-CD2C7732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4FD-01F5-495D-9612-7ED9C3AE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6EA-90BD-427A-9581-53544FDA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8D6-5A66-4090-8581-4C3FC414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178-80D5-46B6-985A-47BA02F1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95B9-8DE6-4090-8D51-2ADCCC58A74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352B-034F-4CBB-BF8A-E77114C625E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A068-FA70-4C1A-8EF0-6667EBB73D7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46C8-5926-4989-9653-FA4BDBBFDB6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96880" y="853920"/>
            <a:ext cx="5127480" cy="524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8476-15D9-442C-BF65-BBDC331D29C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المستخدم</cp:lastModifiedBy>
  <dcterms:modified xsi:type="dcterms:W3CDTF">2013-09-04T14:12:26Z</dcterms:modified>
  <cp:revision>95</cp:revision>
  <dc:subject/>
  <dc:title>Principals of General Zoology (Zoo-103)</dc:title>
</cp:coreProperties>
</file>