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CD8-8D8E-4080-9E9A-A85A3844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A09-3808-46D4-920E-659F587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CF4-0171-4965-B2F6-928A3CE2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06D-E8D6-4E39-B149-50436CFC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5B2B-085A-4D10-895B-1D506E62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4868-245A-47A3-96B8-CB41A6EC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6406-F39B-4089-914D-FEE97279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FE91-2C34-4754-99CE-EC774C94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1D9-0243-495B-8743-C293C75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04B-CADB-441F-A5D0-0BC32B3E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2A13-51E9-4613-8B31-EA9FBDC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0C7-EA8A-4D3D-AC35-B6871656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BE3-39A6-4D55-8CA6-712E36E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2701-DC4B-463D-8600-9E663F7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B7DC-BEF3-48F8-809B-B54E6BBB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D4A-DB99-4D37-AFA1-A77C42B7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0470-F57F-450E-94D5-4F1B721B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02A2-D3A3-40B1-83DC-1859B384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8A08-04AF-4ABF-AA01-6AB3910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D851-BAD0-4650-BE1B-73C767CB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9ACB-A723-4D3A-8A77-A60F68EE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7F95-0058-448D-A9B7-1C7964E6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D0C-189A-46A7-A13A-A66068D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C584-6121-4F45-934F-37B6972B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0A14-F681-4C1A-9593-D11D7E7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EA8A-5245-4C7E-80E4-EDD0EEE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47BA-F658-46C5-91C3-36E8B6D2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3883-E3D4-4C1F-9589-49A926E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B360-61A7-4BB4-A16E-FCCD0E34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49C8-33E3-48D8-BE33-00E25EA9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1A44-BBC4-4788-9465-21C91CCD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08BE-3F6A-4B14-873D-7177FC9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0BE8-C49A-44E2-86D5-FB94A5F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47A-6F2D-4AF5-A799-E95B1C84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BCCAA-DED6-404E-8D00-EDA1BEA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A1C8-526A-4C8C-B1EB-69532C4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E606-31E5-439E-BCA2-D6BC7E7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9850E-2B1E-44A7-AA3E-37716ED4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BF8D-8146-43AD-81EF-5D72A9F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4824-D1B6-48C3-A690-48422CCA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FE10-FBB7-4EC2-B55C-9E45E300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1758-FEBE-4AC9-B995-1A3C3F2C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60E8-94A7-4879-8538-955F14DA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55-7C3C-4E52-9F13-588E4556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9BE-44F0-44A7-95F3-EABC516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88E-BE1D-4352-A471-E2A82190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465-C867-44AF-ADBE-1F55C26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48B-C409-4327-951C-9F921D8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86D-D80B-4B30-B2DD-4105C7522C4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DA2-8CFC-41BD-8EE2-D34B40FE253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F206-C390-44C0-B85F-5020B4BC0F7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9BB-AC4B-466C-A513-81AD0327A59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A12-7190-4B9B-90D6-6E18EA823A1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4-08-27T10:08:53Z</dcterms:modified>
  <cp:revision>95</cp:revision>
  <dc:subject/>
  <dc:title>Principals of General Zoology (Zoo-103)</dc:title>
</cp:coreProperties>
</file>