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F9-3CA5-45D5-B6B2-5497AAC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F21-B8FE-4D05-8A23-6BAF1CC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776-BF6C-4AB7-BA17-A9A6D704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DDD-1186-4A7F-B1F6-9F76BC19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83B-46AA-4327-ACC9-BC52A9EA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413B-79A1-4BB7-8E74-D65919E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647F-9D81-4653-B7DD-D8877AA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7FE0-0916-43ED-9593-3E0D063A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7B0C-E1DE-45CC-8A76-B82ED466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9345-4B27-4813-A991-887A872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6268-241C-4D6B-B170-0DAD4DB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5FF-E856-40C3-B7E2-3110E707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88CF-9959-4AC6-B2CB-BA537DC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3CF-4C64-4CF7-A925-1B67E41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4EA-0BC2-4E73-9137-9754B3CF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A6B3-57FE-43D6-9266-6BC8B0F3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CA2C-D1AF-4BE5-B913-9F372D64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A409-4F46-4B1D-BD95-A28DD9A8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E037-9FB1-4073-A261-413C87B2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1235-B0A0-4BEE-B6F8-29ACDB2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BEC8-593B-4679-90CA-5898FA3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1E5F-D865-4FF4-945F-0783184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70B-33AC-4329-B290-7F70B379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C7D4-CBFB-48B8-8F58-F08F722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3BD4-08EA-4A23-9915-EBDBDF1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C8BC-B03D-4583-8572-B448251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13DF-7BCA-432D-9FA8-CAF5EEC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060F-DDA4-42E5-AA95-6C2893E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A547-7C3E-43EA-AF3B-4DDEB99A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1387-A46D-4DB3-A7EE-DE4BCD66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15DB-5373-4A83-A1BC-B520B1E0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FD6C-69E7-4FC7-9DD4-72A1BA8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E195-278A-4741-BFB9-5F3C5A14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CCD-C951-4091-8CCB-E0CDE43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FF4B-AD47-4E86-98A0-B789B57C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46F62-84FC-48F9-B35B-8772F84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CE49-D215-496D-9E67-4DBAC386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E26E-F26D-4383-BCDB-392337A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3845-2165-4E6E-A0CF-2D51FA8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0EC7-CA5F-455B-B54A-29B5E8D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DA7A-294D-4CC2-A0AF-AEF5B10C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F766-FFC2-44FD-9E6D-61823CB5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2D31-B4F9-42DA-B902-F38D6DE3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A92-0CC5-423F-9DBF-D509E09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614-FD38-4B9B-A173-2E5C2107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6DA-0E72-4582-8175-432C6E6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7B2-F67F-40A6-ADBB-BDEC2B5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CFC-102E-49C5-B4D3-972E4413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CBCC-679E-463C-ABD7-EFB9E7471FB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57BE-EEB1-4F49-9FF7-214C5C5FFB3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CF2-9FE5-49FD-8578-816CE17EC2A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4510-4005-4D7D-9E69-FEAA21C5D20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095-B5FB-448D-9DF3-6EFC95EB940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4-08-27T10:08:53Z</dcterms:modified>
  <cp:revision>95</cp:revision>
  <dc:subject/>
  <dc:title>Principals of General Zoology (Zoo-103)</dc:title>
</cp:coreProperties>
</file>