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E3D-7533-4E96-83D2-38725899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5E8-6062-4031-9C75-9E304564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1B2-C6A1-41B4-AA38-A1B9D858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47F-7ED4-4632-9FE9-A7F7531E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F0F3-35B3-4380-A303-D2F67B97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7ADF-933C-41AB-9288-ADF0909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CB33-9CB3-4FCE-9D48-9BB5A181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E27F-75FE-4684-9E8D-EBF63EF9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C470-19D7-4A27-9257-2F5917FD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6157-D002-4933-ACE7-39FDD7F3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784B-67C4-4F96-9A96-C88B2126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68F-2066-4CDB-B76B-725A7D5A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AC9F-4542-4D3B-87F6-98D6BCF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627D-A85D-409B-96F2-720ABB3C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2A51-941B-4AC2-AC8F-DBF65290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460-DE1C-4F87-81D4-E8EAF730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B15C-81FF-452B-B87D-9F09EFE2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97743-B015-4E20-8E1D-035044BD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72F2-A773-451B-88A0-8050FE1A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C55F-4B09-4A87-9220-3E776366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1967-3698-4EDB-81C6-147DDED2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D76A-FA52-4E0D-A2D7-8DE047CB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8A2-2469-4688-9E15-B763F4DA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21AD-2005-45E2-BCE6-6169AA6E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3CB2-B7D8-4F21-BCB6-C3F12FE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36C5C-4464-43CF-AD69-CF70B7C7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A21A7-C65F-4F12-A437-9F685EEE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56D9-DDCD-4D05-86D9-8CA40C85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8696-D9D3-4D12-A0AF-A9156594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CCE4-C2B4-4B9F-9A99-12E773C1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935A6-3AD7-424D-A503-F4EF566E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AB30-8F88-4C9D-8B3C-4B3BDDD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0E52-D7A8-40E7-9226-6435D140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199-DA7B-4681-846D-19823CB9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4026-A106-4ECF-BEA7-D1CB2404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6A5D-8AB8-4552-A261-8CED0387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5E4A-A5CA-4253-80CB-167EB181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3071-B2FF-4E66-9FBE-844B8971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642D-894D-4373-AE69-F9F9A3F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94A44-7985-4D31-97B0-520ACF0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18F5-3A98-4A8E-9C1F-D7092B15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58B8-E52E-4BB3-AFF3-57ADD511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13CD-81E1-41DB-9056-28A18D27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68E-2C85-4435-AEB6-CAB8F7A2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652-D8C8-4E69-82A5-2E0765FA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FBD-6BC1-42C6-911D-B4F378F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144-E10E-4E58-85F8-AB5758AD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05B-D88F-4B16-9139-2A2E7E2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EE4F-8449-42F7-BF93-F849ADF01E3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414-F0CB-4918-8B15-197FA8EDB41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97D7-27B2-444E-9E0D-6CC11D4601A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2C2A-1113-4741-9D44-2A4924347D5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F007-FD32-40E5-B4EB-935A7DB25C3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المستخدم</cp:lastModifiedBy>
  <dcterms:modified xsi:type="dcterms:W3CDTF">2013-09-04T14:12:26Z</dcterms:modified>
  <cp:revision>95</cp:revision>
  <dc:subject/>
  <dc:title>Principals of General Zoology (Zoo-103)</dc:title>
</cp:coreProperties>
</file>