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82A8-24E9-4C1B-9CA2-23A1454CD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E64E-6196-4497-9C86-99FD20E7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1FEF-7316-4D63-A27D-FA8BF5994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5449-6955-4EF3-A500-5328DF1B9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86B7-1B01-4853-8A31-4D8FA8D83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4235-EFE6-4059-842D-6E8CA1F5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0919-8076-4962-BFD9-96331476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3998-79F0-4A13-A368-1768EA06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50E3-BB15-49C2-801D-A7D7AC6F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918C-8964-40CB-AC19-0DB60725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A4CD-FE7B-4E17-89C5-B64F4709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A0BC-0AEE-47E1-A23D-745A178E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76EE-2694-48BC-BCBD-98740CB3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293C-3FAA-4743-A51F-B16772C4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9FE0-AFA6-47B1-9338-78541493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2D65-4D4C-462D-8F25-8E63B2ABB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0C1E-40EF-464C-AA4F-ACAEC3E34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FB3E8-3F91-4185-B061-C701D1B3E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8D9D2-58D4-45ED-A63B-2C732E91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DC167-44D8-4E9A-B2BB-04D2978D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26F86-BEC9-488C-81D1-CA98E9D0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FEBF4-FBF1-4476-9FAD-F9715E76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EE6E-D774-49A8-A934-0D54BD74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E299B-94F0-465E-B219-A1213ADF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536C0-5189-4A9A-8D75-C267DC6A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F8F44-4C29-4586-8F27-11EC4273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F9952-1074-4D9C-ABFD-662C4D09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B265E-736A-495C-B058-3B19255D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159A0-5693-4C5F-808F-E9218409D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DE1C4-2A5B-4930-8064-91400EFBE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D6EB7-19FC-4440-9C22-7576BDCF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0C783-0244-409B-A953-EB1C4776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3BA1E-75CB-42C5-9EF0-F67E6794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47C0-677D-465A-9CF7-896DF5B2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D2D65-4BC2-4A44-A711-C6A7FE5E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2EBAF-6BE9-4CA1-B242-E7F37975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523FE-B7E7-4F34-B646-15E6A2B8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81DF1-0064-4B5B-9A94-D0B8BCB4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CF2F4-0C3A-4138-9AD8-05BFADAC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351BB-7704-42F7-B87D-7B5E2932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83CB6-377D-4E2B-B4B8-68CE355B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E2084-1306-43E5-86FA-CC55AA8E0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E226C-912A-438E-8375-6A40717A9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ED00-C2ED-4420-B7AB-1F0C0AA0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DAE7-C95A-4D49-A2FA-52996BC7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7EA4-D119-4634-84FD-567FE605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C17D-F156-4161-A046-B1F927D9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90CE-46AF-46C8-A1B0-5F407857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63BC-F6A0-44AF-8E7E-8602B13227AE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78E8-9746-4831-B196-366E66F9BBB0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3BE5-53F0-424F-ABAA-B4750D1EA2BA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4ACD-C00B-478A-BCD2-2D5E55CEC985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499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is Life Made of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3078000"/>
            <a:ext cx="8229600" cy="27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verything is made up of ato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iving things are made up of cell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ells are made up of ato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714240" y="565200"/>
            <a:ext cx="7715520" cy="720720"/>
          </a:xfrm>
          <a:prstGeom prst="rect">
            <a:avLst/>
          </a:prstGeom>
          <a:solidFill>
            <a:srgbClr val="21b2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alibri"/>
              </a:rPr>
              <a:t>Lecture 2: Bio-molecules</a:t>
            </a:r>
            <a:r>
              <a:rPr b="0" lang="en-GB" sz="4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3"/>
          <p:cNvSpPr/>
          <p:nvPr/>
        </p:nvSpPr>
        <p:spPr>
          <a:xfrm>
            <a:off x="714240" y="171468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Consisted of few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Tahoma"/>
              </a:rPr>
              <a:t>hundreds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to few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Tahoma"/>
              </a:rPr>
              <a:t>thousands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of monosacchar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555480" y="3071880"/>
            <a:ext cx="8159760" cy="29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They are two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1- Storage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ar-EG" sz="2400" spc="-1" strike="noStrike">
                <a:solidFill>
                  <a:srgbClr val="080808"/>
                </a:solidFill>
                <a:latin typeface="Tahoma"/>
              </a:rPr>
              <a:t>تخزين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rovide sugar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cell by hydrolysis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إضافة ماء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s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Starch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plants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نشا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Glycogen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200" spc="-1" strike="noStrike">
                <a:solidFill>
                  <a:srgbClr val="000000"/>
                </a:solidFill>
                <a:latin typeface="Arial"/>
              </a:rPr>
              <a:t>الجليكوﭽـين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2- Structural </a:t>
            </a:r>
            <a:r>
              <a:rPr b="0" lang="ar-EG" sz="2400" spc="-1" strike="noStrike">
                <a:solidFill>
                  <a:srgbClr val="000000"/>
                </a:solidFill>
                <a:latin typeface="Tahoma"/>
              </a:rPr>
              <a:t>تركيب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erve as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building materials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the organis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as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Cellulose in </a:t>
            </a:r>
            <a:r>
              <a:rPr b="1" lang="en-GB" sz="2400" spc="-1" strike="noStrike">
                <a:solidFill>
                  <a:srgbClr val="080808"/>
                </a:solidFill>
                <a:latin typeface="Arial"/>
              </a:rPr>
              <a:t>plants (cell wall) and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Chitin </a:t>
            </a:r>
            <a:r>
              <a:rPr b="1" lang="ar-EG" sz="1400" spc="-1" strike="noStrike" u="sng">
                <a:solidFill>
                  <a:srgbClr val="000000"/>
                </a:solidFill>
                <a:uFillTx/>
                <a:latin typeface="Arial"/>
              </a:rPr>
              <a:t>الكيتين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 the </a:t>
            </a:r>
            <a:r>
              <a:rPr b="1" lang="en-GB" sz="2400" spc="-1" strike="noStrike" u="sng">
                <a:solidFill>
                  <a:srgbClr val="080808"/>
                </a:solidFill>
                <a:uFillTx/>
                <a:latin typeface="Arial"/>
              </a:rPr>
              <a:t>cuticle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80808"/>
                </a:solidFill>
                <a:latin typeface="Arial"/>
              </a:rPr>
              <a:t>الجُـلَيد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80808"/>
                </a:solidFill>
                <a:latin typeface="Arial"/>
              </a:rPr>
              <a:t>of ins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662400" y="1000080"/>
            <a:ext cx="403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Polysaccharides </a:t>
            </a:r>
            <a:r>
              <a:rPr b="0" lang="ar-EG" sz="1600" spc="-1" strike="noStrike" u="sng">
                <a:solidFill>
                  <a:srgbClr val="000000"/>
                </a:solidFill>
                <a:uFillTx/>
                <a:latin typeface="Arial"/>
              </a:rPr>
              <a:t>السكر العدي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ipi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37720" y="25239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de of: long chains of carbon and hydrogen atoms (with some oxygen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ob: store energy, repel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s: fats and oils (butter, cheese, oi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5" name="Picture 5" descr="http://www.sc2000.net/~czaremba/images/triglycerides1.jpg"/>
          <p:cNvPicPr/>
          <p:nvPr/>
        </p:nvPicPr>
        <p:blipFill>
          <a:blip r:embed="rId1"/>
          <a:stretch/>
        </p:blipFill>
        <p:spPr>
          <a:xfrm>
            <a:off x="4076640" y="0"/>
            <a:ext cx="5067360" cy="1857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Rectangle 2" descr=""/>
          <p:cNvPicPr/>
          <p:nvPr/>
        </p:nvPicPr>
        <p:blipFill>
          <a:blip r:embed="rId1"/>
          <a:stretch/>
        </p:blipFill>
        <p:spPr>
          <a:xfrm>
            <a:off x="596880" y="853920"/>
            <a:ext cx="5127480" cy="52416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642960" y="1357200"/>
            <a:ext cx="777240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Fatty acid components are saturated (there is no double bonds between the carbons. All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re linked with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us, it is saturated with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cc"/>
                </a:solidFill>
                <a:latin typeface="Impact"/>
              </a:rPr>
              <a:t>Most animal fats are saturate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y are solid at room tempera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* Saturated fats-rich diet results in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Atherosclerosi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تصلب الشريانى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642960" y="4379760"/>
            <a:ext cx="708660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se double bonds are formed by the removal of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o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Most vegetable fats (oils)</a:t>
            </a:r>
            <a:r>
              <a:rPr b="1" lang="ar-EG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and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fish fats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 are unsaturated.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* They are liquid at room tempera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y can be synthetically converted to saturated (solid) by adding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Hydrogenation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هَدْرَﭽـَ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2"/>
          <p:cNvSpPr/>
          <p:nvPr/>
        </p:nvSpPr>
        <p:spPr>
          <a:xfrm>
            <a:off x="714240" y="3875040"/>
            <a:ext cx="60962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B)- Un-saturated Fat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غير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مشبعة</a:t>
            </a:r>
            <a:r>
              <a:rPr b="0" lang="en-US" sz="2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دهون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F1F9-B091-4362-A839-82B24FFF9593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52280" y="1177560"/>
            <a:ext cx="8305920" cy="103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hospholipid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have two fatty acids attached to glycerol and a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hosphate group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t the third posi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phosphate group carries a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negativ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harge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235080" y="201600"/>
            <a:ext cx="8750160" cy="735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alibri"/>
              </a:rPr>
              <a:t>Phospholipids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e major components of cell membran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Line 4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76320" y="2819520"/>
            <a:ext cx="3429000" cy="21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atty aci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a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but the phosphate group and its attachments form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ea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, it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mphipathic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" descr=""/>
          <p:cNvPicPr/>
          <p:nvPr/>
        </p:nvPicPr>
        <p:blipFill>
          <a:blip r:embed="rId1"/>
          <a:srcRect l="0" t="0" r="30845" b="4769"/>
          <a:stretch/>
        </p:blipFill>
        <p:spPr>
          <a:xfrm>
            <a:off x="3809880" y="2286000"/>
            <a:ext cx="5181840" cy="4495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tei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28400" y="263340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de of: Nitrogen, Carbon, Hydrogen, and other ato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ob: Many different jobs in our bodies </a:t>
            </a:r>
            <a:r>
              <a:rPr b="1" lang="en-US" sz="2000" spc="-1" strike="noStrike">
                <a:solidFill>
                  <a:srgbClr val="04617b"/>
                </a:solidFill>
                <a:latin typeface="Constantia"/>
              </a:rPr>
              <a:t>include structural support, storage, transport of other substances, intercellular signaling </a:t>
            </a:r>
            <a:r>
              <a:rPr b="1" lang="ar-EG" sz="1800" spc="-1" strike="noStrike">
                <a:solidFill>
                  <a:srgbClr val="04617b"/>
                </a:solidFill>
                <a:latin typeface="Constantia"/>
                <a:cs typeface="Majalla UI"/>
              </a:rPr>
              <a:t>الإشارات بين الخلوية</a:t>
            </a:r>
            <a:r>
              <a:rPr b="1" lang="en-US" sz="2000" spc="-1" strike="noStrike">
                <a:solidFill>
                  <a:srgbClr val="04617b"/>
                </a:solidFill>
                <a:latin typeface="Constantia"/>
              </a:rPr>
              <a:t>, movement, and defense against microb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amples: enzymes, muscles, hai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1"/>
          <a:stretch/>
        </p:blipFill>
        <p:spPr>
          <a:xfrm>
            <a:off x="6788160" y="-4680"/>
            <a:ext cx="2355840" cy="23619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ucleic Aci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38080" y="24904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de of: Phosphorous, Carbon, Nitrogen, Oxygen, and Hydrogen ato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ob: Store genetic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s: DNA, RN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6999120" y="-4680"/>
            <a:ext cx="2144880" cy="1861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85600" y="1279440"/>
            <a:ext cx="4429080" cy="720720"/>
          </a:xfrm>
          <a:prstGeom prst="rect">
            <a:avLst/>
          </a:prstGeom>
          <a:solidFill>
            <a:srgbClr val="089ca3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Bio-molecules</a:t>
            </a:r>
            <a:r>
              <a:rPr b="0" lang="en-GB" sz="45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98200" y="2708280"/>
            <a:ext cx="67690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tructure of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 algn="r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Organic molecule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جزيئات العضو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arbohydrate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كربوهيدرات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Lipids</a:t>
            </a:r>
            <a:r>
              <a:rPr b="1" lang="ar-SA" sz="18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هون</a:t>
            </a:r>
            <a:r>
              <a:rPr b="1" lang="ar-SA" sz="18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Proteins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روتينات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Nucleic acids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حماض النووية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28400" y="2088720"/>
            <a:ext cx="70578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Life exists on Earth because of the abundant liquid water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Water has been referred to as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universal solvent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Aqueous solutions: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are solutions 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           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hat have materials dissolved in water)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So, it has slightl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ositive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and a slightly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negative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sides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6049800" y="3857760"/>
            <a:ext cx="2737080" cy="240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2" name="Rectangle 4"/>
          <p:cNvSpPr/>
          <p:nvPr/>
        </p:nvSpPr>
        <p:spPr>
          <a:xfrm>
            <a:off x="1073880" y="1214280"/>
            <a:ext cx="19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- Water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500040" y="2214720"/>
            <a:ext cx="810108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Hydrophilic </a:t>
            </a:r>
            <a:r>
              <a:rPr b="0" lang="ar-EG" sz="16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محب للماء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(Glucose)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Is any substance that has an affinity for water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تحب الماء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Hydrophobic </a:t>
            </a:r>
            <a:r>
              <a:rPr b="0" lang="ar-EG" sz="14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كاره للماء</a:t>
            </a:r>
            <a:r>
              <a:rPr b="1" lang="ar-EG" sz="1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(Lipid)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Is the substances that have no affinity for water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لا تحب الماء</a:t>
            </a:r>
            <a:r>
              <a:rPr b="1" lang="ar-EG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Because they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hav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nstantia"/>
              </a:rPr>
              <a:t>non-ionic and non-polar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covalent bon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Constanti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  <a:ea typeface="Arial"/>
              </a:rPr>
              <a:t>Thus, water molecules cannot form hydrogen bonds with these molecu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Amphipathic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Constantia"/>
              </a:rPr>
              <a:t> </a:t>
            </a:r>
            <a:r>
              <a:rPr b="0" lang="ar-EG" sz="14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كاره ومحب للماء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(Phospholipid)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nstantia"/>
              </a:rPr>
              <a:t>Has end with affinity for water and the other end with no affinity for w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he Hydrophobic molecules are the major ingredients of cell membra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884160" y="107172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sol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7627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rganisms are sensitive to changes in p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28600" y="761760"/>
            <a:ext cx="5557680" cy="600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acid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Is a substance that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nstantia"/>
              </a:rPr>
              <a:t>increases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the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Constantia"/>
              </a:rPr>
              <a:t>hydrogen ion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en-US" sz="14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4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) concentration in a solution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34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When hydrochloric acid is added to water, hydrogen ions dissociate 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تنفصل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from chloride ions: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45880">
              <a:spcBef>
                <a:spcPts val="300"/>
              </a:spcBef>
              <a:buClr>
                <a:srgbClr val="339933"/>
              </a:buClr>
              <a:buSzPct val="70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tantia"/>
              </a:rPr>
              <a:t>HCl          H</a:t>
            </a:r>
            <a:r>
              <a:rPr b="1" lang="en-US" sz="12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200" spc="-1" strike="noStrike">
                <a:solidFill>
                  <a:srgbClr val="ff0000"/>
                </a:solidFill>
                <a:latin typeface="Constantia"/>
              </a:rPr>
              <a:t> + Cl</a:t>
            </a:r>
            <a:r>
              <a:rPr b="1" lang="en-US" sz="12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458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Constantia"/>
              </a:rPr>
              <a:t>Addition of an acid makes a solution more acidic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bas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Is any substance that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nstantia"/>
              </a:rPr>
              <a:t>reduces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the hydrogen ion concentration in a solution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ome bases reduce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directly by accepting hydrogen ion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Other bases reduce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indirectly by releasing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O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that combines with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to form water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NaOH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→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Na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+ O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 O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+ 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→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H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6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Solutions with mor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OH</a:t>
            </a:r>
            <a:r>
              <a:rPr b="1" lang="en-US" sz="18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than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8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800" spc="-1" strike="noStrike" baseline="30000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re basic solutio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152280" y="6858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1690560" y="24289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643120" y="5429160"/>
            <a:ext cx="1389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7"/>
          <p:cNvGrpSpPr/>
          <p:nvPr/>
        </p:nvGrpSpPr>
        <p:grpSpPr>
          <a:xfrm>
            <a:off x="6072120" y="928800"/>
            <a:ext cx="2955960" cy="5286240"/>
            <a:chOff x="6072120" y="928800"/>
            <a:chExt cx="2955960" cy="5286240"/>
          </a:xfrm>
        </p:grpSpPr>
        <p:pic>
          <p:nvPicPr>
            <p:cNvPr id="211" name="Picture 5" descr=""/>
            <p:cNvPicPr/>
            <p:nvPr/>
          </p:nvPicPr>
          <p:blipFill>
            <a:blip r:embed="rId1"/>
            <a:stretch/>
          </p:blipFill>
          <p:spPr>
            <a:xfrm>
              <a:off x="6072120" y="928800"/>
              <a:ext cx="2955960" cy="52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6"/>
            <p:cNvSpPr/>
            <p:nvPr/>
          </p:nvSpPr>
          <p:spPr>
            <a:xfrm>
              <a:off x="8174160" y="2184120"/>
              <a:ext cx="572760" cy="165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2. Biomolecu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357440" y="266652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bohydra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p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te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ic Ac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914400" y="277956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 main molecules involved in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628560" y="900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(Carbohydrates, Lipids, Proteins and nucleic aci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1905120" y="1362240"/>
            <a:ext cx="5562360" cy="1066320"/>
            <a:chOff x="1905120" y="1362240"/>
            <a:chExt cx="5562360" cy="1066320"/>
          </a:xfrm>
        </p:grpSpPr>
        <p:sp>
          <p:nvSpPr>
            <p:cNvPr id="218" name="Line 4"/>
            <p:cNvSpPr/>
            <p:nvPr/>
          </p:nvSpPr>
          <p:spPr>
            <a:xfrm>
              <a:off x="3581280" y="1362240"/>
              <a:ext cx="2743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5"/>
            <p:cNvSpPr/>
            <p:nvPr/>
          </p:nvSpPr>
          <p:spPr>
            <a:xfrm>
              <a:off x="4800600" y="1362240"/>
              <a:ext cx="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6"/>
            <p:cNvSpPr/>
            <p:nvPr/>
          </p:nvSpPr>
          <p:spPr>
            <a:xfrm>
              <a:off x="1905120" y="1971720"/>
              <a:ext cx="556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7"/>
            <p:cNvSpPr/>
            <p:nvPr/>
          </p:nvSpPr>
          <p:spPr>
            <a:xfrm>
              <a:off x="1905120" y="197172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8"/>
            <p:cNvSpPr/>
            <p:nvPr/>
          </p:nvSpPr>
          <p:spPr>
            <a:xfrm>
              <a:off x="4800600" y="197172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9"/>
            <p:cNvSpPr/>
            <p:nvPr/>
          </p:nvSpPr>
          <p:spPr>
            <a:xfrm>
              <a:off x="7467480" y="197172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10"/>
          <p:cNvSpPr/>
          <p:nvPr/>
        </p:nvSpPr>
        <p:spPr>
          <a:xfrm>
            <a:off x="8380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Mono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38098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Di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63244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Poly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885960" y="3586320"/>
            <a:ext cx="79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is a long molecule consists of a chain of similar building molecules (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) covalently bound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833400" y="5813280"/>
            <a:ext cx="8024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Polymer can be broken down </a:t>
            </a:r>
            <a:r>
              <a:rPr b="1" lang="ar-EG" sz="1800" spc="-1" strike="noStrike">
                <a:solidFill>
                  <a:srgbClr val="080808"/>
                </a:solidFill>
                <a:latin typeface="Tahoma"/>
              </a:rPr>
              <a:t>يـُكَســًر إلى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to its monomers by hydrolysis (adding H</a:t>
            </a:r>
            <a:r>
              <a:rPr b="1" lang="en-GB" sz="2400" spc="-1" strike="noStrike" baseline="-25000">
                <a:solidFill>
                  <a:srgbClr val="080808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871560" y="4884840"/>
            <a:ext cx="7843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can be </a:t>
            </a: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built up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ar-EG" sz="1800" spc="-1" strike="noStrike">
                <a:solidFill>
                  <a:srgbClr val="080808"/>
                </a:solidFill>
                <a:latin typeface="Tahoma"/>
              </a:rPr>
              <a:t>يـُبـْنَى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by linking its </a:t>
            </a:r>
            <a:r>
              <a:rPr b="0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by dehydration (removing H</a:t>
            </a:r>
            <a:r>
              <a:rPr b="1" lang="en-GB" sz="2400" spc="-1" strike="noStrike" baseline="-25000">
                <a:solidFill>
                  <a:srgbClr val="080808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7"/>
          <p:cNvGrpSpPr/>
          <p:nvPr/>
        </p:nvGrpSpPr>
        <p:grpSpPr>
          <a:xfrm>
            <a:off x="1219320" y="2895480"/>
            <a:ext cx="6858000" cy="1267560"/>
            <a:chOff x="1219320" y="2895480"/>
            <a:chExt cx="6858000" cy="1267560"/>
          </a:xfrm>
        </p:grpSpPr>
        <p:sp>
          <p:nvSpPr>
            <p:cNvPr id="231" name="Text Box 18"/>
            <p:cNvSpPr/>
            <p:nvPr/>
          </p:nvSpPr>
          <p:spPr>
            <a:xfrm>
              <a:off x="1219320" y="289548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أحاد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9"/>
            <p:cNvSpPr/>
            <p:nvPr/>
          </p:nvSpPr>
          <p:spPr>
            <a:xfrm>
              <a:off x="4343400" y="2971800"/>
              <a:ext cx="121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ثنائ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0"/>
            <p:cNvSpPr/>
            <p:nvPr/>
          </p:nvSpPr>
          <p:spPr>
            <a:xfrm>
              <a:off x="6858000" y="28954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عدي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Monom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37720" y="2362320"/>
            <a:ext cx="377028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Macromolecu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bohydra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p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te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ic ac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285800" y="2405160"/>
            <a:ext cx="422604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Monom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nosaccharide (suga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ydrocarbon cha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mino ac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otid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rbohydra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37720" y="2666520"/>
            <a:ext cx="8007480" cy="36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de of: carbon, hydrogen, and oxygen ato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ob: provide living things with energ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s: sugars and starches (corn, rice, potato, bread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1"/>
          <a:srcRect l="9811" t="18704" r="9811" b="7014"/>
          <a:stretch/>
        </p:blipFill>
        <p:spPr>
          <a:xfrm>
            <a:off x="6188040" y="0"/>
            <a:ext cx="2955960" cy="2292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المستخدم</cp:lastModifiedBy>
  <dcterms:modified xsi:type="dcterms:W3CDTF">2013-09-04T14:12:26Z</dcterms:modified>
  <cp:revision>95</cp:revision>
  <dc:subject/>
  <dc:title>Principals of General Zoology (Zoo-103)</dc:title>
</cp:coreProperties>
</file>