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5E1F-F9AB-4D89-A2D8-A3C86680B13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0609-F3A9-4359-BFD1-060725AF97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s are varied in form and function. They include waxes and certain pigments, but we will focus on the types of lipids that are most biologically important: fats, phospholipids, and ster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1DF2-3F29-4890-A183-8975B93E7B4B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A803-783A-425F-8216-2B0A6FAA09A9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455-4461-4B67-9DDA-8EFEBC1F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EE0-4F5A-4F92-B313-5FF25BC8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E89B-588C-4A07-BA0A-999FBF2D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E8A-C553-49AF-95FC-7752E69C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796-AF6D-48C9-962A-B22F6094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BFC-7054-44D1-B301-DB55708B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880-BDCF-4885-8905-E7B21CC5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173-811A-427B-9ABB-A04FBC3C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C76-0412-469F-B3AD-0181B7D0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761-06BB-4FE4-8122-B679507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3E1-448C-4335-9EAF-9D342A09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C5B4-987D-461B-89D5-1FB26689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FF81-7D25-4D79-929B-918B0CA7B9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ksu.edu.sa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ksu.edu.sa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42CB-62C6-4E73-84D2-B024D87163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50208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06720" y="4210200"/>
            <a:ext cx="538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Large Biological Molecules---contin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D32E-0348-4A78-83BA-38F884BFB8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Arial"/>
              </a:rPr>
              <a:t>3-Lipids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228600" y="1562040"/>
            <a:ext cx="8839080" cy="5295600"/>
            <a:chOff x="228600" y="1562040"/>
            <a:chExt cx="8839080" cy="5295600"/>
          </a:xfrm>
        </p:grpSpPr>
        <p:grpSp>
          <p:nvGrpSpPr>
            <p:cNvPr id="199" name="Group 9"/>
            <p:cNvGrpSpPr/>
            <p:nvPr/>
          </p:nvGrpSpPr>
          <p:grpSpPr>
            <a:xfrm>
              <a:off x="3962520" y="1562040"/>
              <a:ext cx="5105160" cy="5295600"/>
              <a:chOff x="3962520" y="1562040"/>
              <a:chExt cx="5105160" cy="5295600"/>
            </a:xfrm>
          </p:grpSpPr>
          <p:pic>
            <p:nvPicPr>
              <p:cNvPr id="200" name="Picture 10" descr=""/>
              <p:cNvPicPr/>
              <p:nvPr/>
            </p:nvPicPr>
            <p:blipFill>
              <a:blip r:embed="rId1"/>
              <a:srcRect l="50824" t="0" r="0" b="4925"/>
              <a:stretch/>
            </p:blipFill>
            <p:spPr>
              <a:xfrm>
                <a:off x="4876920" y="1562040"/>
                <a:ext cx="3352680" cy="278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2"/>
            <p:cNvGrpSpPr/>
            <p:nvPr/>
          </p:nvGrpSpPr>
          <p:grpSpPr>
            <a:xfrm>
              <a:off x="228600" y="1600200"/>
              <a:ext cx="4572000" cy="5029200"/>
              <a:chOff x="228600" y="1600200"/>
              <a:chExt cx="4572000" cy="5029200"/>
            </a:xfrm>
          </p:grpSpPr>
          <p:pic>
            <p:nvPicPr>
              <p:cNvPr id="203" name="Picture 13" descr=""/>
              <p:cNvPicPr/>
              <p:nvPr/>
            </p:nvPicPr>
            <p:blipFill>
              <a:blip r:embed="rId2"/>
              <a:srcRect l="-954" t="0" r="51131" b="4925"/>
              <a:stretch/>
            </p:blipFill>
            <p:spPr>
              <a:xfrm>
                <a:off x="762120" y="1600200"/>
                <a:ext cx="3124080" cy="286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152280" y="797040"/>
            <a:ext cx="7696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ids are a diverse group of hydrophob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Functions of lipi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914040"/>
            <a:ext cx="88394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erm energy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against heat loss (insu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against physical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 against water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messengers (horm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component of membranes (phospholip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Content Placeholder 4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461440" cy="591948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10D8-DFBB-41CB-B590-AA2DC909A9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880" y="16002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constructed from two kinds of smaller molecules: glycerol and fatty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20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21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24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27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28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1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42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45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48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51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54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57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60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63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66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73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5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28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1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8821-8B05-4F23-A091-566791A22D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8188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4190-96EC-4637-B3B7-543D404BAA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3048120" y="304920"/>
            <a:ext cx="297180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0" y="3581280"/>
            <a:ext cx="16002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286000" y="3657600"/>
            <a:ext cx="16002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09880" y="2590920"/>
            <a:ext cx="16765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spholip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0" y="4343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2209680" y="4419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3733920" y="3048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380520" y="4876560"/>
            <a:ext cx="3124080" cy="609840"/>
            <a:chOff x="380520" y="4876560"/>
            <a:chExt cx="3124080" cy="609840"/>
          </a:xfrm>
        </p:grpSpPr>
        <p:grpSp>
          <p:nvGrpSpPr>
            <p:cNvPr id="332" name="Group 11"/>
            <p:cNvGrpSpPr/>
            <p:nvPr/>
          </p:nvGrpSpPr>
          <p:grpSpPr>
            <a:xfrm>
              <a:off x="380520" y="4876560"/>
              <a:ext cx="3124080" cy="609840"/>
              <a:chOff x="380520" y="4876560"/>
              <a:chExt cx="3124080" cy="609840"/>
            </a:xfrm>
          </p:grpSpPr>
          <p:sp>
            <p:nvSpPr>
              <p:cNvPr id="333" name="Line 12"/>
              <p:cNvSpPr/>
              <p:nvPr/>
            </p:nvSpPr>
            <p:spPr>
              <a:xfrm>
                <a:off x="3504600" y="4952880"/>
                <a:ext cx="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13"/>
              <p:cNvSpPr/>
              <p:nvPr/>
            </p:nvSpPr>
            <p:spPr>
              <a:xfrm flipH="1">
                <a:off x="380520" y="5486400"/>
                <a:ext cx="31237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4"/>
              <p:cNvSpPr/>
              <p:nvPr/>
            </p:nvSpPr>
            <p:spPr>
              <a:xfrm flipV="1">
                <a:off x="380880" y="487656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Text Box 15"/>
            <p:cNvSpPr/>
            <p:nvPr/>
          </p:nvSpPr>
          <p:spPr>
            <a:xfrm>
              <a:off x="554400" y="5092560"/>
              <a:ext cx="2689920" cy="2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24"/>
          <p:cNvSpPr/>
          <p:nvPr/>
        </p:nvSpPr>
        <p:spPr>
          <a:xfrm>
            <a:off x="5943600" y="2590920"/>
            <a:ext cx="1219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5867280" y="33526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7696080" y="2590920"/>
            <a:ext cx="12956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0"/>
          <p:cNvGrpSpPr/>
          <p:nvPr/>
        </p:nvGrpSpPr>
        <p:grpSpPr>
          <a:xfrm>
            <a:off x="1066680" y="1295280"/>
            <a:ext cx="7238880" cy="1219320"/>
            <a:chOff x="1066680" y="1295280"/>
            <a:chExt cx="7238880" cy="1219320"/>
          </a:xfrm>
        </p:grpSpPr>
        <p:sp>
          <p:nvSpPr>
            <p:cNvPr id="341" name="Line 17"/>
            <p:cNvSpPr/>
            <p:nvPr/>
          </p:nvSpPr>
          <p:spPr>
            <a:xfrm>
              <a:off x="3018600" y="1295280"/>
              <a:ext cx="317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8"/>
            <p:cNvSpPr/>
            <p:nvPr/>
          </p:nvSpPr>
          <p:spPr>
            <a:xfrm>
              <a:off x="4564440" y="12952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9"/>
            <p:cNvSpPr/>
            <p:nvPr/>
          </p:nvSpPr>
          <p:spPr>
            <a:xfrm>
              <a:off x="1066680" y="190512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0"/>
            <p:cNvSpPr/>
            <p:nvPr/>
          </p:nvSpPr>
          <p:spPr>
            <a:xfrm>
              <a:off x="1066680" y="1905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>
              <a:off x="6923160" y="1905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970880" y="1905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2"/>
            <p:cNvSpPr/>
            <p:nvPr/>
          </p:nvSpPr>
          <p:spPr>
            <a:xfrm>
              <a:off x="8295840" y="1905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2"/>
          <p:cNvSpPr/>
          <p:nvPr/>
        </p:nvSpPr>
        <p:spPr>
          <a:xfrm>
            <a:off x="380880" y="2438280"/>
            <a:ext cx="129564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29"/>
          <p:cNvGrpSpPr/>
          <p:nvPr/>
        </p:nvGrpSpPr>
        <p:grpSpPr>
          <a:xfrm>
            <a:off x="304920" y="2895480"/>
            <a:ext cx="2666880" cy="658440"/>
            <a:chOff x="304920" y="2895480"/>
            <a:chExt cx="2666880" cy="658440"/>
          </a:xfrm>
        </p:grpSpPr>
        <p:sp>
          <p:nvSpPr>
            <p:cNvPr id="350" name="Line 18"/>
            <p:cNvSpPr/>
            <p:nvPr/>
          </p:nvSpPr>
          <p:spPr>
            <a:xfrm>
              <a:off x="1593360" y="2895480"/>
              <a:ext cx="0" cy="32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>
              <a:off x="304920" y="322488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304920" y="3224880"/>
              <a:ext cx="0" cy="32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2"/>
            <p:cNvSpPr/>
            <p:nvPr/>
          </p:nvSpPr>
          <p:spPr>
            <a:xfrm>
              <a:off x="2968200" y="3224880"/>
              <a:ext cx="0" cy="32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14120" y="1362240"/>
            <a:ext cx="89154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mers principles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hesis and breakdown of polymer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bohyd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saccharides (Classifications of Monosacchar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cchar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saccharides : A)- Storage Polysaccharides. B)- Structural Polysacchar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eins (Polypept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ptide B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p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of lip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of Fat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f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899C-B97F-4903-B5F3-3D26A0330D67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DBE0-07E0-4968-BD5F-BF1EFF41B2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80880" y="2727360"/>
            <a:ext cx="830592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King Saud Universit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29400" y="0"/>
            <a:ext cx="161460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Content Placeholder 4" descr=""/>
          <p:cNvPicPr/>
          <p:nvPr/>
        </p:nvPicPr>
        <p:blipFill>
          <a:blip r:embed="rId1"/>
          <a:stretch/>
        </p:blipFill>
        <p:spPr>
          <a:xfrm>
            <a:off x="4087800" y="1398600"/>
            <a:ext cx="4889520" cy="324972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6ACB-A8FB-4C03-AC6D-61FB63A6E7C5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2447-CB5C-43F2-90D6-BE48C41F4D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120" y="1362240"/>
            <a:ext cx="89154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eins (Polypepti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s of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eptide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 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of 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of Fat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f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8B76-E5F9-4F1E-9DEC-B6B708C359DF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7970-9E14-4DDE-A9D4-503F145C78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Lecture 2: 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King Saud Universit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6200" y="0"/>
            <a:ext cx="174780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80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83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86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90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96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35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54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57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60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53"/>
          <p:cNvSpPr/>
          <p:nvPr/>
        </p:nvSpPr>
        <p:spPr>
          <a:xfrm>
            <a:off x="647712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64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5AD7-8FBA-46FE-B003-1A17CD0119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73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3"/>
          <p:cNvGrpSpPr/>
          <p:nvPr/>
        </p:nvGrpSpPr>
        <p:grpSpPr>
          <a:xfrm>
            <a:off x="1277640" y="1278000"/>
            <a:ext cx="2987640" cy="2331360"/>
            <a:chOff x="1277640" y="1278000"/>
            <a:chExt cx="2987640" cy="2331360"/>
          </a:xfrm>
        </p:grpSpPr>
        <p:sp>
          <p:nvSpPr>
            <p:cNvPr id="177" name="Text Box 34"/>
            <p:cNvSpPr/>
            <p:nvPr/>
          </p:nvSpPr>
          <p:spPr>
            <a:xfrm rot="1477200">
              <a:off x="2943000" y="2957760"/>
              <a:ext cx="12981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35"/>
            <p:cNvGrpSpPr/>
            <p:nvPr/>
          </p:nvGrpSpPr>
          <p:grpSpPr>
            <a:xfrm>
              <a:off x="1277640" y="1278000"/>
              <a:ext cx="1831320" cy="1814040"/>
              <a:chOff x="1277640" y="1278000"/>
              <a:chExt cx="1831320" cy="1814040"/>
            </a:xfrm>
          </p:grpSpPr>
          <p:sp>
            <p:nvSpPr>
              <p:cNvPr id="179" name="AutoShape 36"/>
              <p:cNvSpPr/>
              <p:nvPr/>
            </p:nvSpPr>
            <p:spPr>
              <a:xfrm rot="2828400">
                <a:off x="1281600" y="1879920"/>
                <a:ext cx="1909080" cy="609480"/>
              </a:xfrm>
              <a:prstGeom prst="rightArrow">
                <a:avLst>
                  <a:gd name="adj1" fmla="val 50000"/>
                  <a:gd name="adj2" fmla="val 7830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37"/>
              <p:cNvSpPr/>
              <p:nvPr/>
            </p:nvSpPr>
            <p:spPr>
              <a:xfrm rot="2828400">
                <a:off x="1181520" y="2091960"/>
                <a:ext cx="137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1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82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91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mohamed</cp:lastModifiedBy>
  <dcterms:modified xsi:type="dcterms:W3CDTF">2016-01-20T04:08:47Z</dcterms:modified>
  <cp:revision>614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