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B324-669C-4F6D-A90A-DC41DD5267A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407D-13C0-4B10-912E-286A5884AFF6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46F3-D083-4E98-86D7-DC06A3F0CFDA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25AD-8349-4420-BE52-1EAEB4249725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228F-0144-4444-82B0-F99CEE97C7BE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ADC9-81A3-4172-9361-800B8DE43FFB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A8DD-92A9-4CA8-9230-69146F0FD977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D222-A51B-4BE9-BECE-DC155A040921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3970-BA95-47E2-886D-3F461D3DC044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9CC5-CBC7-4D62-B2C2-49604677A169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BF1C-76BC-496C-AEDA-F5202DE205FA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388B-4CE7-4E43-ADCD-B678DBED0611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9F91-047D-42A0-A1E1-BCB061D191E7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0CAA-B55E-4C9E-A4EA-9B05DF7C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244A-C016-40CC-BEAA-08FCEF19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D47B-6169-4770-9E84-7E053D80E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8CA3-AD6B-4F25-BCCA-4EFBCAAC9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1C7C-C660-4DA7-A0B7-B5EF6D12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2FB6-1FB7-4F0E-92C4-1A8039B2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4284-2696-46D8-AFDD-30E27AA7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1804-7AD9-4BBD-A753-CA1977CE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E072-20F2-43DF-86CD-FC33B4C4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F0C6-D0ED-4A9D-A3E3-49F58B80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2FD8-5E21-4E17-90B9-B674AF03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DD5A-E813-4952-B068-733F4F0B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C6BC-7422-435F-85B5-5E0BA45B2E7C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Blood Cel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9" name="Picture 4" descr="Life7e-Fig-18-02-1%20blood%20cells%20and%20their%20stem%20cells%20p1"/>
          <p:cNvPicPr/>
          <p:nvPr/>
        </p:nvPicPr>
        <p:blipFill>
          <a:blip r:embed="rId1"/>
          <a:stretch/>
        </p:blipFill>
        <p:spPr>
          <a:xfrm>
            <a:off x="684360" y="1238400"/>
            <a:ext cx="741672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hagocyt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acroph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 phagocytes that patrol interstitial fluid and engulf and digest pathog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rete cytokines when receptors bind to anti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ytokines attract more macrophages, neutrophils, and dendritic cells to infection s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Phagocyt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cells are under attack they releas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histam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istamine plus chemicals from pathogens mean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neutrophil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re attracted to the site of atta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ogens are attached to antibodies and neutrophils hav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antibody receptor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odcytosis of neutrophil membrane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phagocytic vacuo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ysosomes attach to phagocytic vacuole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pathogen digested by prot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100" spc="-1" strike="noStrike">
                <a:solidFill>
                  <a:srgbClr val="ccffff"/>
                </a:solidFill>
                <a:latin typeface="Comic Sans MS"/>
              </a:rPr>
              <a:t>Phagocytosis</a:t>
            </a:r>
            <a:endParaRPr b="0" lang="en-US" sz="51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348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33080" indent="-43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</a:rPr>
              <a:t>Stages in phagocyto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79760" indent="-363960">
              <a:lnSpc>
                <a:spcPct val="90000"/>
              </a:lnSpc>
              <a:spcBef>
                <a:spcPts val="726"/>
              </a:spcBef>
              <a:buClr>
                <a:srgbClr val="66cc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mic Sans MS"/>
              </a:rPr>
              <a:t>Phagocyte detects chemicals released by a foreign intruder (e.g. bacteria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79760" indent="-363960">
              <a:lnSpc>
                <a:spcPct val="90000"/>
              </a:lnSpc>
              <a:spcBef>
                <a:spcPts val="726"/>
              </a:spcBef>
              <a:buClr>
                <a:srgbClr val="66cc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mic Sans MS"/>
              </a:rPr>
              <a:t>Phagocyte moves up the concentration gradient towards the intruder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79760" indent="-363960">
              <a:lnSpc>
                <a:spcPct val="90000"/>
              </a:lnSpc>
              <a:spcBef>
                <a:spcPts val="726"/>
              </a:spcBef>
              <a:buClr>
                <a:srgbClr val="66cc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mic Sans MS"/>
              </a:rPr>
              <a:t>The phagocyte adheres to the foreign cell and engulfs it in a vacuole by an infolding of the cell membrane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79760" indent="-363960">
              <a:lnSpc>
                <a:spcPct val="90000"/>
              </a:lnSpc>
              <a:spcBef>
                <a:spcPts val="726"/>
              </a:spcBef>
              <a:buClr>
                <a:srgbClr val="66cc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0000"/>
                </a:solidFill>
                <a:latin typeface="Comic Sans MS"/>
              </a:rPr>
              <a:t>Lysosomes</a:t>
            </a:r>
            <a:r>
              <a:rPr b="0" lang="en-GB" sz="2900" spc="-1" strike="noStrike">
                <a:solidFill>
                  <a:srgbClr val="ffffff"/>
                </a:solidFill>
                <a:latin typeface="Comic Sans MS"/>
              </a:rPr>
              <a:t> (organelles which are rich in digestive enzymes &amp; found in the phagocytes cytoplasm) fuse with the vacuole &amp; release their contents into it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100" spc="-1" strike="noStrike">
                <a:solidFill>
                  <a:srgbClr val="ccffff"/>
                </a:solidFill>
                <a:latin typeface="Comic Sans MS"/>
              </a:rPr>
              <a:t>Phagocytosis</a:t>
            </a:r>
            <a:endParaRPr b="0" lang="en-US" sz="51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7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7160" indent="-399960">
              <a:lnSpc>
                <a:spcPct val="100000"/>
              </a:lnSpc>
              <a:spcBef>
                <a:spcPts val="726"/>
              </a:spcBef>
              <a:buClr>
                <a:srgbClr val="66cc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omic Sans MS"/>
              </a:rPr>
              <a:t>The bacterium is digested by the enzymes, and the breakdown products are absorbed by the phagocyte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476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</a:rPr>
              <a:t>During infection, hundreds of phagocytes are need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</a:rPr>
              <a:t>Pus is dead bacteria and phagocytes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76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Phagocyt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5" descr="16-08a_phagocytosis_1"/>
          <p:cNvPicPr/>
          <p:nvPr/>
        </p:nvPicPr>
        <p:blipFill>
          <a:blip r:embed="rId1"/>
          <a:stretch/>
        </p:blipFill>
        <p:spPr>
          <a:xfrm>
            <a:off x="250920" y="1628640"/>
            <a:ext cx="871380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Image result for phagocytosis"/>
          <p:cNvPicPr/>
          <p:nvPr/>
        </p:nvPicPr>
        <p:blipFill>
          <a:blip r:embed="rId1"/>
          <a:srcRect l="4739" t="7890" r="17056" b="10036"/>
          <a:stretch/>
        </p:blipFill>
        <p:spPr>
          <a:xfrm>
            <a:off x="611280" y="549360"/>
            <a:ext cx="741672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100" spc="-1" strike="noStrike">
                <a:solidFill>
                  <a:srgbClr val="ccffff"/>
                </a:solidFill>
                <a:latin typeface="Comic Sans MS"/>
              </a:rPr>
              <a:t>Pus</a:t>
            </a:r>
            <a:endParaRPr b="0" lang="en-US" sz="51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2920" y="1699920"/>
            <a:ext cx="403884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An accumulation of : -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Comic Sans MS"/>
              </a:rPr>
              <a:t>dead phagocyt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Comic Sans MS"/>
              </a:rPr>
              <a:t>destroyed bacteri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Comic Sans MS"/>
              </a:rPr>
              <a:t>dead cell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4" descr="acne2"/>
          <p:cNvPicPr/>
          <p:nvPr/>
        </p:nvPicPr>
        <p:blipFill>
          <a:blip r:embed="rId1"/>
          <a:srcRect l="19776" t="38370" r="0" b="14226"/>
          <a:stretch/>
        </p:blipFill>
        <p:spPr>
          <a:xfrm>
            <a:off x="990720" y="2643120"/>
            <a:ext cx="364464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ite Blood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hagocytes - Neutrophi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- Macroph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ymphoc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Phagocyt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duced throughout life by the bone marr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cavengers – remove dead cells and microorganis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4" descr="Phagocytes and Their Relatives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Neutrophi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60% of WB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trol tissues’ as they squeeze out of the capilla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rge numbers are released during inf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hort lived – die after digesting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ad neutrophils make up a large proportion of pu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5" descr="normvtox"/>
          <p:cNvPicPr/>
          <p:nvPr/>
        </p:nvPicPr>
        <p:blipFill>
          <a:blip r:embed="rId1"/>
          <a:stretch/>
        </p:blipFill>
        <p:spPr>
          <a:xfrm>
            <a:off x="6300720" y="189000"/>
            <a:ext cx="263844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Macrophag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rger than neutrophi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und in the organs, not the blo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de in bone marrow as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monocyte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, called macrophages once they reach orga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ong li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nitiat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immune responses as they display antigens from the pathogens to the lymphocy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7" descr="macrophages"/>
          <p:cNvPicPr/>
          <p:nvPr/>
        </p:nvPicPr>
        <p:blipFill>
          <a:blip r:embed="rId1"/>
          <a:stretch/>
        </p:blipFill>
        <p:spPr>
          <a:xfrm>
            <a:off x="6659640" y="333360"/>
            <a:ext cx="224784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e701"/>
                </a:solidFill>
                <a:latin typeface="Arial"/>
              </a:rPr>
              <a:t>Macrophag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3" name="Picture 4" descr="macrophages"/>
          <p:cNvPicPr/>
          <p:nvPr/>
        </p:nvPicPr>
        <p:blipFill>
          <a:blip r:embed="rId1"/>
          <a:stretch/>
        </p:blipFill>
        <p:spPr>
          <a:xfrm>
            <a:off x="6659640" y="115920"/>
            <a:ext cx="2247840" cy="1485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Agpresent"/>
          <p:cNvPicPr/>
          <p:nvPr/>
        </p:nvPicPr>
        <p:blipFill>
          <a:blip r:embed="rId2"/>
          <a:stretch/>
        </p:blipFill>
        <p:spPr>
          <a:xfrm>
            <a:off x="395280" y="1484280"/>
            <a:ext cx="849780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nate Immune Respons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nate immune mechanisms nonspecifically eliminate pathogens that invade internal tissues before they become establish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gocy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am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nate Immunit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nate immune responses involve a set of general, immediate defenses against invading pathoge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nate immunity includes phagocytic white blood cells, plasma proteins, inflammation, and f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9:15:35Z</dcterms:created>
  <dc:creator>User name placeholder</dc:creator>
  <dc:description/>
  <dc:language>en-US</dc:language>
  <cp:lastModifiedBy>المستخدم</cp:lastModifiedBy>
  <dcterms:modified xsi:type="dcterms:W3CDTF">2017-10-17T08:43:03Z</dcterms:modified>
  <cp:revision>81</cp:revision>
  <dc:subject/>
  <dc:title>THE IMMUNE SYSTEM</dc:title>
</cp:coreProperties>
</file>