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218-D10E-44CD-96A3-5FD3CA577E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B85-4931-4339-A99D-9777C5BFE9D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83F4-3FFC-4B56-A3B0-F76919A965E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16F-782E-428D-8324-00A11BC6FC4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5D35-E181-48B3-8C2C-6605509FCD0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40D5-4FF1-42A9-B3F9-82AF6D5E9A9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1CE-B2AD-4C99-A674-10C9D424B14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61A4-B314-4A9F-A300-890BFEB8F64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535-04B5-4D2E-A195-1D6D3EFD0F9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5E8-CB30-4BE1-BAF9-8B1D1D14EEE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E7A-BDA2-416A-8953-7D8EE5D3AFE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8C6-EE6A-4C34-A3FE-D7A3D593BA7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A98-EAE2-4301-8B83-7320E659209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AE6-09CE-488B-A6F7-6B8725E5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B6D-C0AF-4204-BE22-970BA717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714-8FD5-49D1-A2C6-F54DDBBB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6AF-67F9-459F-9846-042945D0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21A-804F-4B39-A482-0D46C87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566-0FAD-4489-9E9B-19FD179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9EC-67E4-4019-AF2D-6BBC20F4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E25-50D7-4D9E-BC14-EBA8A82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435-6D7F-4933-8FF3-F7BD06F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C34-D935-48C0-8E91-B24B03C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C82-9561-472E-854E-186A3D7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462-6E49-4560-B95A-70DA936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57D-CFB2-40CF-B405-08C6D1B4D9F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4" descr="Life7e-Fig-18-02-1%20blood%20cells%20and%20their%20stem%20cells%20p1"/>
          <p:cNvPicPr/>
          <p:nvPr/>
        </p:nvPicPr>
        <p:blipFill>
          <a:blip r:embed="rId1"/>
          <a:stretch/>
        </p:blipFill>
        <p:spPr>
          <a:xfrm>
            <a:off x="684360" y="1238400"/>
            <a:ext cx="7416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hagocytes that patrol interstitial fluid and engulf and digest path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cytokines when receptors bind to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kines attract more macrophages, neutrophils, and dendritic cells to infection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cells are under attack they rele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is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amine plus chemicals from pathogens mea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utrophi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attracted to the site of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ogens are attached to antibodies and neutrophils hav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ntibody recepto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odcytosis of neutrophil membran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hagocytic vacu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ysosomes attach to phagocytic vacuol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athogen digested by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hagocytosi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4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43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Stages in phagocyt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Phagocyte detects chemicals released by a foreign intruder (e.g. bacteria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Phagocyte moves up the concentration gradient towards the intrud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hagocytosi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0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During infection, hundreds of phagocytes are need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Pus is dead bacteria and phagocyt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16-08a_phagocytosis_1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 result for phagocytosis"/>
          <p:cNvPicPr/>
          <p:nvPr/>
        </p:nvPicPr>
        <p:blipFill>
          <a:blip r:embed="rId1"/>
          <a:srcRect l="4739" t="7890" r="17056" b="10036"/>
          <a:stretch/>
        </p:blipFill>
        <p:spPr>
          <a:xfrm>
            <a:off x="611280" y="549360"/>
            <a:ext cx="74167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u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2920" y="1699920"/>
            <a:ext cx="4038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n accumulation of :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ad phagocy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stroyed bacter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ad cel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acne2"/>
          <p:cNvPicPr/>
          <p:nvPr/>
        </p:nvPicPr>
        <p:blipFill>
          <a:blip r:embed="rId1"/>
          <a:srcRect l="19776" t="38370" r="0" b="14226"/>
          <a:stretch/>
        </p:blipFill>
        <p:spPr>
          <a:xfrm>
            <a:off x="990720" y="2643120"/>
            <a:ext cx="3644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agocytes - Neutroph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d throughout life by the bone m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avengers – remove dead cells and micro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Phagocytes and Their Relat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Neutrophi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0% of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rol tissues’ as they squeeze out of th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 numbers are released dur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lived – die after diges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neutrophils make up a large proportion of pu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normvtox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r than neutroph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in the organs, not the b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de in bone marrow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nocyt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called macrophages once they reach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ng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itia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mmune responses as they display antigens from the pathogens to the lymphoc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Picture 4" descr="macrophages"/>
          <p:cNvPicPr/>
          <p:nvPr/>
        </p:nvPicPr>
        <p:blipFill>
          <a:blip r:embed="rId1"/>
          <a:stretch/>
        </p:blipFill>
        <p:spPr>
          <a:xfrm>
            <a:off x="6659640" y="115920"/>
            <a:ext cx="2247840" cy="14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gpresent"/>
          <p:cNvPicPr/>
          <p:nvPr/>
        </p:nvPicPr>
        <p:blipFill>
          <a:blip r:embed="rId2"/>
          <a:stretch/>
        </p:blipFill>
        <p:spPr>
          <a:xfrm>
            <a:off x="395280" y="1484280"/>
            <a:ext cx="84978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nate Immune Respons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ate immune mechanisms nonspecifically eliminate pathogens that invade internal tissues before they become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goc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nat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nate immune responses involve a set of general, immediate defenses against invading pathoge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nate immunity includes phagocytic white blood cells, plasma proteins, inflammation,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0-17T08:43:03Z</dcterms:modified>
  <cp:revision>81</cp:revision>
  <dc:subject/>
  <dc:title>THE IMMUNE SYSTEM</dc:title>
</cp:coreProperties>
</file>