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385128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29466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385128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1080" y="9429840"/>
            <a:ext cx="29466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4087-BD92-4F9A-9C1B-15B5D4B145D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1440" y="9429840"/>
            <a:ext cx="29466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F8D3-5024-4C3A-8856-3B033B463C2D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1440" y="9429840"/>
            <a:ext cx="29466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70C9-BA0C-4D4A-B266-23181DA7DF32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1FB-FE47-43E9-8B18-64DC0FFF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511-BC0C-4D0D-A9ED-1BDF96AC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F42-2A8D-44CA-952E-962432AD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8C1-1001-4296-8CA6-33A1F5B9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C14D-1D6A-4564-A4E5-6B49850A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83E1-DE78-41EB-BD1B-382AAE6D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99EA-164E-42A0-901F-482A9668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9390-DA49-4781-9961-E99CAB97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7FA8-D093-4733-9950-F1EDFB56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20E7-F0C0-44EF-BC7E-0B8CC85F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0F57-DB67-46E2-81D7-F586CF3B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01D-DF18-4F6D-80E3-A0DE6D57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B980-A155-42BC-9A00-5DC2E3E0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8AF7-22FB-40FC-AC7C-546DB569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1D3A-2D00-4D52-9E85-629DBEA4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5C81-1B55-407D-AFF4-DE6FDB71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E03C-BA2B-4750-B1C8-A7DCFC29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3C6-ABDB-401A-BB71-4D72782B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62B-7B74-4282-ADC6-11074917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532-6BF0-4D23-A9D8-4B52F82A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882-99D4-4FE3-A689-30A9EF70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6DC-7E7A-474C-ACED-F37609C0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5CA-B759-47D7-B6ED-1FAB8B28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372-9033-41A0-A355-65ED9C89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FD64-91CE-405C-9480-F244A17B25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3BEB-A38B-4ABB-B9E9-221E051BA605}" type="slidenum">
              <a:rPr b="0" lang="en-GB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344080" cy="3581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9336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ff0000"/>
                </a:solidFill>
                <a:latin typeface="Rockwell"/>
              </a:rPr>
              <a:t>Principles of Drug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bsorp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Picture 4" descr="pillscup"/>
          <p:cNvPicPr/>
          <p:nvPr/>
        </p:nvPicPr>
        <p:blipFill>
          <a:blip r:embed="rId1"/>
          <a:srcRect l="9550" t="42381" r="60848" b="34699"/>
          <a:stretch/>
        </p:blipFill>
        <p:spPr>
          <a:xfrm>
            <a:off x="6248520" y="50292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7360" y="1981080"/>
            <a:ext cx="7635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ctr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ral Prepara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61880" indent="0">
              <a:spcBef>
                <a:spcPts val="700"/>
              </a:spcBef>
              <a:buNone/>
              <a:tabLst>
                <a:tab algn="l" pos="0"/>
                <a:tab algn="ctr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iquids, elixirs, syrup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astest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spension solution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wder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apsule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blet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ated tablet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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nteric-coated tablet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lowe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bsorp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Factors That Affect Absorp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Administration route of the dru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Food or fluids administered with the dru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Dosage formul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Status of the absorptive surfa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Rate of blood flow to the small intesti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Acidity of the stomac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Status of GI motili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Distribu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01400"/>
            <a:ext cx="72691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transport of a drug in the body by the bloodstream to its site of ac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otein-bind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ater soluble vs. fat solub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lood-brain barr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reas of rapid distribution: heart, liver, kidneys, bra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reas of slow distribution: muscle, skin, f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irst-Pass Effec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14160"/>
            <a:ext cx="8534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The metabolism of a drug and its passage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from the liver into the circul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A drug given via the oral route may be extensively metabolized by the liver before reaching the systemic circulation (high first-pass effect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The same drug—given IV—bypasses the liver, preventing the first-pass effect from taking place, and more drug reaches the circul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etabolism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(also known as Biotransformation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10680" y="1723680"/>
            <a:ext cx="76359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The biologic transformation of a drug into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an inactive metabolite, a more soluble compound, or a more potent metabolit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Liver (main organ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Kidney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Lun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Plasm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Intestinal mucos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44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Factors that decrease metabolism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rdiovascular dysfun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nal insufficienc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rv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bstructive jaundi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rythromycin or ketoconazole drug therap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838080"/>
            <a:ext cx="82440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Factors that increase metabolism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arbiturat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ifampin therap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layed drug metabolism results in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ccumulation of dru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olonged action of the effects of the dru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xcre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47360" y="1981080"/>
            <a:ext cx="7635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elimination of drugs from the bod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idneys (main organ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iv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ow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iliary excre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nterohepatic circul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Half-Lif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time it takes for one half of the original amount of a drug in the body to be remove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measure of the rate at which drugs are removed from the bod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Pharmacodynamic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359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nse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ime it takes for the drug to elicit a therapeutic response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eak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ime it takes for a drug to reach its maximum therapeutic response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ur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time a drug concentration is sufficient to elicit a therapeutic respon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Testing of the new drugs before use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Not teratogenic ( causes birth defect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Carcinogenic ( causes cancer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Toxicity studies not harmful to body syste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It should specific in action and its mechanism of action understood as complitly as possibl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  <a:ea typeface="Tahoma"/>
              </a:rPr>
              <a:t>Optimal route of administration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harmacodynamic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7360" y="1981080"/>
            <a:ext cx="7635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 action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cellular processes involved in the drug and cell intera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rug effect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physiologic reaction of the body to the dru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receptor: are protein  that may occur on the surface of the cel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y have two important function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bind the body own chemical messenger such as hormones and neurotransmitter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convert into signals that the cell can recognize and respond t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wo important propertie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pecificity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ffini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Agonists: the ability of drug to bind receptor (drug that produce response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Antagonist: drug that blocks the action of antagonist. ( Naloxone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Partial agonist: is a drug that is able to both stimulate and block  at receptor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inciples of Drug and Dosage Administration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s may have more than one indication, i.e. each may have more than one action depending upon dos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spirin given in low doses to relieve pain &amp; high doses to suppress inflammation (arthriti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s can be administered by different routes and dosage depends on route give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al doses usually larger than injected doses and may be fatal if given by incorrect rou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ertain IV drugs can cause local injury if intravenous line becomes extravasate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Guidelines to help ensure correct administration</a:t>
            </a:r>
            <a:endParaRPr b="0" lang="en-US" sz="2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d medication order careful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rify identity of patient with drug ord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d medication label &amp; verif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itself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mount of drug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rify suitability for administration by intended rou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erify dosage calcul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se special handling if drug requir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 NOT ADMINISTER ANY DRUG IF YOU DO NOT UNDERSTAND THE REASON FOR ITS USE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rapeutic Objecti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To provid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aximum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benefit with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inimum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har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**Must also be ready to respond to interaction between drug and patient (i.e., must be aware of drug REACTIONS and SIDE EFFECTS)**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Evaluating and Promoting Therapeutic Effect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s the drug doing the right thing?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Must know rationale for treatment and the nature and time course of desired response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f do not have this then cannot make judgment of progress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If desired response do not occur then must act quickly.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Give alternative therap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Even if patient gains beneficial responses, must be aware of what drug is supposed to do, because it still might end up badly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Nifedipine: given for hypertension &amp; angina pectoris: when given to treat hypertension should monitor for reduction in blood pressure; if used for treatment of angina, need to monitor for reduction in chest pain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Minimize Adverse Effect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2952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now patient histo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derstand disease and treatment and what drug is supposed to do (again, do not give drug blindly!!!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y high risk pati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ducate pati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now adverse effects of drug and educate patien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now drug interactions with other medic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s is important part of patient histo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Promote Complianc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s must be taken correct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rong do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rong rout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rong ti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ducate patients to how to self medicate with specific instru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f elderly must also give instructions to another responsible party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lement Non-drug measures to enhance drug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reathing exercises, biofeedback, emotional support, exercise, physical therapy, rest, weight reduction, stop smoking, and sodium restriction (must evaluate individual patient for specific need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atient Education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name and therapeutic category (penicillin &amp; antibiotic)- give generic name and trade na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sage siz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sing schedule (PRN not fixed)-what to do if missed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oute and technique of administra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xpected therapeutic response and when it should develop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n drug measures to enhance therapeutic respons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uration of treat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ethod of drug stor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nimal Tri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1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the drug is tested on healthy volunteer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2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involves trials with human subjects who have the diseas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3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large number of patients receive drug to provide information about adverse effec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Phase 4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: post market surveillance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4" descr="bd06982_"/>
          <p:cNvPicPr/>
          <p:nvPr/>
        </p:nvPicPr>
        <p:blipFill>
          <a:blip r:embed="rId1"/>
          <a:stretch/>
        </p:blipFill>
        <p:spPr>
          <a:xfrm>
            <a:off x="6858000" y="52578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an01266_"/>
          <p:cNvPicPr/>
          <p:nvPr/>
        </p:nvPicPr>
        <p:blipFill>
          <a:blip r:embed="rId2"/>
          <a:stretch/>
        </p:blipFill>
        <p:spPr>
          <a:xfrm>
            <a:off x="7523280" y="914400"/>
            <a:ext cx="1620720" cy="1725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bd00001_"/>
          <p:cNvPicPr/>
          <p:nvPr/>
        </p:nvPicPr>
        <p:blipFill>
          <a:blip r:embed="rId3"/>
          <a:stretch/>
        </p:blipFill>
        <p:spPr>
          <a:xfrm>
            <a:off x="7848720" y="3048120"/>
            <a:ext cx="1295280" cy="1522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52360" y="125280"/>
            <a:ext cx="824400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s of new drug developments (FDA)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Pharmacology and the Nursing Proces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ing Proces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1) assess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) nursing diagnosi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3) planning- individual for each pati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) implementation- some collaborative wit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hysician and others are independ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) evaluation- degree to which drug therapy i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uccessfu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Pre-administration Assessment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ablishes the baseline data needed to tailor drug therapy to the individual patient: maximizes benefits and minimizes harmful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lection of baseline data needed to evaluate therapeutic responses- beneficial: know the symptoms so you know what baseline data to collec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lood chemistry profil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lood pressu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gan enzyme levels (heart, liver, kidney,…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lection of baseline data needed to evaluate adverse effect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en without baseline data, adverse affects may be obvious (hair loss, pain, vomiting, insomni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ess obvious are organ functions (liver, kidney,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ication of high risk patient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pends on symptoms and drug chosen (if patient has kidney dysfunction and drug is eliminated primarily through kidney, then drug will accumulate and may be toxic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aired kidney &amp; liv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ssessment of patient’s capacity for self-care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ust be willing and able to administer drugs in correct dosage and at correct ti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aluate patient intelligen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physical capacity to self administ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ental illness (will they take drug?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inancial ability to pay for and get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ligious beliefs concerning drugs and medic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nderstanding of patient that drug is needed in prescribed amount (even when they feel better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ssess and discuss with physici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ing Diagnoses and Analysis of Drug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Judge appropriateness of prescribed regim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y potential health problems that drug might cau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termine patient’s capacity for self ca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e can question appropriateness of drug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ust know action of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ntraindications of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tential benefits vs adverse reactions to dru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histor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otential interactions of drug with other medica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lann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fine goals: goal of drug therapy is to provide maximum benefit with minimal harm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ablish Priorities: requires knowledge of drug put together with patient’s unique history. 1st priority is life threatening conditions and reactions that cause acute discomfort that ends in long-term har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ntifying intervention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administr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enhance drug effectivenes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minimize adverse effects and intera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educ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tablish criteria for evaluation: is drug working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mplementation of care pla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rug administr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ient educ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ventions to promote therapeutic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terventions to minimize adverse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rapeutic respons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dverse drug reactions and interac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mpliance to regime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atisfactions with treatmen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ow frequent do you evaluate?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pends on ….. ??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valuation by lab tests- baseline data vs current dat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Resources for Drug Informat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harmacoped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fficial resourc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 Pharmacopedia, British Pharmacoped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mpend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on Officia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merican Formulary, Facts &amp; Comparisons, USP Dispensing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Journal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ursing 2005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J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ursing Reference Book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eb sit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6" descr="bd04882_"/>
          <p:cNvPicPr/>
          <p:nvPr/>
        </p:nvPicPr>
        <p:blipFill>
          <a:blip r:embed="rId1"/>
          <a:stretch/>
        </p:blipFill>
        <p:spPr>
          <a:xfrm>
            <a:off x="5070600" y="4343400"/>
            <a:ext cx="4073400" cy="2249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d06966_"/>
          <p:cNvPicPr/>
          <p:nvPr/>
        </p:nvPicPr>
        <p:blipFill>
          <a:blip r:embed="rId2"/>
          <a:stretch/>
        </p:blipFill>
        <p:spPr>
          <a:xfrm>
            <a:off x="7238880" y="9144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28600" y="168120"/>
            <a:ext cx="8621640" cy="6464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8001000" y="5410080"/>
            <a:ext cx="61596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7720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harmacokinetic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bsorp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stribu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etabolis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cre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6" descr="kinitics"/>
          <p:cNvPicPr/>
          <p:nvPr/>
        </p:nvPicPr>
        <p:blipFill>
          <a:blip r:embed="rId1"/>
          <a:stretch/>
        </p:blipFill>
        <p:spPr>
          <a:xfrm>
            <a:off x="3886200" y="16002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1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Absorption: means the transfer of the drug from the external to the internal environment of the bod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rcRect l="500" t="1394" r="500" b="6422"/>
          <a:stretch/>
        </p:blipFill>
        <p:spPr>
          <a:xfrm>
            <a:off x="0" y="137160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27:03Z</dcterms:created>
  <dc:creator>AHMAD RAWHI</dc:creator>
  <dc:description/>
  <dc:language>en-US</dc:language>
  <cp:lastModifiedBy>Alharbi</cp:lastModifiedBy>
  <cp:lastPrinted>2016-01-20T09:16:04Z</cp:lastPrinted>
  <dcterms:modified xsi:type="dcterms:W3CDTF">2016-01-27T07:31:3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