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385128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1080" y="-360"/>
            <a:ext cx="29466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1080" y="9429840"/>
            <a:ext cx="29466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499C-7ED7-4EB2-9FEC-5D5B9571CAE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1440" y="9429840"/>
            <a:ext cx="29466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BE44-4BDC-4DD1-861E-AB94B53BA87C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1440" y="9429840"/>
            <a:ext cx="29466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4E3F-B5F9-4158-A393-332774DCEEAA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E78-B4CC-4158-8B30-97633C54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03D5-7708-4A54-9A28-7B997742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0319-4CB4-440D-A705-925FEA9C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8734-615A-485B-9F4C-7BA48041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D40F-4F41-4691-9F5F-7A1116DB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5D34-8A2E-4B4B-9EC8-471065B5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512D-0E05-418D-8BEB-B6DBE949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562D-D4A1-4578-A6D4-3022DE9F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CF59-8791-4ABB-8383-B7A20122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19F6-B367-47B5-9B8C-9A1305A4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D07D-810D-43CE-8F8A-B3B01341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518F-E196-4112-9671-F0B5E110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C3E6-A611-4F49-81EB-F75CCFB5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6C41-BA73-438D-A925-F14278D6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6C8E-7DB8-402E-802F-767B5C83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B28B-79B4-4904-A621-F4263CF1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BEF1-FBDA-4666-808B-852AC8D1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213-AE06-4694-A7A3-CB6EFE1F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D0FA-3BD5-49D8-9733-8808C60F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CF85-F276-4ED6-8979-01938D3C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CE7-9D51-434C-BCF5-16758C1B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7C4-C3AA-4D07-BC9F-25929286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2E5-A503-499A-A013-5206066C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20C-F0C2-4AC9-819E-D0CC67F5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225D-E11B-4C32-BC5B-BD4914A88E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9D9F-AB89-49CB-8F87-10DF6ED09EBC}" type="slidenum">
              <a:rPr b="0" lang="en-GB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8344080" cy="3581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9336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200" spc="-1" strike="noStrike">
                <a:solidFill>
                  <a:srgbClr val="ff0000"/>
                </a:solidFill>
                <a:latin typeface="Rockwell"/>
              </a:rPr>
              <a:t>Principles of Drugs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bsorp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9" name="Picture 4" descr="pillscup"/>
          <p:cNvPicPr/>
          <p:nvPr/>
        </p:nvPicPr>
        <p:blipFill>
          <a:blip r:embed="rId1"/>
          <a:srcRect l="9550" t="42381" r="60848" b="34699"/>
          <a:stretch/>
        </p:blipFill>
        <p:spPr>
          <a:xfrm>
            <a:off x="6248520" y="50292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7360" y="1981080"/>
            <a:ext cx="763596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ctr" pos="5891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ral Prepara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61880" indent="0">
              <a:spcBef>
                <a:spcPts val="700"/>
              </a:spcBef>
              <a:buNone/>
              <a:tabLst>
                <a:tab algn="l" pos="0"/>
                <a:tab algn="ctr" pos="5891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iquids, elixirs, syrup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astest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uspension solution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owder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apsule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ablet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ated tablet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nteric-coated tablet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lowes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Absorp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Factors That Affect Absorp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Administration route of the dru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Food or fluids administered with the dru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Dosage formula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Status of the absorptive surfa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Rate of blood flow to the small intestin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Acidity of the stomac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Status of GI motilit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spcBef>
                <a:spcPts val="165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Distribu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01400"/>
            <a:ext cx="72691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transport of a drug in the body by the bloodstream to its site of actio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otein-bind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ater soluble vs. fat solub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lood-brain barri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reas of rapid distribution: heart, liver, kidneys, brai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reas of slow distribution: muscle, skin, fa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irst-Pass Effec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14160"/>
            <a:ext cx="8534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The metabolism of a drug and its passage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from the liver into the circul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A drug given via the oral route may be extensively metabolized by the liver before reaching the systemic circulation (high first-pass effect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The same drug—given IV—bypasses the liver, preventing the first-pass effect from taking place, and more drug reaches the circul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tabolism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(also known as Biotransformation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10680" y="1723680"/>
            <a:ext cx="763596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The biologic transformation of a drug into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an inactive metabolite, a more soluble compound, or a more potent metabolit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Liver (main organ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Kidney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Lung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Plasm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Intestinal mucos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440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Factors that decrease metabolism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ardiovascular dysfunc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nal insufficienc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arv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bstructive jaundi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rythromycin or ketoconazole drug therap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838080"/>
            <a:ext cx="82440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Factors that increase metabolism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arbiturat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ifampin therap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layed drug metabolism results in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ccumulation of drug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olonged action of the effects of the drug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Excre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47360" y="1981080"/>
            <a:ext cx="763596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elimination of drugs from the bod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Kidneys (main organ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iv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ow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iliary excre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nterohepatic circula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Half-Lif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time it takes for one half of the original amount of a drug in the body to be remove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measure of the rate at which drugs are removed from the bod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Pharmacodynamic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359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nse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time it takes for the drug to elicit a therapeutic response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eak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time it takes for a drug to reach its maximum therapeutic response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ur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time a drug concentration is sufficient to elicit a therapeutic respon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Testing of the new drugs before use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  <a:ea typeface="Tahoma"/>
              </a:rPr>
              <a:t>Not teratogenic ( causes birth defect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  <a:ea typeface="Tahoma"/>
              </a:rPr>
              <a:t>Carcinogenic ( causes cancer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  <a:ea typeface="Tahoma"/>
              </a:rPr>
              <a:t>Toxicity studies not harmful to body system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  <a:ea typeface="Tahoma"/>
              </a:rPr>
              <a:t>It should specific in action and its mechanism of action understood as complitly as possibl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  <a:ea typeface="Tahoma"/>
              </a:rPr>
              <a:t>Optimal route of administration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harmacodynamic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7360" y="1981080"/>
            <a:ext cx="763596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rug action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cellular processes involved in the drug and cell interac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rug effect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physiologic reaction of the body to the dru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receptor: are protein  that may occur on the surface of the cel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y have two important functions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bind the body own chemical messenger such as hormones and neurotransmitter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convert into signals that the cell can recognize and respond t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wo important properties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pecificity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ffinit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Agonists: the ability of drug to bind receptor (drug that produce response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Antagonist: drug that blocks the action of antagonist. ( Naloxone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Partial agonist: is a drug that is able to both stimulate and block  at receptor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rinciples of Drug and Dosage Administration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s may have more than one indication, i.e. each may have more than one action depending upon dos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spirin given in low doses to relieve pain &amp; high doses to suppress inflammation (arthriti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s can be administered by different routes and dosage depends on route give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ral doses usually larger than injected doses and may be fatal if given by incorrect rout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ertain IV drugs can cause local injury if intravenous line becomes extravasated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Guidelines to help ensure correct administration</a:t>
            </a:r>
            <a:endParaRPr b="0" lang="en-US" sz="2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ad medication order carefull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erify identity of patient with drug orde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ad medication label &amp; verify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 itself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mount of drug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erify suitability for administration by intended rout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erify dosage calcula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se special handling if drug requir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 NOT ADMINISTER ANY DRUG IF YOU DO NOT UNDERSTAND THE REASON FOR ITS USE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rapeutic Objectiv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To provid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maximum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benefit with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minimum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harm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**Must also be ready to respond to interaction between drug and patient (i.e., must be aware of drug REACTIONS and SIDE EFFECTS)**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Evaluating and Promoting Therapeutic Effect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Is the drug doing the right thing?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Must know rationale for treatment and the nature and time course of desired response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If do not have this then cannot make judgment of progress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If desired response do not occur then must act quickly.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Give alternative therapy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Even if patient gains beneficial responses, must be aware of what drug is supposed to do, because it still might end up badly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Nifedipine: given for hypertension &amp; angina pectoris: when given to treat hypertension should monitor for reduction in blood pressure; if used for treatment of angina, need to monitor for reduction in chest pain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inimize Adverse Effect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2952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now patient histor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nderstand disease and treatment and what drug is supposed to do (again, do not give drug blindly!!!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dentify high risk pati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ducate pati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now adverse effects of drug and educate patient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now drug interactions with other medica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s is important part of patient histor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romote Complianc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s must be taken correctl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rong do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rong rout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rong tim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ducate patients to how to self medicate with specific instruc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f elderly must also give instructions to another responsible party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mplement Non-drug measures to enhance drug effec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reathing exercises, biofeedback, emotional support, exercise, physical therapy, rest, weight reduction, stop smoking, and sodium restriction (must evaluate individual patient for specific need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atient Education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 name and therapeutic category (penicillin &amp; antibiotic)- give generic name and trade nam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sage siz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sing schedule (PRN not fixed)-what to do if missed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oute and technique of administratio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xpected therapeutic response and when it should develop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on drug measures to enhance therapeutic respons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uration of treatm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ethod of drug stor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nimal Tria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Phase 1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: the drug is tested on healthy volunteer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Phase 2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: involves trials with human subjects who have the diseas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Phase 3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: large number of patients receive drug to provide information about adverse effec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Phase 4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: post market surveillance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Picture 4" descr="bd06982_"/>
          <p:cNvPicPr/>
          <p:nvPr/>
        </p:nvPicPr>
        <p:blipFill>
          <a:blip r:embed="rId1"/>
          <a:stretch/>
        </p:blipFill>
        <p:spPr>
          <a:xfrm>
            <a:off x="6858000" y="525780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an01266_"/>
          <p:cNvPicPr/>
          <p:nvPr/>
        </p:nvPicPr>
        <p:blipFill>
          <a:blip r:embed="rId2"/>
          <a:stretch/>
        </p:blipFill>
        <p:spPr>
          <a:xfrm>
            <a:off x="7523280" y="914400"/>
            <a:ext cx="1620720" cy="1725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bd00001_"/>
          <p:cNvPicPr/>
          <p:nvPr/>
        </p:nvPicPr>
        <p:blipFill>
          <a:blip r:embed="rId3"/>
          <a:stretch/>
        </p:blipFill>
        <p:spPr>
          <a:xfrm>
            <a:off x="7848720" y="3048120"/>
            <a:ext cx="1295280" cy="15224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252360" y="125280"/>
            <a:ext cx="824400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s of new drug developments (FDA) 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Pharmacology and the Nursing Proces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ursing Proces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1) assessm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2) nursing diagnosi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3) planning- individual for each pati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4) implementation- some collaborative wit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hysician and others are independ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5) evaluation- degree to which drug therapy i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uccessfu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re-administration Assessment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stablishes the baseline data needed to tailor drug therapy to the individual patient: maximizes benefits and minimizes harmful effec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llection of baseline data needed to evaluate therapeutic responses- beneficial: know the symptoms so you know what baseline data to collec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lood chemistry profil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lood pressur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rgan enzyme levels (heart, liver, kidney,…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llection of baseline data needed to evaluate adverse effect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ven without baseline data, adverse affects may be obvious (hair loss, pain, vomiting, insomnia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Less obvious are organ functions (liver, kidney,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dentification of high risk patient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pends on symptoms and drug chosen (if patient has kidney dysfunction and drug is eliminated primarily through kidney, then drug will accumulate and may be toxic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mpaired kidney &amp; liv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ssessment of patient’s capacity for self-care-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ust be willing and able to administer drugs in correct dosage and at correct tim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valuate patient intelligenc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atient physical capacity to self administ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ental illness (will they take drug?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inancial ability to pay for and get dru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ligious beliefs concerning drugs and medica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nderstanding of patient that drug is needed in prescribed amount (even when they feel better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ssess and discuss with physicia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ursing Diagnoses and Analysis of Drug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Judge appropriateness of prescribed regim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dentify potential health problems that drug might cau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termine patient’s capacity for self car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urse can question appropriateness of drug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ust know action of dru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ntraindications of dru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otential benefits vs adverse reactions to dru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atient histor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otential interactions of drug with other medica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lann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fine goals: goal of drug therapy is to provide maximum benefit with minimal harm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stablish Priorities: requires knowledge of drug put together with patient’s unique history. 1st priority is life threatening conditions and reactions that cause acute discomfort that ends in long-term har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dentifying intervention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 administr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enhance drug effectivenes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minimize adverse effects and interac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atient educ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stablish criteria for evaluation: is drug working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mplementation of care pla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 administr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atient educ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terventions to promote therapeutic effec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terventions to minimize adverse effec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rapeutic respons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dverse drug reactions and interac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mpliance to regime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atisfactions with treatm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ow frequent do you evaluate?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pends on ….. ??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valuation by lab tests- baseline data vs current dat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Resources for Drug Information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harmacopedi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Official resourc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S Pharmacopedia, British Pharmacopedi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mpendi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on Officia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merican Formulary, Facts &amp; Comparisons, USP Dispensing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Journal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ursing 2005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J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ursing Reference Book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Web sit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6" descr="bd04882_"/>
          <p:cNvPicPr/>
          <p:nvPr/>
        </p:nvPicPr>
        <p:blipFill>
          <a:blip r:embed="rId1"/>
          <a:stretch/>
        </p:blipFill>
        <p:spPr>
          <a:xfrm>
            <a:off x="5070600" y="4343400"/>
            <a:ext cx="4073400" cy="2249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bd06966_"/>
          <p:cNvPicPr/>
          <p:nvPr/>
        </p:nvPicPr>
        <p:blipFill>
          <a:blip r:embed="rId2"/>
          <a:stretch/>
        </p:blipFill>
        <p:spPr>
          <a:xfrm>
            <a:off x="7238880" y="91440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28600" y="168120"/>
            <a:ext cx="8621640" cy="6464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8001000" y="5410080"/>
            <a:ext cx="61596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7720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harmacokinetic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bsorp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stribu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etabolis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cre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6" descr="kinitics"/>
          <p:cNvPicPr/>
          <p:nvPr/>
        </p:nvPicPr>
        <p:blipFill>
          <a:blip r:embed="rId1"/>
          <a:stretch/>
        </p:blipFill>
        <p:spPr>
          <a:xfrm>
            <a:off x="3886200" y="16002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1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Absorption: means the transfer of the drug from the external to the internal environment of the bod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rcRect l="500" t="1394" r="500" b="6422"/>
          <a:stretch/>
        </p:blipFill>
        <p:spPr>
          <a:xfrm>
            <a:off x="0" y="1371600"/>
            <a:ext cx="876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3:27:03Z</dcterms:created>
  <dc:creator>AHMAD RAWHI</dc:creator>
  <dc:description/>
  <dc:language>en-US</dc:language>
  <cp:lastModifiedBy>Alharbi</cp:lastModifiedBy>
  <cp:lastPrinted>2016-01-20T09:16:04Z</cp:lastPrinted>
  <dcterms:modified xsi:type="dcterms:W3CDTF">2016-01-27T07:31:3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