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385128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1080" y="-360"/>
            <a:ext cx="29466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64960" y="1240920"/>
            <a:ext cx="446724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385128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1080" y="9429840"/>
            <a:ext cx="294660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AA14-5608-47DE-9DC7-0E28C9A3D44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1440" y="9429840"/>
            <a:ext cx="29466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F62F-BD86-477D-B317-E5C6FCB256EA}" type="slidenum">
              <a:rPr b="0" lang="en-US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1440" y="9429840"/>
            <a:ext cx="29466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0840-BAFF-41DD-9F4F-BED3C1B8361F}" type="slidenum">
              <a:rPr b="0" lang="en-US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B9AC-14DA-4E2A-A714-AE5D5DD00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67EF-614A-4961-B14F-CACC0DC3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FA11-6E06-4C59-8154-5CB781A72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D8D8-AF35-48E6-9AF1-35D305B0C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F58C-3B0F-431E-A2AE-378857518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8B99E-E886-43B0-9090-1AA9D2FE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DFE8-1A55-4026-989D-F3F2D69F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928A7-4A19-4F54-A694-C9B4AB6B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93BB1-706E-494B-80D1-48FA9E71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8DE3-D21E-4B84-85D8-31B0612A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EFCFD-16DA-4145-9A39-317C3F07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C694-ACB9-40C6-BB7C-13CB2299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EC84-8E00-41E3-B58D-182C7B9E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018AE-6C2D-4C69-96B3-0C7EF361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B6A8A-614F-447E-A1FA-89E112EB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AEE6-1E40-42BA-9C17-93CD29F53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35CB-D92A-44C2-99E3-D443C19D3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3E17-9F6A-496F-A307-929A701A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D5DF-63B6-4550-BD11-B44E3D74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B891-4FE4-4A0E-A878-BCA9F91D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0BA7-EDB9-45F5-AF64-BDB9F59C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55F3-E3A7-4DC8-840C-5CA59552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1A6D-7BB7-443E-B89D-13817476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E017-64CC-4007-A0FE-34FEE3CA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908D-8F80-4500-A1EB-B939B0EFAE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8B35-6CA4-452D-A4A6-022D8DC5F4A8}" type="slidenum">
              <a:rPr b="0" lang="en-GB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457200"/>
            <a:ext cx="8344080" cy="3581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99336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200" spc="-1" strike="noStrike">
                <a:solidFill>
                  <a:srgbClr val="ff0000"/>
                </a:solidFill>
                <a:latin typeface="Rockwell"/>
              </a:rPr>
              <a:t>Principles of Drugs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bsorptio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9" name="Picture 4" descr="pillscup"/>
          <p:cNvPicPr/>
          <p:nvPr/>
        </p:nvPicPr>
        <p:blipFill>
          <a:blip r:embed="rId1"/>
          <a:srcRect l="9550" t="42381" r="60848" b="34699"/>
          <a:stretch/>
        </p:blipFill>
        <p:spPr>
          <a:xfrm>
            <a:off x="6248520" y="5029200"/>
            <a:ext cx="2895480" cy="18288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47360" y="1981080"/>
            <a:ext cx="7635960" cy="43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ctr" pos="5891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Oral Preparation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61880" indent="0">
              <a:spcBef>
                <a:spcPts val="700"/>
              </a:spcBef>
              <a:buNone/>
              <a:tabLst>
                <a:tab algn="l" pos="0"/>
                <a:tab algn="ctr" pos="5891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Liquids, elixirs, syrups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astest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uspension solutions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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owders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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apsules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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ablets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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oated tablets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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Enteric-coated tablets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lowes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Absorptio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  <a:ea typeface="Tahoma"/>
              </a:rPr>
              <a:t>Factors That Affect Absorpt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  <a:ea typeface="Tahoma"/>
              </a:rPr>
              <a:t>Administration route of the dru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  <a:ea typeface="Tahoma"/>
              </a:rPr>
              <a:t>Food or fluids administered with the dru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  <a:ea typeface="Tahoma"/>
              </a:rPr>
              <a:t>Dosage formulatio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  <a:ea typeface="Tahoma"/>
              </a:rPr>
              <a:t>Status of the absorptive surfac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  <a:ea typeface="Tahoma"/>
              </a:rPr>
              <a:t>Rate of blood flow to the small intestin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  <a:ea typeface="Tahoma"/>
              </a:rPr>
              <a:t>Acidity of the stomach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  <a:ea typeface="Tahoma"/>
              </a:rPr>
              <a:t>Status of GI motilit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spcBef>
                <a:spcPts val="1650"/>
              </a:spcBef>
              <a:spcAft>
                <a:spcPts val="16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Distributio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301400"/>
            <a:ext cx="726912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e transport of a drug in the body by the bloodstream to its site of action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rotein-bindin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ater soluble vs. fat solubl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Blood-brain barrie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reas of rapid distribution: heart, liver, kidneys, brai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reas of slow distribution: muscle, skin, fa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spcAft>
                <a:spcPts val="16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First-Pass Effec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14160"/>
            <a:ext cx="8534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ahoma"/>
                <a:ea typeface="Tahoma"/>
              </a:rPr>
              <a:t>The metabolism of a drug and its passage </a:t>
            </a:r>
            <a:br>
              <a:rPr sz="3200"/>
            </a:br>
            <a:r>
              <a:rPr b="0" lang="en-US" sz="3200" spc="-1" strike="noStrike">
                <a:solidFill>
                  <a:srgbClr val="006699"/>
                </a:solidFill>
                <a:latin typeface="Tahoma"/>
                <a:ea typeface="Tahoma"/>
              </a:rPr>
              <a:t>from the liver into the circulatio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ahoma"/>
                <a:ea typeface="Tahoma"/>
              </a:rPr>
              <a:t>A drug given via the oral route may be extensively metabolized by the liver before reaching the systemic circulation (high first-pass effect)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ahoma"/>
                <a:ea typeface="Tahoma"/>
              </a:rPr>
              <a:t>The same drug—given IV—bypasses the liver, preventing the first-pass effect from taking place, and more drug reaches the circulatio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Metabolism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(also known as Biotransformation)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10680" y="1723680"/>
            <a:ext cx="763596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  <a:ea typeface="Tahoma"/>
              </a:rPr>
              <a:t>The biologic transformation of a drug into 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Tahoma"/>
                <a:ea typeface="Tahoma"/>
              </a:rPr>
              <a:t>an inactive metabolite, a more soluble compound, or a more potent metabolite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  <a:ea typeface="Tahoma"/>
              </a:rPr>
              <a:t>Liver (main organ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  <a:ea typeface="Tahoma"/>
              </a:rPr>
              <a:t>Kidney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  <a:ea typeface="Tahoma"/>
              </a:rPr>
              <a:t>Lung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  <a:ea typeface="Tahoma"/>
              </a:rPr>
              <a:t>Plasm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  <a:ea typeface="Tahoma"/>
              </a:rPr>
              <a:t>Intestinal mucos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2440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Factors that decrease metabolism: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ardiovascular dysfunct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Renal insufficienc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tarvat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Obstructive jaundic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rythromycin or ketoconazole drug therap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838080"/>
            <a:ext cx="82440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Factors that increase metabolism: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Barbiturat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Rifampin therap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elayed drug metabolism results in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spcAft>
                <a:spcPts val="876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ccumulation of drug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spcAft>
                <a:spcPts val="876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rolonged action of the effects of the drug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Excretio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47360" y="1981080"/>
            <a:ext cx="7635960" cy="43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e elimination of drugs from the bod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Kidneys (main organ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Liver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Bow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Biliary excretio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Enterohepatic circulatio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Half-Life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e time it takes for one half of the original amount of a drug in the body to be removed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 measure of the rate at which drugs are removed from the body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000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Pharmacodynamic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63596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nse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e time it takes for the drug to elicit a therapeutic response</a:t>
            </a:r>
            <a:br>
              <a:rPr sz="2400"/>
            </a:b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eak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e time it takes for a drug to reach its maximum therapeutic response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uratio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e time a drug concentration is sufficient to elicit a therapeutic respons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66"/>
                </a:solidFill>
                <a:latin typeface="Verdana"/>
              </a:rPr>
              <a:t>Testing of the new drugs before use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Tahoma"/>
                <a:ea typeface="Tahoma"/>
              </a:rPr>
              <a:t>Not teratogenic ( causes birth defect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Tahoma"/>
                <a:ea typeface="Tahoma"/>
              </a:rPr>
              <a:t>Carcinogenic ( causes cancer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Tahoma"/>
                <a:ea typeface="Tahoma"/>
              </a:rPr>
              <a:t>Toxicity studies not harmful to body system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Tahoma"/>
                <a:ea typeface="Tahoma"/>
              </a:rPr>
              <a:t>It should specific in action and its mechanism of action understood as complitly as possible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Tahoma"/>
                <a:ea typeface="Tahoma"/>
              </a:rPr>
              <a:t>Optimal route of administration</a:t>
            </a: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harmacodynamic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47360" y="1981080"/>
            <a:ext cx="7635960" cy="43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rug actions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e cellular processes involved in the drug and cell interact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rug effect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e physiologic reaction of the body to the drug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e receptor: are protein  that may occur on the surface of the cell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ey have two important functions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o bind the body own chemical messenger such as hormones and neurotransmitter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o convert into signals that the cell can recognize and respond to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wo important properties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pecificity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ffinit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Agonists: the ability of drug to bind receptor (drug that produce response)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Antagonist: drug that blocks the action of antagonist. ( Naloxone)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Partial agonist: is a drug that is able to both stimulate and block  at receptor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Principles of Drug and Dosage Administration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5228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rugs may have more than one indication, i.e. each may have more than one action depending upon dosag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spirin given in low doses to relieve pain &amp; high doses to suppress inflammation (arthritis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rugs can be administered by different routes and dosage depends on route given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ral doses usually larger than injected doses and may be fatal if given by incorrect rout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ertain IV drugs can cause local injury if intravenous line becomes extravasated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Guidelines to help ensure correct administration</a:t>
            </a:r>
            <a:endParaRPr b="0" lang="en-US" sz="29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Read medication order carefull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Verify identity of patient with drug order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Read medication label &amp; verify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rug itself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mount of drug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Verify suitability for administration by intended rout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Verify dosage calculation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se special handling if drug requir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O NOT ADMINISTER ANY DRUG IF YOU DO NOT UNDERSTAND THE REASON FOR ITS USE</a:t>
            </a:r>
            <a:br>
              <a:rPr sz="2400"/>
            </a:b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erapeutic Objectiv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- To provid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maximum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benefit with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minimum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harm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**Must also be ready to respond to interaction between drug and patient (i.e., must be aware of drug REACTIONS and SIDE EFFECTS)**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Evaluating and Promoting Therapeutic Effects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Is the drug doing the right thing?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Must know rationale for treatment and the nature and time course of desired response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If do not have this then cannot make judgment of progress 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If desired response do not occur then must act quickly. 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Give alternative therapy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Even if patient gains beneficial responses, must be aware of what drug is supposed to do, because it still might end up badly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Nifedipine: given for hypertension &amp; angina pectoris: when given to treat hypertension should monitor for reduction in blood pressure; if used for treatment of angina, need to monitor for reduction in chest pain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Minimize Adverse Effects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295280"/>
            <a:ext cx="82296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Know patient histor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nderstand disease and treatment and what drug is supposed to do (again, do not give drug blindly!!!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dentify high risk patien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Educate patien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Know adverse effects of drug and educate patient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Know drug interactions with other medication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s is important part of patient histor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Promote Complianc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6840" y="99036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rugs must be taken correctl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Wrong dos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Wrong rout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Wrong tim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Educate patients to how to self medicate with specific instruction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f elderly must also give instructions to another responsible party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mplement Non-drug measures to enhance drug effect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Breathing exercises, biofeedback, emotional support, exercise, physical therapy, rest, weight reduction, stop smoking, and sodium restriction (must evaluate individual patient for specific needs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Patient Education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rug name and therapeutic category (penicillin &amp; antibiotic)- give generic name and trade nam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osage siz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osing schedule (PRN not fixed)-what to do if missed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Route and technique of administration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Expected therapeutic response and when it should develop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on drug measures to enhance therapeutic respons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uration of treatmen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ethod of drug storag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52280" y="1143000"/>
            <a:ext cx="8229600" cy="49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nimal Trial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Phase 1</a:t>
            </a: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: the drug is tested on healthy volunteer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Phase 2</a:t>
            </a: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: involves trials with human subjects who have the diseas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Phase 3</a:t>
            </a: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: large number of patients receive drug to provide information about adverse effect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Phase 4</a:t>
            </a: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: post market surveillance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8" name="Picture 4" descr="bd06982_"/>
          <p:cNvPicPr/>
          <p:nvPr/>
        </p:nvPicPr>
        <p:blipFill>
          <a:blip r:embed="rId1"/>
          <a:stretch/>
        </p:blipFill>
        <p:spPr>
          <a:xfrm>
            <a:off x="6858000" y="5257800"/>
            <a:ext cx="2286000" cy="1600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an01266_"/>
          <p:cNvPicPr/>
          <p:nvPr/>
        </p:nvPicPr>
        <p:blipFill>
          <a:blip r:embed="rId2"/>
          <a:stretch/>
        </p:blipFill>
        <p:spPr>
          <a:xfrm>
            <a:off x="7523280" y="914400"/>
            <a:ext cx="1620720" cy="1725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bd00001_"/>
          <p:cNvPicPr/>
          <p:nvPr/>
        </p:nvPicPr>
        <p:blipFill>
          <a:blip r:embed="rId3"/>
          <a:stretch/>
        </p:blipFill>
        <p:spPr>
          <a:xfrm>
            <a:off x="7848720" y="3048120"/>
            <a:ext cx="1295280" cy="15224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252360" y="125280"/>
            <a:ext cx="824400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ses of new drug developments (FDA) 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Pharmacology and the Nursing Process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ursing Proces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1) assessmen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2) nursing diagnosi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3) planning- individual for each patien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4) implementation- some collaborative with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hysician and others are independen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5) evaluation- degree to which drug therapy i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uccessfu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Pre-administration Assessment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Establishes the baseline data needed to tailor drug therapy to the individual patient: maximizes benefits and minimizes harmful effect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ollection of baseline data needed to evaluate therapeutic responses- beneficial: know the symptoms so you know what baseline data to collec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blood chemistry profil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Blood pressur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rgan enzyme levels (heart, liver, kidney,…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ollection of baseline data needed to evaluate adverse effects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Even without baseline data, adverse affects may be obvious (hair loss, pain, vomiting, insomnia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Less obvious are organ functions (liver, kidney,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dentification of high risk patients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epends on symptoms and drug chosen (if patient has kidney dysfunction and drug is eliminated primarily through kidney, then drug will accumulate and may be toxic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mpaired kidney &amp; liver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ssessment of patient’s capacity for self-care-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ust be willing and able to administer drugs in correct dosage and at correct tim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Evaluate patient intelligenc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atient physical capacity to self administer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ental illness (will they take drug?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Financial ability to pay for and get dru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Religious beliefs concerning drugs and medication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nderstanding of patient that drug is needed in prescribed amount (even when they feel better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ssess and discuss with physicia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ursing Diagnoses and Analysis of Drug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Judge appropriateness of prescribed regim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dentify potential health problems that drug might caus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etermine patient’s capacity for self car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urse can question appropriateness of drug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ust know action of dru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ontraindications of dru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otential benefits vs adverse reactions to dru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atient histor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otential interactions of drug with other medication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lannin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efine goals: goal of drug therapy is to provide maximum benefit with minimal harm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Establish Priorities: requires knowledge of drug put together with patient’s unique history. 1st priority is life threatening conditions and reactions that cause acute discomfort that ends in long-term harm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dentifying interventions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rug administratio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o enhance drug effectivenes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o minimize adverse effects and interaction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atient educatio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Establish criteria for evaluation: is drug working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30492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mplementation of care pla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rug administratio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atient educatio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nterventions to promote therapeutic effect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nterventions to minimize adverse effect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erapeutic respons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dverse drug reactions and interaction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ompliance to regime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atisfactions with treatmen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How frequent do you evaluate?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epends on ….. ??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Evaluation by lab tests- baseline data vs current dat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Resources for Drug Information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Pharmacopedi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Official resourc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US Pharmacopedia, British Pharmacopedi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Compendi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Non Officia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American Formulary, Facts &amp; Comparisons, USP Dispensing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Journal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Nursing 2005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AJN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RN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Nursing Reference Book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Web site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4" name="Picture 6" descr="bd04882_"/>
          <p:cNvPicPr/>
          <p:nvPr/>
        </p:nvPicPr>
        <p:blipFill>
          <a:blip r:embed="rId1"/>
          <a:stretch/>
        </p:blipFill>
        <p:spPr>
          <a:xfrm>
            <a:off x="5070600" y="4343400"/>
            <a:ext cx="4073400" cy="22496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bd06966_"/>
          <p:cNvPicPr/>
          <p:nvPr/>
        </p:nvPicPr>
        <p:blipFill>
          <a:blip r:embed="rId2"/>
          <a:stretch/>
        </p:blipFill>
        <p:spPr>
          <a:xfrm>
            <a:off x="7238880" y="914400"/>
            <a:ext cx="19051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228600" y="168120"/>
            <a:ext cx="8621640" cy="6464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2"/>
          <a:stretch/>
        </p:blipFill>
        <p:spPr>
          <a:xfrm>
            <a:off x="8001000" y="5410080"/>
            <a:ext cx="615960" cy="77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8377200" cy="64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harmacokinetic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bsorpt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istribut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Metabolism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xcret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3" name="Picture 6" descr="kinitics"/>
          <p:cNvPicPr/>
          <p:nvPr/>
        </p:nvPicPr>
        <p:blipFill>
          <a:blip r:embed="rId1"/>
          <a:stretch/>
        </p:blipFill>
        <p:spPr>
          <a:xfrm>
            <a:off x="3886200" y="1600200"/>
            <a:ext cx="5257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6" dur="1" fill="hold"/>
                                  <p:tgtEl>
                                    <p:spTgt spid="1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Absorption: means the transfer of the drug from the external to the internal environment of the body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rcRect l="500" t="1394" r="500" b="6422"/>
          <a:stretch/>
        </p:blipFill>
        <p:spPr>
          <a:xfrm>
            <a:off x="0" y="1371600"/>
            <a:ext cx="8763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3:27:03Z</dcterms:created>
  <dc:creator>AHMAD RAWHI</dc:creator>
  <dc:description/>
  <dc:language>en-US</dc:language>
  <cp:lastModifiedBy>Alharbi</cp:lastModifiedBy>
  <cp:lastPrinted>2016-01-20T09:16:04Z</cp:lastPrinted>
  <dcterms:modified xsi:type="dcterms:W3CDTF">2016-01-27T07:31:31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