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29466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108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661F-B3F4-4B72-B174-F834F3ABAD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144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9B1E-7930-42E8-BFC2-EB42F066D35E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144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5895-69C5-4F8F-90AA-D1702DCA365F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9A3-8CFF-4B1C-ABC5-380A28CA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248-F544-4E90-9182-47410D3C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DEA-0104-4989-9794-518224AC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483-6A0B-44AE-BEAA-AFB8754D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314E-0CBC-4224-8D3A-B757EA20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3872-F50D-467C-805D-706EBE80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62F1-181B-4673-A75E-4C0205E4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FEAB-3785-4913-894C-2449F810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7621-870E-4476-890F-99144CC5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F604-385B-415D-8015-D2954401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888F-98C6-4F85-A02B-9BED9206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964-DAA3-4FB6-A6DF-727FA0E3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58D4-8C2D-4118-93D9-B2286A9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0228-795E-46FD-8402-E8F796E5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E68A-9290-4E14-B013-0535E328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D7DA-4E0A-4BDF-831B-6EA36209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A615-BBB6-40F2-BA24-ABC62761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976-76EE-4A16-B96F-C6FD1F0B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E04-3332-4621-979C-6E9756A1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625-4814-4F91-908A-2E2A3FCC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AA5-EE6B-46B9-AA87-B947B53C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9A6-4C4D-4B18-8356-675D1602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C11-6A19-4CB1-AD08-9E1147E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63A-B200-416C-8F89-38F1F78D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F88F-C102-4955-8A52-310E270476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160C-90BA-44F4-9A40-642129F77279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344080" cy="358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ff0000"/>
                </a:solidFill>
                <a:latin typeface="Rockwell"/>
              </a:rPr>
              <a:t>Principles of Drug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bsorp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4" descr="pillscup"/>
          <p:cNvPicPr/>
          <p:nvPr/>
        </p:nvPicPr>
        <p:blipFill>
          <a:blip r:embed="rId1"/>
          <a:srcRect l="9550" t="42381" r="60848" b="34699"/>
          <a:stretch/>
        </p:blipFill>
        <p:spPr>
          <a:xfrm>
            <a:off x="6248520" y="50292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ctr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al Prepara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61880" indent="0">
              <a:spcBef>
                <a:spcPts val="700"/>
              </a:spcBef>
              <a:buNone/>
              <a:tabLst>
                <a:tab algn="l" pos="0"/>
                <a:tab algn="ctr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quids, elixirs, syrup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stest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spension solution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wder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psul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ated 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teric-coated 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lowe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bsorp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Factors That Affect Absor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dministration route of the dru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Food or fluids administered with the dru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Dosage formul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Status of the absorptive surf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Rate of blood flow to the small intest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cidity of the stomac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Status of GI motil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istribu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01400"/>
            <a:ext cx="72691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transport of a drug in the body by the bloodstream to its site of 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tein-bind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ter soluble vs. fat solub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lood-brain barr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reas of rapid distribution: heart, liver, kidneys, bra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reas of slow distribution: muscle, skin, f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rst-Pass Effec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14160"/>
            <a:ext cx="8534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The metabolism of a drug and its passage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from the liver into the circul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A drug given via the oral route may be extensively metabolized by the liver before reaching the systemic circulation (high first-pass effect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The same drug—given IV—bypasses the liver, preventing the first-pass effect from taking place, and more drug reaches the circul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tabolism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(also known as Biotransformatio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0680" y="1723680"/>
            <a:ext cx="7635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The biologic transformation of a drug into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n inactive metabolite, a more soluble compound, or a more potent metabolit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Liver (main organ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Kidney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Lun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Plasm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Intestinal muco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Factors that decrease metabolism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rdiovascular dysfun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nal insufficienc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rv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structive jaund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rythromycin or ketoconazole drug therap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838080"/>
            <a:ext cx="8244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Factors that increase metabolism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arbiturat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ifampin therap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layed drug metabolism results i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ccumulation of dru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longed action of the effects of the dru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xcre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elimination of drugs from the bod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idneys (main organ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iv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w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iliary excre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terohepatic circul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Half-Lif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time it takes for one half of the original amount of a drug in the body to be remove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measure of the rate at which drugs are removed from the bod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Pharmacodynam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359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ns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it takes for the drug to elicit a therapeutic response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a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it takes for a drug to reach its maximum therapeutic response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u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a drug concentration is sufficient to elicit a therapeutic respon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Testing of the new drugs before use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Not teratogenic ( causes birth defec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Carcinogenic ( causes cancer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Toxicity studies not harmful to body syste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It should specific in action and its mechanism of action understood as complitly as possib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Optimal route of administration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harmacodynam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 action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cellular processes involved in the drug and cell intera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rug effect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physiologic reaction of the body to the dru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receptor: are protein  that may occur on the surface of the cel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have two important function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ind the body own chemical messenger such as hormones and neurotransmitter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convert into signals that the cell can recognize and respond t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mportant properti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cificity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ffin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gonists: the ability of drug to bind receptor (drug that produce response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ntagonist: drug that blocks the action of antagonist. ( Naloxone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Partial agonist: is a drug that is able to both stimulate and block  at receptor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inciples of Drug and Dosage Administra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may have more than one indication, i.e. each may have more than one action depending upon dos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pirin given in low doses to relieve pain &amp; high doses to suppress inflammation (arthriti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can be administered by different routes and dosage depends on route give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al doses usually larger than injected doses and may be fatal if given by incorrect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ertain IV drugs can cause local injury if intravenous line becomes extravasat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Guidelines to help ensure correct administration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 medication order careful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identity of patient with drug ord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 medication label &amp; verif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itsel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mount of drug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suitability for administration by intended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dosage calcul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 special handling if drug requi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 NOT ADMINISTER ANY DRUG IF YOU DO NOT UNDERSTAND THE REASON FOR ITS USE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rapeutic Objecti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To provid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aximu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benefit with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inimu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har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**Must also be ready to respond to interaction between drug and patient (i.e., must be aware of drug REACTIONS and SIDE EFFECTS)**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Evaluating and Promoting Therapeutic Effec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s the drug doing the right thing?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Must know rationale for treatment and the nature and time course of desired response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f do not have this then cannot make judgment of progress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f desired response do not occur then must act quickly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Give alternative therap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Even if patient gains beneficial responses, must be aware of what drug is supposed to do, because it still might end up badl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Nifedipine: given for hypertension &amp; angina pectoris: when given to treat hypertension should monitor for reduction in blood pressure; if used for treatment of angina, need to monitor for reduction in chest pain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inimize Adverse Effec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2952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derstand disease and treatment and what drug is supposed to do (again, do not give drug blindly!!!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 high risk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ducate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adverse effects of drug and educate patien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drug interactions with other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s is important part of 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romote Complianc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must be taken correct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do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t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ducate patients to how to self medicate with specific instru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f elderly must also give instructions to another responsible party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lement Non-drug measures to enhance drug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eathing exercises, biofeedback, emotional support, exercise, physical therapy, rest, weight reduction, stop smoking, and sodium restriction (must evaluate individual patient for specific need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atient Educa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name and therapeutic category (penicillin &amp; antibiotic)- give generic name and trade na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sage siz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sing schedule (PRN not fixed)-what to do if missed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oute and technique of administr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xpected therapeutic response and when it should devel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n drug measures to enhance therapeutic respon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uration of treat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thod of drug sto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imal Tri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1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the drug is tested on healthy volunteer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2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involves trials with human subjects who have the disea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3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large number of patients receive drug to provide information about adverse effec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4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post market surveillance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4" descr="bd06982_"/>
          <p:cNvPicPr/>
          <p:nvPr/>
        </p:nvPicPr>
        <p:blipFill>
          <a:blip r:embed="rId1"/>
          <a:stretch/>
        </p:blipFill>
        <p:spPr>
          <a:xfrm>
            <a:off x="6858000" y="52578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an01266_"/>
          <p:cNvPicPr/>
          <p:nvPr/>
        </p:nvPicPr>
        <p:blipFill>
          <a:blip r:embed="rId2"/>
          <a:stretch/>
        </p:blipFill>
        <p:spPr>
          <a:xfrm>
            <a:off x="7523280" y="914400"/>
            <a:ext cx="1620720" cy="1725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bd00001_"/>
          <p:cNvPicPr/>
          <p:nvPr/>
        </p:nvPicPr>
        <p:blipFill>
          <a:blip r:embed="rId3"/>
          <a:stretch/>
        </p:blipFill>
        <p:spPr>
          <a:xfrm>
            <a:off x="7848720" y="3048120"/>
            <a:ext cx="1295280" cy="1522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52360" y="125280"/>
            <a:ext cx="82440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s of new drug developments (FDA)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harmacology and the Nursing Proces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ing Proc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) assess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) nursing diagnos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) planning- individual for each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) implementation- some collaborative wit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ysician and others are independ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) evaluation- degree to which drug therapy 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uccessfu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e-administration Assessment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es the baseline data needed to tailor drug therapy to the individual patient: maximizes benefits and minimizes harmful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ction of baseline data needed to evaluate therapeutic responses- beneficial: know the symptoms so you know what baseline data to coll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lood chemistry profil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lood press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gan enzyme levels (heart, liver, kidney,…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ction of baseline data needed to evaluate adverse effec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en without baseline data, adverse affects may be obvious (hair loss, pain, vomiting, insomni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ess obvious are organ functions (liver, kidney,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ication of high risk patien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pends on symptoms and drug chosen (if patient has kidney dysfunction and drug is eliminated primarily through kidney, then drug will accumulate and may be toxic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aired kidney &amp; liv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sessment of patient’s capacity for self-care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ust be willing and able to administer drugs in correct dosage and at correct t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e patient intelligen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physical capacity to self administ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ntal illness (will they take drug?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inancial ability to pay for and get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us beliefs concerning drugs and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derstanding of patient that drug is needed in prescribed amount (even when they feel better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sess and discuss with physici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ing Diagnoses and Analysis of Drug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udge appropriateness of prescribed reg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 potential health problems that drug might cau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termine patient’s capacity for self ca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can question appropriateness of drug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ust know action of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ntraindications of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ential benefits vs adverse reactions to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ential interactions of drug with other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lann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fine goals: goal of drug therapy is to provide maximum benefit with minimal harm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 Priorities: requires knowledge of drug put together with patient’s unique history. 1st priority is life threatening conditions and reactions that cause acute discomfort that ends in long-term har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ing intervention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administ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enhance drug effectiven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minimize adverse effects and intera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 criteria for evaluation: is drug working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lementation of care pl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administ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ventions to promote therapeutic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ventions to minimize adverse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rapeutic respon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verse drug reactions and intera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mpliance to regim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atisfactions with treat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w frequent do you evaluate?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pends on ….. ??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ion by lab tests- baseline data vs current da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sources for Drug Inform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harmacope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fficial resour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 Pharmacopedia, British Pharmacope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mpen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on Offici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merican Formulary, Facts &amp; Comparisons, USP Dispensing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rsing 200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J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rsing Reference Book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eb sit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6" descr="bd04882_"/>
          <p:cNvPicPr/>
          <p:nvPr/>
        </p:nvPicPr>
        <p:blipFill>
          <a:blip r:embed="rId1"/>
          <a:stretch/>
        </p:blipFill>
        <p:spPr>
          <a:xfrm>
            <a:off x="5070600" y="4343400"/>
            <a:ext cx="4073400" cy="2249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06966_"/>
          <p:cNvPicPr/>
          <p:nvPr/>
        </p:nvPicPr>
        <p:blipFill>
          <a:blip r:embed="rId2"/>
          <a:stretch/>
        </p:blipFill>
        <p:spPr>
          <a:xfrm>
            <a:off x="7238880" y="914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8600" y="168120"/>
            <a:ext cx="8621640" cy="646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8001000" y="5410080"/>
            <a:ext cx="61596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7720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harmacokinet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bsor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stribu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etabolis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cre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6" descr="kinitics"/>
          <p:cNvPicPr/>
          <p:nvPr/>
        </p:nvPicPr>
        <p:blipFill>
          <a:blip r:embed="rId1"/>
          <a:stretch/>
        </p:blipFill>
        <p:spPr>
          <a:xfrm>
            <a:off x="3886200" y="16002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bsorption: means the transfer of the drug from the external to the internal environment of the bod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rcRect l="500" t="1394" r="500" b="6422"/>
          <a:stretch/>
        </p:blipFill>
        <p:spPr>
          <a:xfrm>
            <a:off x="0" y="137160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27:03Z</dcterms:created>
  <dc:creator>AHMAD RAWHI</dc:creator>
  <dc:description/>
  <dc:language>en-US</dc:language>
  <cp:lastModifiedBy>Alharbi</cp:lastModifiedBy>
  <cp:lastPrinted>2016-01-20T09:16:04Z</cp:lastPrinted>
  <dcterms:modified xsi:type="dcterms:W3CDTF">2016-01-27T07:31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